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A615-2261-4D8B-B735-190ED9ABF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D2C8-F7DC-479C-92DB-D6638A618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A3DE-8EC7-4897-9484-EB7569D91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9054-F33A-436D-A472-933ED4EE8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057B-77F0-45EC-9D70-2475E08441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FB4B8-C635-4DD1-9630-EB9A1EC8EA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74A19-E461-42AB-871A-F81B1B998F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F74F4-9302-4E4F-8E0D-CA3EFCA47D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36694-A0F8-45EA-B96B-F40FC483CD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32006-B67C-4431-9B1B-B90587D1C7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C02AE-93B4-43B6-93BB-2FE56249A8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42AB-2BC0-47F4-8609-83B0272B4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1F518-0FF1-4376-8A91-8BAB171766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F2E8-83AA-4B6D-AA83-570AE72C67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6718-FDA1-4F5F-9BD5-8D4A571E29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C6DB-D923-4F6E-A568-65CE39E2AD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4432-3010-457F-B695-8B00773D82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72FB-4071-4AC3-84DA-BE8117CB1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9F25-0EC4-4776-864C-FEB7FE836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5C3C-CEC8-4067-9A70-96A56E471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9AB2-5C0B-44EB-B4D4-1090EDCD0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C188-847B-42AE-9F38-88A44EB52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DD88-C125-447D-AF34-EAD508D26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909C-4C82-4EC2-B13B-F6FF291F2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24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B4133-8155-48FD-9D7A-278E7EF139F6}" type="slidenum">
              <a:rPr b="0" lang="ru-RU" sz="18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28160" cy="6837480"/>
            <a:chOff x="0" y="0"/>
            <a:chExt cx="9128160" cy="68374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80280" cy="3297240"/>
              <a:chOff x="2743200" y="3540240"/>
              <a:chExt cx="6380280" cy="32972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62640" cy="2640240"/>
              </a:xfrm>
              <a:custGeom>
                <a:avLst/>
                <a:gdLst>
                  <a:gd name="textAreaLeft" fmla="*/ 0 w 4562640"/>
                  <a:gd name="textAreaRight" fmla="*/ 4563000 w 4562640"/>
                  <a:gd name="textAreaTop" fmla="*/ 0 h 2640240"/>
                  <a:gd name="textAreaBottom" fmla="*/ 2640600 h 26402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85760" cy="1274760"/>
              </a:xfrm>
              <a:custGeom>
                <a:avLst/>
                <a:gdLst>
                  <a:gd name="textAreaLeft" fmla="*/ 0 w 1985760"/>
                  <a:gd name="textAreaRight" fmla="*/ 1986120 w 1985760"/>
                  <a:gd name="textAreaTop" fmla="*/ 0 h 1274760"/>
                  <a:gd name="textAreaBottom" fmla="*/ 1274760 h 127476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10080" cy="1525680"/>
              </a:xfrm>
              <a:custGeom>
                <a:avLst/>
                <a:gdLst>
                  <a:gd name="textAreaLeft" fmla="*/ 0 w 4510080"/>
                  <a:gd name="textAreaRight" fmla="*/ 4510440 w 4510080"/>
                  <a:gd name="textAreaTop" fmla="*/ 0 h 1525680"/>
                  <a:gd name="textAreaBottom" fmla="*/ 1526040 h 15256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61000" cy="3297240"/>
              </a:xfrm>
              <a:custGeom>
                <a:avLst/>
                <a:gdLst>
                  <a:gd name="textAreaLeft" fmla="*/ 0 w 4761000"/>
                  <a:gd name="textAreaRight" fmla="*/ 4761360 w 4761000"/>
                  <a:gd name="textAreaTop" fmla="*/ 0 h 3297240"/>
                  <a:gd name="textAreaBottom" fmla="*/ 3297600 h 32972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68480" cy="843120"/>
              </a:xfrm>
              <a:custGeom>
                <a:avLst/>
                <a:gdLst>
                  <a:gd name="textAreaLeft" fmla="*/ 0 w 1968480"/>
                  <a:gd name="textAreaRight" fmla="*/ 1968840 w 196848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84680" cy="2427480"/>
            </a:xfrm>
            <a:custGeom>
              <a:avLst/>
              <a:gdLst>
                <a:gd name="textAreaLeft" fmla="*/ 0 w 2884680"/>
                <a:gd name="textAreaRight" fmla="*/ 2885040 w 2884680"/>
                <a:gd name="textAreaTop" fmla="*/ 0 h 2427480"/>
                <a:gd name="textAreaBottom" fmla="*/ 2427840 h 24274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28160" cy="2806560"/>
            </a:xfrm>
            <a:custGeom>
              <a:avLst/>
              <a:gdLst>
                <a:gd name="textAreaLeft" fmla="*/ 0 w 9128160"/>
                <a:gd name="textAreaRight" fmla="*/ 9128160 w 9128160"/>
                <a:gd name="textAreaTop" fmla="*/ 0 h 2806560"/>
                <a:gd name="textAreaBottom" fmla="*/ 2806920 h 280656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28160" cy="6837480"/>
            <a:chOff x="0" y="0"/>
            <a:chExt cx="9128160" cy="68374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80280" cy="3297240"/>
              <a:chOff x="2743200" y="3540240"/>
              <a:chExt cx="6380280" cy="32972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62640" cy="2640240"/>
              </a:xfrm>
              <a:custGeom>
                <a:avLst/>
                <a:gdLst>
                  <a:gd name="textAreaLeft" fmla="*/ 0 w 4562640"/>
                  <a:gd name="textAreaRight" fmla="*/ 4563000 w 4562640"/>
                  <a:gd name="textAreaTop" fmla="*/ 0 h 2640240"/>
                  <a:gd name="textAreaBottom" fmla="*/ 2640600 h 26402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85760" cy="1274760"/>
              </a:xfrm>
              <a:custGeom>
                <a:avLst/>
                <a:gdLst>
                  <a:gd name="textAreaLeft" fmla="*/ 0 w 1985760"/>
                  <a:gd name="textAreaRight" fmla="*/ 1986120 w 1985760"/>
                  <a:gd name="textAreaTop" fmla="*/ 0 h 1274760"/>
                  <a:gd name="textAreaBottom" fmla="*/ 1274760 h 127476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10080" cy="1525680"/>
              </a:xfrm>
              <a:custGeom>
                <a:avLst/>
                <a:gdLst>
                  <a:gd name="textAreaLeft" fmla="*/ 0 w 4510080"/>
                  <a:gd name="textAreaRight" fmla="*/ 4510440 w 4510080"/>
                  <a:gd name="textAreaTop" fmla="*/ 0 h 1525680"/>
                  <a:gd name="textAreaBottom" fmla="*/ 1526040 h 15256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61000" cy="3297240"/>
              </a:xfrm>
              <a:custGeom>
                <a:avLst/>
                <a:gdLst>
                  <a:gd name="textAreaLeft" fmla="*/ 0 w 4761000"/>
                  <a:gd name="textAreaRight" fmla="*/ 4761360 w 4761000"/>
                  <a:gd name="textAreaTop" fmla="*/ 0 h 3297240"/>
                  <a:gd name="textAreaBottom" fmla="*/ 3297600 h 32972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68480" cy="843120"/>
              </a:xfrm>
              <a:custGeom>
                <a:avLst/>
                <a:gdLst>
                  <a:gd name="textAreaLeft" fmla="*/ 0 w 1968480"/>
                  <a:gd name="textAreaRight" fmla="*/ 1968840 w 196848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84680" cy="2427480"/>
            </a:xfrm>
            <a:custGeom>
              <a:avLst/>
              <a:gdLst>
                <a:gd name="textAreaLeft" fmla="*/ 0 w 2884680"/>
                <a:gd name="textAreaRight" fmla="*/ 2885040 w 2884680"/>
                <a:gd name="textAreaTop" fmla="*/ 0 h 2427480"/>
                <a:gd name="textAreaBottom" fmla="*/ 2427840 h 24274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28160" cy="2806560"/>
            </a:xfrm>
            <a:custGeom>
              <a:avLst/>
              <a:gdLst>
                <a:gd name="textAreaLeft" fmla="*/ 0 w 9128160"/>
                <a:gd name="textAreaRight" fmla="*/ 9128160 w 9128160"/>
                <a:gd name="textAreaTop" fmla="*/ 0 h 2806560"/>
                <a:gd name="textAreaBottom" fmla="*/ 2806920 h 280656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9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6553080" y="6253200"/>
            <a:ext cx="21211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1078D1A-C5BE-4BB2-BE57-25C5D1376F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81080" y="539640"/>
            <a:ext cx="749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Impact"/>
              </a:rPr>
              <a:t>Муниципальное автономное общеобразовательное  учреждение  </a:t>
            </a:r>
            <a:br>
              <a:rPr sz="2800"/>
            </a:br>
            <a:r>
              <a:rPr b="0" lang="ru-RU" sz="2800" spc="-1" strike="noStrike">
                <a:solidFill>
                  <a:srgbClr val="e5e5ff"/>
                </a:solidFill>
                <a:latin typeface="Impact"/>
              </a:rPr>
              <a:t>средняя  общеобразовательная  школа № </a:t>
            </a:r>
            <a:r>
              <a:rPr b="0" lang="en-US" sz="2800" spc="-1" strike="noStrike">
                <a:solidFill>
                  <a:srgbClr val="e5e5ff"/>
                </a:solidFill>
                <a:latin typeface="Impact"/>
              </a:rPr>
              <a:t>5 </a:t>
            </a:r>
            <a:r>
              <a:rPr b="0" lang="ru-RU" sz="2800" spc="-1" strike="noStrike">
                <a:solidFill>
                  <a:srgbClr val="e5e5ff"/>
                </a:solidFill>
                <a:latin typeface="Impact"/>
              </a:rPr>
              <a:t>города Курганинска Краснодарского кра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0040" y="2071800"/>
            <a:ext cx="3565440" cy="3456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5400" y="46944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ентацию подготовила  учитель  русского  языка  и  литератур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дина Надежда Иванов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571680" y="6040440"/>
            <a:ext cx="77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ru-RU" sz="4800" spc="-1" strike="noStrike">
                <a:solidFill>
                  <a:srgbClr val="e5e5ff"/>
                </a:solidFill>
                <a:latin typeface="Century"/>
              </a:rPr>
              <a:t>К***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728720"/>
            <a:ext cx="3743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 Unicode MS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Я помню чудное мгновенье: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Передо мной явилась ты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Как мимолетное виденье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Как гений чистой красоты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В томленьях грусти безнадежной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В тревогах шумной суеты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Звучал мне долго голос нежный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снились милые черты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Шли годы. Бурь порыв мятежный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Рассеял прежние мечты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я забыл твой голос нежный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Твои небесные черты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00360" y="1728720"/>
            <a:ext cx="336708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Arial Unicode MS"/>
              </a:rPr>
              <a:t>  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Arial Unicode MS"/>
              </a:rPr>
              <a:t>В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 глуши, во мраке заточенья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Тянулись тихо дни мои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Без божества, без вдохновенья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Без слез, без жизни, без любви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Душе настало пробужденье: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вот опять явилась ты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Как мимолетное виденье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Как гений чистой красоты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сердце бьется в упоенье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для него воскресли вновь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божество, и вдохновенье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жизнь, и слезы, и любовь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Как мимолетное виденье,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к гений чистой красоты...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А.С.Пушкин познакомился с Анной Петровной Керн в 1819 году на одном из вечеров в доме Олениных. Они подружились, с удовольствием общались. Керн была большой поклонницей стихов поэта, и он часто читал ей созданные произведения. В 1925 году Пушкин подарил ей экземпляр второй главы «Евгения Онегина», в него был вложен листок со стихами «Я помню чудное мгновенье...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Анна Керн дожила до глубокой старости, сохранила письма Пушкина и оставила правдивые воспоминания о не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84920" y="160020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Я вас любил...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aramond"/>
              </a:rPr>
              <a:t>Я вас любил: любовь ещё быть может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aramond"/>
              </a:rPr>
              <a:t>В душе моей угасла не совсем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aramond"/>
              </a:rPr>
              <a:t>Но пусть она вас больше не тревожит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aramond"/>
              </a:rPr>
              <a:t>Я не хочу печалить вас ничем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aramond"/>
              </a:rPr>
              <a:t>Я вас любил безмолвно, безнадежно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aramond"/>
              </a:rPr>
              <a:t>То робостью, то ревностью томим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aramond"/>
              </a:rPr>
              <a:t>Я вас любил так искренно, так нежно,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aramond"/>
              </a:rPr>
              <a:t>Как дай вам Бог любимой быть другим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Я не хочу печалить вас ничем...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15920" y="1600200"/>
            <a:ext cx="2895840" cy="4524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73520" y="1562040"/>
            <a:ext cx="40147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По мнению известных литературоведов, стихотворение А.С. Пушкина "Я вас любил…" посвящено Анне Олениной. А то светлое чувство, выраженное этими стихами, навсегда останется воплощением истинного благородства и человеческого достоинства, сумевшего стать выше вполне понятного и законного эгоизма любви"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На это замечательное стихотворение написано более двадцати романс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просы для анали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1) В чем своеобразие чувства, выраженного в стихотворениях  «Я помню чудное мгновенье...», «Я вас любил...»?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2) Какое значение имеет вводный оборот </a:t>
            </a:r>
            <a:r>
              <a:rPr b="1" i="1" lang="ru-RU" sz="2200" spc="-1" strike="noStrike">
                <a:solidFill>
                  <a:srgbClr val="ffffff"/>
                </a:solidFill>
                <a:latin typeface="Garamond"/>
              </a:rPr>
              <a:t>быть может,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 вынесенный в конец строки в стихотворении «Я вас любил...»?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3) Сравните стихотворения «На холмах Грузии...» и «Я вас любил...». Что их сближает по содержанию и форме?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4) На слова стихотворения «Я вас любил...» написано более двадцати романсов. Среди их авторов такие композиторы, как А.А.Алябьев, А.Е.Варламов, А.С.Даргомыжский, Ц.А.Кюи. Как вы думаете, почему к этому поэтическому произведению часто обращались композиторы?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4880" y="1600200"/>
            <a:ext cx="3521160" cy="4524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И сердце вновь горит и любит ...»</a:t>
            </a:r>
            <a:br>
              <a:rPr sz="32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73520" y="1599840"/>
            <a:ext cx="401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Есть всегда что-то особенно благородное, кроткое, нежное, благоуханное и грациозное во всяком чувстве Пушкина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В.Г. Белинск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 u="sng">
                <a:solidFill>
                  <a:srgbClr val="e5e5ff"/>
                </a:solidFill>
                <a:uFillTx/>
                <a:latin typeface="Garamond"/>
              </a:rPr>
              <a:t>Стихи о поэзии</a:t>
            </a: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012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роро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«Я памятник себе воздвиг нерукотворный..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Я памятник себе воздвиг...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3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Я памятник себе воздвиг нерукотворный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К нему не зарастет народная тропа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Вознесся выше он главою непокорной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Александрийского столпа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Нет, весь я не умру — душа в заветной лире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Мой прах переживет и тленья убежит-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И славен буду я, доколь в подлунном мире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Жив будет хоть один пиит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Слух обо мне пройдет по всей земле великой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И назовет меня всяк сущий в ней язык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И гордый внук славян, и финн, и ныне дикой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Тунгус, и друг степей калмык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40132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долго буду тем любезен я народу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  <a:ea typeface="Arial Unicode MS"/>
              </a:rPr>
              <a:t>Что чувства добрые я лирой пробуждал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  <a:ea typeface="Arial Unicode MS"/>
              </a:rPr>
              <a:t>Что в мой жестокий век восславил я Свободу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милость  к падшим призывал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  <a:ea typeface="Arial Unicode MS"/>
              </a:rPr>
              <a:t>Веленью Божию, о муза, будь послушна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  <a:ea typeface="Arial Unicode MS"/>
              </a:rPr>
              <a:t>Обиды не страшась, не требуя венца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  <a:ea typeface="Arial Unicode MS"/>
              </a:rPr>
              <a:t>Хвалу и клевету приемли равнодушно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не оспаривай глупца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Нет, весь я не умру...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32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Стихотворение «Я памятник себе воздвиг...» было написано 21 августа 1836 года, т. е. Незадолго до смерти А.С.Пушкина. В нем он подводит итог своей поэтической деятельности, опираясь на традиции не только русской, но и мировой литературы. Непосредственным образцом, от которого отталкивается Пушкин, стало стихотворение Державина «Памятник», получившее большую известность. При этом Пушкин не только сопоставляет себя и свою поэзию с великим предшественником, но выделяет характерные именно для своего творчества особенност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72120" y="1600200"/>
            <a:ext cx="317988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просы для анали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) Сопоставьте стихотворения «Я памятник себе воздвиг нерукотворный...» Пушкина и «Памятник» Держави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) Что Пушкин цитирует из Державина, а какие строки изменяет полностью;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) Каким новым смыслом наполняется каждая пушкинская строф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4) Какие мысли и образы объединяют стихотворения Пушкина «Пророк» и «Я памятник себе воздвиг нерукотворный...»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22360" y="2376360"/>
            <a:ext cx="811188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Garamond"/>
              </a:rPr>
              <a:t>«...Это имя, знакомое с детства, вместе с грамотой впаяно в речь»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Garamond"/>
              </a:rPr>
              <a:t>П. Антокольски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62360" y="720720"/>
            <a:ext cx="4050000" cy="5748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31640" y="1008000"/>
            <a:ext cx="423072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«Прощай, свободная стихия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последний раз передо м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Ты катишь волны голубы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И блещешь гордою красой.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44400" y="863640"/>
            <a:ext cx="3640320" cy="5040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35640" y="938160"/>
            <a:ext cx="4314600" cy="51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«Восстань, пророк, и виждь, и внемли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Исполнись волею моей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И, обходя моря и земли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Глаголом жги сердца людей!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14400" y="404640"/>
            <a:ext cx="822960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0480">
              <a:spcBef>
                <a:spcPts val="1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Александр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0480">
              <a:spcBef>
                <a:spcPts val="1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Сергеевич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0480">
              <a:spcBef>
                <a:spcPts val="1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Пушкин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048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0480"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(1799-1837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0480"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389592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1144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 u="sng">
                <a:solidFill>
                  <a:srgbClr val="e5e5ff"/>
                </a:solidFill>
                <a:uFillTx/>
                <a:latin typeface="Garamond"/>
              </a:rPr>
              <a:t>Лирика А. С. Пушкина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87280" y="792000"/>
            <a:ext cx="864072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entury"/>
              </a:rPr>
              <a:t>«Общий колорит поэзии Пушкина, и в особенности лирической, - внутренняя красота человека и лелеющая душу гуманность. К этому прибавим мы, что если всякое человеческое чувство прекрасно по тому самому, что оно человеческое..., то у Пушкина всякое чувство еще прекрасно, как чувство изящное... Есть всегда что-то особенно благородное, кроткое, нежное, благоуханное и грациозное во всяком чувстве Пушкина. В этом отношении, читая его творения, можно превосходным образом воспитать в себе человека, и такое чтение особенно полезно для молодых людей... Ни один из русских поэтов не может быть столько, как Пушкин, воспитателем юношества, образователем юного чувства»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entury"/>
              </a:rPr>
              <a:t>В.Г.Белинский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e5e5ff"/>
                </a:solidFill>
                <a:uFillTx/>
                <a:latin typeface="Garamond"/>
              </a:rPr>
              <a:t>Поэзия свободы и дружб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К Чаадаеву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 мор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19 октябр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Во глубине сибирских руд...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Анчар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12852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 Чаадаеву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4673520" y="1600200"/>
            <a:ext cx="40147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 Unicode MS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 Unicode MS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Пока свободою горим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Пока сердца для чести живы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Мой друг, отчизне посвятим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Души прекрасные порывы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Товарищ, верь: взойдет она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Звезда пленительного счасть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Россия вспрянет ото сна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И на обломках самовласть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Напишут наши имена</a:t>
            </a:r>
            <a:r>
              <a:rPr b="0" lang="ru-RU" sz="1100" spc="-1" strike="noStrike">
                <a:solidFill>
                  <a:srgbClr val="ffffff"/>
                </a:solidFill>
                <a:latin typeface="Century"/>
                <a:ea typeface="Arial Unicode MS"/>
              </a:rPr>
              <a:t>!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2200320"/>
            <a:ext cx="34657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Любви, надежды, тихой славы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Недолго нежил нас обман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Исчезли юные забавы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Как сон, как утренний туман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Но в нас горит еще желанье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Под гнетом власти роковой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Нетерпеливою душой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Отчизны внемлем призыванье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Мы ждем с томленьемупованья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Минуты вольности святой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Как ждет любовник молодой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Минуты верного свиданья</a:t>
            </a:r>
            <a:r>
              <a:rPr b="0" lang="ru-RU" sz="1500" spc="-1" strike="noStrike">
                <a:solidFill>
                  <a:srgbClr val="ffffff"/>
                </a:solidFill>
                <a:latin typeface="Century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6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Мой друг, Отчизне посвятим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уши прекрасные порывы!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71280"/>
            <a:ext cx="4016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entury"/>
              </a:rPr>
              <a:t>Петр Яковлевич Чаадаев, с которым Пушкин познакомился ещё лицеистом в доме Карамзина, был одним из замечательнейших людей своего времени. Получивший блестящее домашнее образование, Чаадаев шестнадцати лет вступил в гвардейский Семеновский полк... Чаадаев учил Пушкина готовиться к великому будущему и уважать в себе человека, имя которого принадлежит потомству. Поучения друга  не унижали, а возвышали Пушкина в собственных глазах...»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0120" indent="-330120" algn="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entury"/>
              </a:rPr>
              <a:t>Ю.М.Лотман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40280" y="1600200"/>
            <a:ext cx="34815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просы для анали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) Как вы понимаете первые четыре строки стихотворения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) Раскройте смысл эпитетов: «власти роковой», «нетерпеливою душой», «вольности святой», «пленительного счастья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) Как меняется интонация стихотворения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4) Какие непреходящие нравственные ценности утверждаются в послании «К Чаадаеву»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e5e5ff"/>
                </a:solidFill>
                <a:uFillTx/>
                <a:latin typeface="Garamond"/>
              </a:rPr>
              <a:t>Лирика любовного чувс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0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«Я помню чудное мгновенье...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0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«На холмах Грузии лежит ночная мгла...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0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«Я вас любил...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0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Мадон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4:11:32Z</dcterms:created>
  <dc:creator>дети</dc:creator>
  <dc:description/>
  <dc:language>en-US</dc:language>
  <cp:lastModifiedBy>Олег</cp:lastModifiedBy>
  <dcterms:modified xsi:type="dcterms:W3CDTF">2011-09-16T18:40:24Z</dcterms:modified>
  <cp:revision>9</cp:revision>
  <dc:subject/>
  <dc:title>Детство </dc:title>
</cp:coreProperties>
</file>