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468-D764-4C78-860E-F37B67DF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BF8-A31A-4F83-B249-50A73266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813-46FC-41B1-B84A-7979F149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81F-557D-4D15-A872-DFB95FBB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3CD-9FF7-4BC6-907A-0288F598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BF4-6C8D-4565-AE54-E6E1714C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ABA-E4FD-40A0-89EB-80A857DB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8D5-46F0-47F1-90C8-5E3D6F4C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611-53CD-434A-8D5F-DC7B6A08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852-1A3B-4808-BFD3-0AC20F21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F21-0DF5-4980-BC50-818B2708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286-E462-4989-8C80-3C233603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2f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3F39-11FD-4A93-BCEC-F1ED848AB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Zambezi_River_near_Zambezi_Town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4221000"/>
            <a:ext cx="6732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утренние воды Африки. 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и и озера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5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Река Замбези в Северной Западной Замб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333360"/>
          <a:ext cx="9144000" cy="61848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такое озер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озера бывают по вкусу, и от каких факторов зависит вкус озёр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6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е происхождение тектонических озёр в прогибах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ь происхождение и внешний вид озёр в прогибах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яснить происхождение и внешний вид тектонических озер в разломах (то же для вулканических и метеоритных озёр)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отличаются сточные и бессточные озёр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507960"/>
          <a:ext cx="9144000" cy="5988240"/>
        </p:xfrm>
        <a:graphic>
          <a:graphicData uri="http://schemas.openxmlformats.org/drawingml/2006/table">
            <a:tbl>
              <a:tblPr/>
              <a:tblGrid>
                <a:gridCol w="3048120"/>
                <a:gridCol w="2963880"/>
                <a:gridCol w="3132000"/>
              </a:tblGrid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ждение озё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внешнего ви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озёр Афр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тонические озёра в прогиба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ктория, Ч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тонические озёра в разлома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ьяса, Танганьика, Киву, Рудольф, Иди – Амин – Дада, Мобуту – Сесе – Секо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0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улканические оз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итные оз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476280"/>
          <a:ext cx="9144000" cy="5819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440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рабо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писание озера по плану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. Виктор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риант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. Чад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2939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оритм опис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ческое полож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схождение котлов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ое или бессточное озер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 Источник питания озер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Waterfall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6084720" y="6237360"/>
            <a:ext cx="27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ПАД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5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7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5734080" y="5305320"/>
            <a:ext cx="3409920" cy="15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250920" y="1125360"/>
            <a:ext cx="19447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268360" y="1557360"/>
            <a:ext cx="1727280" cy="368280"/>
          </a:xfrm>
          <a:prstGeom prst="rect">
            <a:avLst/>
          </a:prstGeom>
          <a:solidFill>
            <a:srgbClr val="00cc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140360" y="1557360"/>
            <a:ext cx="1657080" cy="368280"/>
          </a:xfrm>
          <a:prstGeom prst="rect">
            <a:avLst/>
          </a:prstGeom>
          <a:solidFill>
            <a:srgbClr val="6699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940360" y="1557360"/>
            <a:ext cx="1440000" cy="368280"/>
          </a:xfrm>
          <a:prstGeom prst="rect">
            <a:avLst/>
          </a:prstGeom>
          <a:solidFill>
            <a:srgbClr val="9999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524720" y="1557360"/>
            <a:ext cx="1368360" cy="368280"/>
          </a:xfrm>
          <a:prstGeom prst="rect">
            <a:avLst/>
          </a:prstGeom>
          <a:solidFill>
            <a:srgbClr val="cce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059280" y="76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4788000" y="76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6443640" y="76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 flipH="1">
            <a:off x="2195640" y="76500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0"/>
          <p:cNvSpPr/>
          <p:nvPr/>
        </p:nvSpPr>
        <p:spPr>
          <a:xfrm>
            <a:off x="7164360" y="76500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179280" y="189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В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250920" y="234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ХЕМА В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2484360" y="333360"/>
            <a:ext cx="4680000" cy="368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И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2411280" y="2997360"/>
            <a:ext cx="4680000" cy="368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Ы ОКЕ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1547640" y="4005360"/>
            <a:ext cx="1727280" cy="642600"/>
          </a:xfrm>
          <a:prstGeom prst="rect">
            <a:avLst/>
          </a:prstGeom>
          <a:solidFill>
            <a:srgbClr val="00cc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3419640" y="4005360"/>
            <a:ext cx="2447640" cy="6426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6012000" y="4005360"/>
            <a:ext cx="2592360" cy="642600"/>
          </a:xfrm>
          <a:prstGeom prst="rect">
            <a:avLst/>
          </a:prstGeom>
          <a:solidFill>
            <a:srgbClr val="00cc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СТОЧНЫЙ БАСС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277164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4572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665964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1547640" y="4869000"/>
            <a:ext cx="1727280" cy="1202760"/>
          </a:xfrm>
          <a:prstGeom prst="rect">
            <a:avLst/>
          </a:prstGeom>
          <a:solidFill>
            <a:srgbClr val="00cc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5"/>
          <p:cNvSpPr/>
          <p:nvPr/>
        </p:nvSpPr>
        <p:spPr>
          <a:xfrm>
            <a:off x="3924360" y="4869000"/>
            <a:ext cx="1727280" cy="1202760"/>
          </a:xfrm>
          <a:prstGeom prst="rect">
            <a:avLst/>
          </a:prstGeom>
          <a:solidFill>
            <a:srgbClr val="00cc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6588000" y="4941720"/>
            <a:ext cx="1727280" cy="1202760"/>
          </a:xfrm>
          <a:prstGeom prst="rect">
            <a:avLst/>
          </a:prstGeom>
          <a:solidFill>
            <a:srgbClr val="00cc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ияние внешних факторов на ре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836640"/>
          <a:ext cx="9144000" cy="5349960"/>
        </p:xfrm>
        <a:graphic>
          <a:graphicData uri="http://schemas.openxmlformats.org/drawingml/2006/table">
            <a:tbl>
              <a:tblPr/>
              <a:tblGrid>
                <a:gridCol w="2268360"/>
                <a:gridCol w="3827520"/>
                <a:gridCol w="304812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е факт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ействие внешних факт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ЬЕ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теч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оги и водопа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ре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 часть рек порожиста, много водопадов. Преобладают реки, впадающие в Атлантический оке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24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водность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ан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остав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водны реки, текущие в ЭКП. Преобладает дождевое питание. В ЭКП реки полноводны круглый год,  в СУБЭКП половодье наступает в летние месяцы, в СУБЭКП реки разливаются зимой. Ледостава н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00000" y="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истика рек Аф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907920"/>
          <a:ext cx="9144000" cy="4973760"/>
        </p:xfrm>
        <a:graphic>
          <a:graphicData uri="http://schemas.openxmlformats.org/drawingml/2006/table">
            <a:tbl>
              <a:tblPr/>
              <a:tblGrid>
                <a:gridCol w="1332000"/>
                <a:gridCol w="1655640"/>
                <a:gridCol w="1584360"/>
                <a:gridCol w="1728720"/>
                <a:gridCol w="1224000"/>
                <a:gridCol w="1619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ре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е 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т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о – восток Заи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лантический 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запа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водна кругл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ис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иземное мор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ев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е и подзем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зитная река, режим меняется в зависимости от климатического поя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бе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ю.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в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замбик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ли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нее половод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ван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убанго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 исток, река образуется от слияния Квито и Кубан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адина Калаха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юго – вост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е и подзем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нее половод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поп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 Вел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йский 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ев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нее половод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drawingml/2006/table">
            <a:tbl>
              <a:tblPr/>
              <a:tblGrid>
                <a:gridCol w="6095880"/>
                <a:gridCol w="30481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 (современное египетское название Эль-Бахр), река в Африке, (в Руанде, Танзании, Уганде, Судане, Египте), самая длинная в мире (6671 км), площадь бассейна 2870 тыс. км2. Исток — р. Рукарара в Руанде, в системе р. Кагера. Впадает в Средиземное м., образуя дельту (площадью 24 тыс. км2). Главные притоки: Собат, Голубой Нил, Атбара, Бахр-эль-Газаль. Средний расход воды у Асуана 2,6 т. м3/с. Сток и расходы резко колеблются по сезонам; воды широко используются для орошения. ГЭС (в т. ч. Асуанская). Общая длина судоходных путей 3,2 тыс. км. В дельте и долине Нила сосредоточено почти все население и хозяйство Египта. На Ниле — крупные гг. Каир, Хартум, Асуан, г. Александр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3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549360"/>
            <a:ext cx="582948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37" descr="e_504i"/>
          <p:cNvPicPr/>
          <p:nvPr/>
        </p:nvPicPr>
        <p:blipFill>
          <a:blip r:embed="rId2"/>
          <a:stretch/>
        </p:blipFill>
        <p:spPr>
          <a:xfrm>
            <a:off x="179280" y="4724280"/>
            <a:ext cx="177192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43" descr="e_504i"/>
          <p:cNvPicPr/>
          <p:nvPr/>
        </p:nvPicPr>
        <p:blipFill>
          <a:blip r:embed="rId3"/>
          <a:stretch/>
        </p:blipFill>
        <p:spPr>
          <a:xfrm>
            <a:off x="2050920" y="4724280"/>
            <a:ext cx="177192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5940360"/>
                <a:gridCol w="320364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9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ГО (Заир), река в Центр. Африке, в основном в Демократической Республике Конго. 4320 км (от истока р. Луалаба). По площади бассейна (3,7 млн. км2) и водоносности (средний расход воды 46 т. м3/с) занимает 1-е место в Африке и 2-е в мире после Амазонки. Впадает в Атлантический океана. Пороги, водопады (Бойома, Ливингстона). Главные притоки: справа — Арувими, Убанги, Санга; слева — Ломами, Лулонга, Руки, Касаи. Судоходна на большей части течения, за исключением порожистых участков, в обход которых построены железные дороги. Общая длина судоходных путей в бассейне Конго ок. 20 тыс. км. Крупные речные порты — Киншаса и Браззавиль; в эстуарии Конго — морские порты Матади, Бома, Банана. ГЭ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pic>
        <p:nvPicPr>
          <p:cNvPr id="75" name="Picture 3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620640"/>
            <a:ext cx="56880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6659640"/>
                <a:gridCol w="2484360"/>
              </a:tblGrid>
              <a:tr h="61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БЕЗ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БЕЗИ, река в Юж. Африке. 2660 км, площадь бассейна 1330 тыс. км2. Впадает в Индийский ок. Много порогов и водопадов (Виктория и др.). Средний расход воды у устья 16 тыс. м3/с. Главные притоки слева — Кафуэ, Луангва, Шире. Судоходна на отдельных участках; в среднем течении водохранилище и ГЭС Кариб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6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692280"/>
            <a:ext cx="4608720" cy="396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4" descr="e_504i"/>
          <p:cNvPicPr/>
          <p:nvPr/>
        </p:nvPicPr>
        <p:blipFill>
          <a:blip r:embed="rId2"/>
          <a:stretch/>
        </p:blipFill>
        <p:spPr>
          <a:xfrm>
            <a:off x="4859280" y="692280"/>
            <a:ext cx="177156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5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1:41:36Z</dcterms:created>
  <dc:creator>Админ</dc:creator>
  <dc:description/>
  <dc:language>en-US</dc:language>
  <cp:lastModifiedBy>Ольга</cp:lastModifiedBy>
  <dcterms:modified xsi:type="dcterms:W3CDTF">2013-03-31T15:08:06Z</dcterms:modified>
  <cp:revision>12</cp:revision>
  <dc:subject/>
  <dc:title>Слайд 1</dc:title>
</cp:coreProperties>
</file>