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13A-5C5C-4302-A65E-B720ADB2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EEC-2A58-46F9-A6AF-E6A10735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70B-47CC-4781-8915-4D00F312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2D5-F85F-4BFF-9045-51E43D34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BE76-B6BF-4D40-BA29-513A3E7D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2529-5FCB-4E0F-9BB6-BEF42D98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6367-F5D0-4552-B641-F7B4E63C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586A-C860-4841-A46C-9B7E11D8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36F3-303C-4FCD-A927-17875B30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7599-EFA2-41D2-A041-0BD7D450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D6C7-C9AF-4BED-8BBF-D768ECDE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9E2-1969-4182-8E68-32C1E9C3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D8B3-61E9-4B5F-8032-C183EF41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F37B-8F56-4333-AAD7-4E8BA89F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9E1E-E590-4EE9-A538-A1A341B6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EC05-5E2F-40F3-A74F-5656B904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1F97-74A6-4D15-8FF3-0A9D35B9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C3F-9591-4568-829C-AD46822B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460-930D-49F4-850D-2B3FFD0A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6A7-611C-488E-8030-523D4DB1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28C-3DDD-4F08-9725-F5CE2EFB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EB4-57AA-4969-B066-007C804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55B-8A21-4A40-8DB9-339F4007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EC1-C73D-45D2-BCB8-050F89CA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ECE5-15FD-49B5-A500-876C741A7265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2641-275E-4070-9CDB-ED343CE66EB5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АМАР САЙН, Х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НДЭТЭ Н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ХЭД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а б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эдэниие буряад хэлэнэй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эр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ө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 амаршалнабди, ута 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, удаан жаргал 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энэбд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259092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эсэрэй 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ые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эрдэжэ ерэ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н лэ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эрэлтэ 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шэдые дамжажа ерэ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н лэ буряад хэлэмнай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5146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гаадай мэргэнэй самсаал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лмэдэл, Ногоодой сэсэнэй номин бэлигтэл буряад хэлэмнай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эн зонойнгоо 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э сахинхайл, 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э хуримайнь 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эг болонхойл буряад хэлэмн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20574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аатарлиг ажалайнь магтаал дууданхайл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ата жаргалайнь баримта болонхойл буряад хэлэмнай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7521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онгёо дуунай жэг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 эдлэнхэйл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орбоо т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еэр 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өө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зэдэлэнхэйл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19807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оног б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идэ улам х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жэнхэй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олын холые зорин гаранхайл 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БУРЯАД ХЭЛЭН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айгалай 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дал арюун тунгалаг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асаганай м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рэлдэл урин налгай  буряад хэлэмна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ртын манандал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жэгэн сагаан лэ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хын альгандал энэрхы дулаан лэ буряад хэлэмна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4124160" cy="309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213372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Булагай у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ндал 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бузарг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й тунгалаг,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Бугын нюдэндэл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буриг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айхан лэ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буряад хэлэмна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рдагай г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йдэлдэл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ласы дабшанхай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жалай охиндол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бьяас габшагай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26665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айн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л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өө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эл сэлмэг тунгалаг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айлын сэсэгтэл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лбаран байнхайл 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2666520"/>
            <a:ext cx="6476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сэгын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эдэ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эрид сэхэ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утагын эридэл торгон хурса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буряад хэлэмнай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айсанай шэхэндэ тойруу таамаг, Дайдын нюусадал б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ү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эдые даамаг 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лхайта хэрэг буталха аргатай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угай сэмгэндэл буудахаш онь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ойл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рлигэй номнолы задалха шэнжэтэй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Эрдэмэй дабаае гаталха шадалтайл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уряад хэлэмна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3-05-01T09:36:4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