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9CB-F02D-4EB6-900C-54ED1362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370-A646-422F-8FCD-D4662F80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E9E-4288-4221-B1B4-593D047B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B38-596A-4BF5-8D29-C5965371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684-0367-42A7-A6BD-4547FC4E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8E1F-4DBC-4537-9CF2-AB63048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281-C0F4-4125-8E52-7475C295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1AFA-F3D4-4F4C-A75E-7F5F53F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B98E-2753-429D-B735-407B6B8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163-4650-4EEE-ACCC-1EE5F1D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5C29-3F5D-47EC-B055-0EDA8F9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B01-0B27-4173-B205-A1C6A8AE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1626-58C1-41E1-AE93-12A6E960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9598-1B28-42B4-B642-195FB2F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8C44-99E4-4DD1-BFF7-10ACA40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663B-9D74-4015-BDD6-67433818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7410-1D84-4DD0-AA8C-B962D75D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B5B-67FE-4399-BABB-8E805179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949-905D-479A-9F58-E66674D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425-81EE-4715-BEBC-76ED5EC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CB2-E967-487B-86FA-79B6E4B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B34-C847-4FB8-AB01-94EBB990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631-372E-4DB4-A257-EAD9239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00F-6AF2-4083-9192-825BEF6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C1C-EBC1-45DB-AC28-A04140177121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F0C5-4D83-4A09-A8FE-5565DB4A9036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МАР САЙН, Х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ДЭТЭ Н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ХЭД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 б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эдэниие буряад хэлэнэ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э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ө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 амаршалнабди, ута 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, удаан жаргал 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энэб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сэрэй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ы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рдэжэ ер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н лэ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рэлтэ 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эдые дамжажа ер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н лэ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146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гаадай мэргэнэй самсаал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лмэдэл, Ногоодой сэсэнэй номин бэлигтэл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эн зонойнгоо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э сахинхайл,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э хуримайнь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эг болонхойл буряад хэлэмн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20574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атарлиг ажалайнь магтаал дууданхайл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та жаргалайнь баримта болонхойл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7521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нгёо дуунай жэ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 эдлэнхэйл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рбоо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еэр 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өө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зэдэлэнхэй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19807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ног б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идэ улам х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жэнхэ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лын холые зорин гаранхайл 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БУРЯАД ХЭЛЭ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йгалай 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дал арюун тунгала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саганай 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рэлдэл урин налгай  буряад хэлэмна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ртын манандал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жэгэн сагаан лэ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хын альгандал энэрхы дулаан лэ буряад хэлэмна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4124160" cy="309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21337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лагай у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ндал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зарг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й тунгалаг,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гын нюдэндэл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буриг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йхан лэ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буряад хэлэмна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рдагай 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йдэлдэ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ласы дабшанхай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жалай охиндо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ьяас габшагай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6665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йн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өө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эл сэлмэг тунгалаг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йлын сэсэгтэл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лбаран байнхайл 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26665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сэгын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дэ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эрид сэхэ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утагын эридэл торгон хурса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айсанай шэхэндэ тойруу таамаг, Дайдын нюусадал б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дые даамаг 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лхайта хэрэг буталха аргата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угай сэмгэндэл буудахаш он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ой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рлигэй номнолы задалха шэнжэтэ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рдэмэй дабаае гаталха шадалтай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5-01T09:36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