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4.gif" ContentType="image/gif"/>
  <Override PartName="/ppt/media/image9.gif" ContentType="image/gi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80D-8860-4CF6-9440-EED968FA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DF1-60B3-413D-864F-1422BF9E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3FE-6E46-4D8A-8D13-18C427B4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692-DB5E-4494-8B5A-731EADB9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2197-833E-40CC-B0E5-C677B5AE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64A7-FA3E-41DE-B500-74CB1291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E671-C273-458B-BD1D-7842F7F5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4957-0B24-4749-B102-69419475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1BCC-E33F-44C0-A854-9C6C5B8E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2C24-9203-4FF6-AD97-536EECC1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3487-850C-4719-B8BE-5E67D29B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81F-7361-43C6-8237-8A632A98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A2FA-79EF-4D12-A279-AF280755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BF8C-8AF5-4AEB-A5D4-AA336744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14C5-C5F0-43BF-A937-C534A785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1FAB-C3B0-45C1-B59B-50468735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CEC1-BF02-4B65-B84D-F07FA5A8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90E-E5FC-43C2-960A-D79B9377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96F-528F-424C-9B09-66193BFB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9B5-22EC-4CE9-BDE5-90BFA505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B8C-A1CA-4CFB-B462-230548C7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612-6111-4CBA-9146-33AE7CDB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730-1520-4AF1-92E7-90BD2E43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47B-92E1-4EDA-829B-E209B092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A3B9-2329-4D63-8E1C-D2C9C10F85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BFE2-9D36-4702-9646-180AF4336A9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214440"/>
            <a:ext cx="6966000" cy="25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Автор: Данилина Галина Олеговна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учитель русского языка и литературы 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МБОУ «Учхозская СОШ» 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Краснослободского района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 Республики Мордовия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13920" y="713880"/>
            <a:ext cx="6153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ок-обобщение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о теме «Глагол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усский язык 5 класс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ние 4. Запись текста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Замените глаголы в прошедшем времени глаголами в настоящем. Запишите текс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В полумраке я стоял неподвижно лицом  к вечерней заре. Слышались крики пролетающих гусей, мелькала стайка больших уток. Каждый раз появление птиц так волновало меня, что я забывал обо всем</a:t>
            </a:r>
            <a:r>
              <a:rPr b="0" lang="ru-RU" sz="2400" spc="-1" strike="noStrike">
                <a:solidFill>
                  <a:srgbClr val="ecf4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5742000" y="1844640"/>
            <a:ext cx="36180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ecf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3564000" y="2205000"/>
            <a:ext cx="1008000" cy="3095640"/>
          </a:xfrm>
          <a:prstGeom prst="rightArrowCallout">
            <a:avLst>
              <a:gd name="adj1" fmla="val 76784"/>
              <a:gd name="adj2" fmla="val 76777"/>
              <a:gd name="adj3" fmla="val 16667"/>
              <a:gd name="adj4" fmla="val 6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авайте провери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 полумраке я стою неподвижно лицом  к вечерней заре. Слышу крики пролетающих гусей, мелькает стайка больших уток. Каждый раз появление птиц так волнует меня, что я забываю обо всем</a:t>
            </a:r>
            <a:r>
              <a:rPr b="0" lang="ru-RU" sz="3200" spc="-1" strike="noStrike">
                <a:solidFill>
                  <a:srgbClr val="ecf4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6964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Задание 5. Диктант </a:t>
            </a: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«Проверь себя»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181440" y="1413000"/>
            <a:ext cx="5148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Мы приближаемся к лесу чувствуем себя прекрасно. Каждый ощущает прилив новых сил. Пригревает весеннее солнце, и приятно веет ветерок. Перед нами расстилаются бескрайние поля. Все притаилось и безмолвствует. Мы рассыпаемся по лесу и перекликаемся между соб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Picture 7" descr="Рисунок2"/>
          <p:cNvPicPr/>
          <p:nvPr/>
        </p:nvPicPr>
        <p:blipFill>
          <a:blip r:embed="rId1"/>
          <a:stretch/>
        </p:blipFill>
        <p:spPr>
          <a:xfrm>
            <a:off x="5076720" y="2421000"/>
            <a:ext cx="21592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Грамматическое задание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о тексту диктанта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Найдите глаголы по их признакам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.вр, ср.р., ед.ч.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спр.,наст.вр.,1л., мн.ч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Найдите глагол соответствующий схем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     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□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Arc 21"/>
          <p:cNvSpPr/>
          <p:nvPr/>
        </p:nvSpPr>
        <p:spPr>
          <a:xfrm>
            <a:off x="1082520" y="5013360"/>
            <a:ext cx="1212840" cy="1058760"/>
          </a:xfrm>
          <a:prstGeom prst="pie">
            <a:avLst/>
          </a:prstGeom>
          <a:noFill/>
          <a:ln w="9360">
            <a:solidFill>
              <a:srgbClr val="2f13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авайте провери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.вр, ср.р..ед.ч.- притаилось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спр.,наст.вр.,1л., мн.ч.- приближаемся, чувствуем, рассыпаемся, перекликаемс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 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□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–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в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е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Arc 4"/>
          <p:cNvSpPr/>
          <p:nvPr/>
        </p:nvSpPr>
        <p:spPr>
          <a:xfrm>
            <a:off x="973080" y="3933720"/>
            <a:ext cx="1136880" cy="914400"/>
          </a:xfrm>
          <a:prstGeom prst="pie">
            <a:avLst/>
          </a:prstGeom>
          <a:noFill/>
          <a:ln w="9360">
            <a:solidFill>
              <a:srgbClr val="2f13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Рисунок4"/>
          <p:cNvPicPr/>
          <p:nvPr/>
        </p:nvPicPr>
        <p:blipFill>
          <a:blip r:embed="rId1"/>
          <a:stretch/>
        </p:blipFill>
        <p:spPr>
          <a:xfrm>
            <a:off x="5419800" y="4357800"/>
            <a:ext cx="2324160" cy="214308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2071800" y="500040"/>
            <a:ext cx="42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писок литературы: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428760" y="1582560"/>
            <a:ext cx="642924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1 .Орфографический словарь русского языка 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Под ред. С.Г. Бархударова, С.И. Ожегова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8-е изд. М.: Советская  энциклопедия 1998 г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buClr>
                <a:srgbClr val="ffff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ванова В.Ф. Современный русский язык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рафика и орфография. 2-е изд.. М., 2006 г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buClr>
                <a:srgbClr val="ffff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оисеев А.И. Буквы и звуки. Л., 1999 г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73436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«Глагол является основой языка. Найти верный глагол для фразы – это значит дать движение фразе»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А.Н.Толстой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85480"/>
            <a:ext cx="747684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dfde"/>
                </a:solidFill>
                <a:latin typeface="Arial"/>
              </a:rPr>
              <a:t>Напутствие: </a:t>
            </a:r>
            <a:br>
              <a:rPr sz="18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Глагол – это движение.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Знают все без исключения.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Глаголы прыгают и скачут,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Но иногда порою плачут.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Ты правила все повтори,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К победе первым ты приди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2349000"/>
            <a:ext cx="73864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4" descr="симмммммм"/>
          <p:cNvPicPr/>
          <p:nvPr/>
        </p:nvPicPr>
        <p:blipFill>
          <a:blip r:embed="rId1"/>
          <a:stretch/>
        </p:blipFill>
        <p:spPr>
          <a:xfrm>
            <a:off x="428760" y="3000240"/>
            <a:ext cx="165708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сим"/>
          <p:cNvPicPr/>
          <p:nvPr/>
        </p:nvPicPr>
        <p:blipFill>
          <a:blip r:embed="rId2"/>
          <a:stretch/>
        </p:blipFill>
        <p:spPr>
          <a:xfrm>
            <a:off x="4140360" y="2852640"/>
            <a:ext cx="1860480" cy="3175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симмммм"/>
          <p:cNvPicPr/>
          <p:nvPr/>
        </p:nvPicPr>
        <p:blipFill>
          <a:blip r:embed="rId3"/>
          <a:stretch/>
        </p:blipFill>
        <p:spPr>
          <a:xfrm>
            <a:off x="2571840" y="3429000"/>
            <a:ext cx="1008000" cy="228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си"/>
          <p:cNvPicPr/>
          <p:nvPr/>
        </p:nvPicPr>
        <p:blipFill>
          <a:blip r:embed="rId4"/>
          <a:stretch/>
        </p:blipFill>
        <p:spPr>
          <a:xfrm>
            <a:off x="6357960" y="2643120"/>
            <a:ext cx="1008000" cy="212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Задание 1.Орфографический диктант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мотр..шь в небо, разлива..шь воду, замолка..м на минуту, лож..тся у дивана, увлека..шься теннисом, кол..т в боку, кле..м обои, зна..м правило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дума..м о каникулах, стро..м дом, се..м рожь, пиш..м рассказ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4" descr="uim"/>
          <p:cNvPicPr/>
          <p:nvPr/>
        </p:nvPicPr>
        <p:blipFill>
          <a:blip r:embed="rId2"/>
          <a:stretch/>
        </p:blipFill>
        <p:spPr>
          <a:xfrm>
            <a:off x="2987640" y="4653000"/>
            <a:ext cx="2016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авайте провери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Смотр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шь в небо, разлива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шь воду, замолка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м на минуту, лож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тся у дивана, увлека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шься теннисом, кол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т в боку, кле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м обои, зна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м правило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ума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м о каникулах, стро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м дом, се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м рожь, пиш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м рассказ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cf480"/>
                </a:solidFill>
                <a:latin typeface="Arial"/>
              </a:rPr>
              <a:t>Задание 2. Орфоэпический диктант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Выпишите слов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в которых ударение падает на третий слог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Библиотека, километр, нажил, поняла, процент, начал, позвонишь, повторит, руководит, началась, широко, старо, инженеры, положил, договоры, поня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звонишь, создала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4" descr="ееее"/>
          <p:cNvPicPr/>
          <p:nvPr/>
        </p:nvPicPr>
        <p:blipFill>
          <a:blip r:embed="rId1"/>
          <a:stretch/>
        </p:blipFill>
        <p:spPr>
          <a:xfrm>
            <a:off x="900000" y="3573360"/>
            <a:ext cx="2232000" cy="25196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7"/>
          <p:cNvSpPr/>
          <p:nvPr/>
        </p:nvSpPr>
        <p:spPr>
          <a:xfrm>
            <a:off x="3132000" y="2708280"/>
            <a:ext cx="1295640" cy="1008000"/>
          </a:xfrm>
          <a:prstGeom prst="rightArrow">
            <a:avLst>
              <a:gd name="adj1" fmla="val 50000"/>
              <a:gd name="adj2" fmla="val 32134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f480"/>
                </a:solidFill>
                <a:latin typeface="Arial"/>
              </a:rPr>
              <a:t>Давайте</a:t>
            </a: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ecf480"/>
                </a:solidFill>
                <a:latin typeface="Arial"/>
              </a:rPr>
              <a:t>провери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Километр, поняла, позвонишь, повторит, началась, широко, инженеры, положил, договоры, создала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4500720" y="2133720"/>
            <a:ext cx="7128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 flipH="1">
            <a:off x="6587640" y="2133720"/>
            <a:ext cx="7164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Line 18"/>
          <p:cNvSpPr/>
          <p:nvPr/>
        </p:nvSpPr>
        <p:spPr>
          <a:xfrm flipH="1">
            <a:off x="2050560" y="2133720"/>
            <a:ext cx="7308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2556000" y="2852640"/>
            <a:ext cx="7128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H="1">
            <a:off x="4716000" y="2852640"/>
            <a:ext cx="7164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Line 21"/>
          <p:cNvSpPr/>
          <p:nvPr/>
        </p:nvSpPr>
        <p:spPr>
          <a:xfrm flipH="1">
            <a:off x="7164000" y="2852640"/>
            <a:ext cx="7164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Line 22"/>
          <p:cNvSpPr/>
          <p:nvPr/>
        </p:nvSpPr>
        <p:spPr>
          <a:xfrm flipH="1">
            <a:off x="3276360" y="3357720"/>
            <a:ext cx="142920" cy="215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Line 23"/>
          <p:cNvSpPr/>
          <p:nvPr/>
        </p:nvSpPr>
        <p:spPr>
          <a:xfrm flipH="1">
            <a:off x="5866920" y="3429000"/>
            <a:ext cx="7308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Line 24"/>
          <p:cNvSpPr/>
          <p:nvPr/>
        </p:nvSpPr>
        <p:spPr>
          <a:xfrm flipH="1">
            <a:off x="3276360" y="3933720"/>
            <a:ext cx="14292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Line 25"/>
          <p:cNvSpPr/>
          <p:nvPr/>
        </p:nvSpPr>
        <p:spPr>
          <a:xfrm flipH="1">
            <a:off x="6156360" y="3933720"/>
            <a:ext cx="7128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адание 3.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интаксическая пятиминутка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Прочитать предложения, выделить грамматические основы, начертить схемы предложени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f48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ecf48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ecf480"/>
                </a:solidFill>
                <a:latin typeface="Arial"/>
              </a:rPr>
              <a:t>станешь утром вместе с восходом солнца, когда еще белеет росистая трава. Выкупаешься в еще холодной воде и целый день бродишь по окрестным поля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Picture 4" descr="Рk"/>
          <p:cNvPicPr/>
          <p:nvPr/>
        </p:nvPicPr>
        <p:blipFill>
          <a:blip r:embed="rId1"/>
          <a:stretch/>
        </p:blipFill>
        <p:spPr>
          <a:xfrm>
            <a:off x="2843280" y="4292640"/>
            <a:ext cx="2592360" cy="1584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авайте провери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cf48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cf48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cf480"/>
                </a:solidFill>
                <a:latin typeface="Arial"/>
              </a:rPr>
              <a:t>Грамматические основы первого предложения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станешь ,белеет трав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cf480"/>
                </a:solidFill>
                <a:latin typeface="Arial"/>
              </a:rPr>
              <a:t>Грамматическая основа второго предложения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ыкупаешься и бродиш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09:44:04Z</dcterms:created>
  <dc:creator>User</dc:creator>
  <dc:description/>
  <dc:language>en-US</dc:language>
  <cp:lastModifiedBy>1</cp:lastModifiedBy>
  <dcterms:modified xsi:type="dcterms:W3CDTF">2013-05-03T16:19:30Z</dcterms:modified>
  <cp:revision>21</cp:revision>
  <dc:subject/>
  <dc:title>Слайд 1</dc:title>
</cp:coreProperties>
</file>