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6D0-399B-4883-90A4-C58BF039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FF8-A7D8-41CC-B06C-92B5D9F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8C6-34C9-4CDB-9C1C-7B4BAF94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1BB-93F6-4966-9FF1-1EFF6286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EC3B-715C-4970-97F4-F700CDE9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1DB0-65F8-408C-881A-A8FFA638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20D-CECA-4D2A-BA95-3F1C6F42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3D0C-C10C-4F80-A184-50AF4456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AB0D-41F9-4F98-9238-39B749DB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7DED-4A58-4511-AE3D-89DB2F01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BEFE-C9B8-468D-BC8C-08FE816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7F7-8EBA-447B-8286-4C1C463A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3FF-6B8D-42C3-8CEA-620C27FB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110F-33C3-4F21-841C-04AE20F2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3B6A-89E9-4646-ABE6-BAE0E1A2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B272-FB3F-4A08-92C8-6B68DB43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8D6-19F0-429B-AB85-AAD44A53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319-C121-49A7-B9F1-FDD7FCDA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2B0-E203-466E-B117-54D7DAD4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4DC-731A-4213-A36F-AC88D8C0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56E-BB44-45C8-BFE8-14D221CF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DD7-948B-45C1-8A44-0FC160CD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FA3-0437-4271-B890-1974719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A0C-691B-4A2C-B437-BC0745A2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F291-988E-472D-8EC8-DA44CB565C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88F-7CBA-4720-A551-5F1D41FE4B9A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214440"/>
            <a:ext cx="6966000" cy="25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Автор: Данилина Галина Олеговна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учитель русского языка и литературы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МБОУ «Учхозская СОШ» 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Краснослободского района</a:t>
            </a:r>
            <a:br>
              <a:rPr sz="2400"/>
            </a:b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 Республики Мордовия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13920" y="713880"/>
            <a:ext cx="6153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ок-обобщение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о теме «Глагол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усский язык 5 класс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ние 4. Запись текст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Замените глаголы в прошедшем времени глаголами в настоящем. Запишите текс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 полумраке я стоял неподвижно лицом  к вечерней заре. Слышались крики пролетающих гусей, мелькала стайка больших уток. Каждый раз появление птиц так волновало меня, что я забывал обо всем</a:t>
            </a:r>
            <a:r>
              <a:rPr b="0" lang="ru-RU" sz="2400" spc="-1" strike="noStrike">
                <a:solidFill>
                  <a:srgbClr val="ecf4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5742000" y="1844640"/>
            <a:ext cx="36180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buClr>
                <a:srgbClr val="ecf4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3564000" y="2205000"/>
            <a:ext cx="1008000" cy="3095640"/>
          </a:xfrm>
          <a:prstGeom prst="rightArrowCallout">
            <a:avLst>
              <a:gd name="adj1" fmla="val 76784"/>
              <a:gd name="adj2" fmla="val 76777"/>
              <a:gd name="adj3" fmla="val 16667"/>
              <a:gd name="adj4" fmla="val 6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 полумраке я стою неподвижно лицом  к вечерней заре. Слышу крики пролетающих гусей, мелькает стайка больших уток. Каждый раз появление птиц так волнует меня, что я забываю обо всем</a:t>
            </a: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6964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Задание 5. Диктант </a:t>
            </a: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«Проверь себя»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181440" y="1413000"/>
            <a:ext cx="5148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ы приближаемся к лесу чувствуем себя прекрасно. Каждый ощущает прилив новых сил. Пригревает весеннее солнце, и приятно веет ветерок. Перед нами расстилаются бескрайние поля. Все притаилось и безмолвствует. Мы рассыпаемся по лесу и перекликаемся между соб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Picture 7" descr="Рисунок2"/>
          <p:cNvPicPr/>
          <p:nvPr/>
        </p:nvPicPr>
        <p:blipFill>
          <a:blip r:embed="rId1"/>
          <a:stretch/>
        </p:blipFill>
        <p:spPr>
          <a:xfrm>
            <a:off x="5076720" y="2421000"/>
            <a:ext cx="2159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Грамматическое задание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 тексту диктант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Найдите глаголы по их признакам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.вр, ср.р., ед.ч.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пр.,наст.вр.,1л., мн.ч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Найдите глагол соответствующий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Arc 21"/>
          <p:cNvSpPr/>
          <p:nvPr/>
        </p:nvSpPr>
        <p:spPr>
          <a:xfrm>
            <a:off x="1082520" y="5013360"/>
            <a:ext cx="1212840" cy="1058760"/>
          </a:xfrm>
          <a:prstGeom prst="pie">
            <a:avLst/>
          </a:prstGeom>
          <a:noFill/>
          <a:ln w="93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.вр, ср.р..ед.ч.- притаилось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спр.,наст.вр.,1л., мн.ч.- приближаемся, чувствуем, рассыпаемся, перекликаемс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rial"/>
              </a:rPr>
              <a:t>□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  –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  <a:ea typeface="Arial"/>
              </a:rPr>
              <a:t>в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е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Arc 4"/>
          <p:cNvSpPr/>
          <p:nvPr/>
        </p:nvSpPr>
        <p:spPr>
          <a:xfrm>
            <a:off x="973080" y="3933720"/>
            <a:ext cx="1136880" cy="914400"/>
          </a:xfrm>
          <a:prstGeom prst="pie">
            <a:avLst/>
          </a:prstGeom>
          <a:noFill/>
          <a:ln w="9360">
            <a:solidFill>
              <a:srgbClr val="2f131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Рисунок4"/>
          <p:cNvPicPr/>
          <p:nvPr/>
        </p:nvPicPr>
        <p:blipFill>
          <a:blip r:embed="rId1"/>
          <a:stretch/>
        </p:blipFill>
        <p:spPr>
          <a:xfrm>
            <a:off x="5419800" y="4357800"/>
            <a:ext cx="2324160" cy="21430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2071800" y="500040"/>
            <a:ext cx="42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Список литературы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Прямоугольник 4"/>
          <p:cNvSpPr/>
          <p:nvPr/>
        </p:nvSpPr>
        <p:spPr>
          <a:xfrm>
            <a:off x="428760" y="1582560"/>
            <a:ext cx="642924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1 .Орфографический словарь русского языка 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Под ред. С.Г. Бархударова, С.И. Ожегова.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8-е изд. М.: Советская  энциклопедия 1998 г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Иванова В.Ф. Современный русский язык.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афика и орфография. 2-е изд.. М., 2006 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Моисеев А.И. Буквы и звуки. Л., 1999 г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7343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«Глагол является основой языка. Найти верный глагол для фразы – это значит дать движение фразе»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А.Н.Толстой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85480"/>
            <a:ext cx="747684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3dfde"/>
                </a:solidFill>
                <a:latin typeface="Arial"/>
              </a:rPr>
              <a:t>Напутствие: </a:t>
            </a:r>
            <a:br>
              <a:rPr sz="18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Глагол – это движение.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Знают все без исключения.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Глаголы прыгают и скачут,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Но иногда порою плачут.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Ты правила все повтори,</a:t>
            </a:r>
            <a:br>
              <a:rPr sz="2000"/>
            </a:br>
            <a:r>
              <a:rPr b="1" lang="ru-RU" sz="2000" spc="-1" strike="noStrike">
                <a:solidFill>
                  <a:srgbClr val="f7d47d"/>
                </a:solidFill>
                <a:latin typeface="Arial"/>
              </a:rPr>
              <a:t>К победе первым ты приди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2349000"/>
            <a:ext cx="7386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симмммммм"/>
          <p:cNvPicPr/>
          <p:nvPr/>
        </p:nvPicPr>
        <p:blipFill>
          <a:blip r:embed="rId1"/>
          <a:stretch/>
        </p:blipFill>
        <p:spPr>
          <a:xfrm>
            <a:off x="428760" y="3000240"/>
            <a:ext cx="165708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сим"/>
          <p:cNvPicPr/>
          <p:nvPr/>
        </p:nvPicPr>
        <p:blipFill>
          <a:blip r:embed="rId2"/>
          <a:stretch/>
        </p:blipFill>
        <p:spPr>
          <a:xfrm>
            <a:off x="4140360" y="2852640"/>
            <a:ext cx="1860480" cy="317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симмммм"/>
          <p:cNvPicPr/>
          <p:nvPr/>
        </p:nvPicPr>
        <p:blipFill>
          <a:blip r:embed="rId3"/>
          <a:stretch/>
        </p:blipFill>
        <p:spPr>
          <a:xfrm>
            <a:off x="2571840" y="3429000"/>
            <a:ext cx="1008000" cy="22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си"/>
          <p:cNvPicPr/>
          <p:nvPr/>
        </p:nvPicPr>
        <p:blipFill>
          <a:blip r:embed="rId4"/>
          <a:stretch/>
        </p:blipFill>
        <p:spPr>
          <a:xfrm>
            <a:off x="6357960" y="2643120"/>
            <a:ext cx="1008000" cy="212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Задание 1.Орфографический диктант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Смотр..шь в небо, разлива..шь воду, замолка..м на минуту, лож..тся у дивана, увлека..шься теннисом, кол..т в боку, кле..м обои, зна..м правил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дума..м о каникулах, стро..м дом, се..м рожь, пиш..м рассказ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uim"/>
          <p:cNvPicPr/>
          <p:nvPr/>
        </p:nvPicPr>
        <p:blipFill>
          <a:blip r:embed="rId2"/>
          <a:stretch/>
        </p:blipFill>
        <p:spPr>
          <a:xfrm>
            <a:off x="2987640" y="4653000"/>
            <a:ext cx="201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мотр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шь в небо, разлив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шь воду, замолк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на минуту, лож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ся у дивана, увлек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шься теннисом, кол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т в боку, кле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обои, зн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правило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ума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о каникулах, стро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дом, се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рожь, пиш</a:t>
            </a:r>
            <a:r>
              <a:rPr b="1" lang="ru-RU" sz="3200" spc="-1" strike="noStrike">
                <a:solidFill>
                  <a:srgbClr val="ecf48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 рассказ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Задание 2. Орфоэпический диктант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ыпишите слов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 которых ударение падает на третий сло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Библиотека, километр, нажил, поняла, процент, начал, позвонишь, повторит, руководит, началась, широко, старо, инженеры, положил, договоры, понял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d47d"/>
                </a:solidFill>
                <a:latin typeface="Arial"/>
              </a:rPr>
              <a:t>звонишь, создал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4" descr="ееее"/>
          <p:cNvPicPr/>
          <p:nvPr/>
        </p:nvPicPr>
        <p:blipFill>
          <a:blip r:embed="rId1"/>
          <a:stretch/>
        </p:blipFill>
        <p:spPr>
          <a:xfrm>
            <a:off x="900000" y="3573360"/>
            <a:ext cx="2232000" cy="25196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3132000" y="2708280"/>
            <a:ext cx="1295640" cy="1008000"/>
          </a:xfrm>
          <a:prstGeom prst="rightArrow">
            <a:avLst>
              <a:gd name="adj1" fmla="val 50000"/>
              <a:gd name="adj2" fmla="val 3213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cf480"/>
                </a:solidFill>
                <a:latin typeface="Arial"/>
              </a:rPr>
              <a:t>Давайте</a:t>
            </a:r>
            <a:r>
              <a:rPr b="0" lang="ru-RU" sz="40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ecf480"/>
                </a:solidFill>
                <a:latin typeface="Arial"/>
              </a:rPr>
              <a:t>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Arial"/>
              </a:rPr>
              <a:t>Километр, поняла, позвонишь, повторит, началась, широко, инженеры, положил, договоры, создала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 flipH="1">
            <a:off x="4500720" y="2133720"/>
            <a:ext cx="7128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 flipH="1">
            <a:off x="6587640" y="2133720"/>
            <a:ext cx="7164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 flipH="1">
            <a:off x="2050560" y="2133720"/>
            <a:ext cx="73080" cy="287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2556000" y="2852640"/>
            <a:ext cx="7128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H="1">
            <a:off x="4716000" y="285264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Line 21"/>
          <p:cNvSpPr/>
          <p:nvPr/>
        </p:nvSpPr>
        <p:spPr>
          <a:xfrm flipH="1">
            <a:off x="7164000" y="2852640"/>
            <a:ext cx="71640" cy="1447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 flipH="1">
            <a:off x="3276360" y="3357720"/>
            <a:ext cx="142920" cy="21564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Line 23"/>
          <p:cNvSpPr/>
          <p:nvPr/>
        </p:nvSpPr>
        <p:spPr>
          <a:xfrm flipH="1">
            <a:off x="5866920" y="3429000"/>
            <a:ext cx="73080" cy="14436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 flipH="1">
            <a:off x="3276360" y="3933720"/>
            <a:ext cx="142920" cy="1429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6156360" y="3933720"/>
            <a:ext cx="71280" cy="2160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адание 3.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интаксическая пятиминутка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Прочитать предложения, выделить грамматические основы, начертить схемы предложени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f4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ecf48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ecf480"/>
                </a:solidFill>
                <a:latin typeface="Arial"/>
              </a:rPr>
              <a:t>станешь утром вместе с восходом солнца, когда еще белеет росистая трава. Выкупаешься в еще холодной воде и целый день бродишь по окрестным поля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Picture 4" descr="Рk"/>
          <p:cNvPicPr/>
          <p:nvPr/>
        </p:nvPicPr>
        <p:blipFill>
          <a:blip r:embed="rId1"/>
          <a:stretch/>
        </p:blipFill>
        <p:spPr>
          <a:xfrm>
            <a:off x="2843280" y="4292640"/>
            <a:ext cx="2592360" cy="1584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Давайте провери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Грамматические основы первого предложения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станешь ,белеет трав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cf480"/>
                </a:solidFill>
                <a:latin typeface="Arial"/>
              </a:rPr>
              <a:t>Грамматическая основа второго предложения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ыкупаешься и бродиш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09:44:04Z</dcterms:created>
  <dc:creator>User</dc:creator>
  <dc:description/>
  <dc:language>en-US</dc:language>
  <cp:lastModifiedBy>1</cp:lastModifiedBy>
  <dcterms:modified xsi:type="dcterms:W3CDTF">2013-05-03T16:19:30Z</dcterms:modified>
  <cp:revision>21</cp:revision>
  <dc:subject/>
  <dc:title>Слайд 1</dc:title>
</cp:coreProperties>
</file>