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56F-A456-49C6-96ED-18142F62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4D2-7CD8-40A2-9769-55A9A69C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F43-5F44-4B4E-B80F-F734292F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9DD-077E-4762-8AB8-BE8041D7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C3F-0CFF-405F-8BF0-4B3D98A1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A22-5A59-4055-9664-4005C63C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39D-1939-452F-A07E-CA3E2A3C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DFD-3A51-41C5-8F75-32FD60A2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E48-FCD4-4C23-82FD-795974B8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5EB-7287-45D8-B829-F263D05B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783-EE53-4104-9848-0915B044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D7E-1197-4F0F-8AA0-1EE4E794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6913-0205-409A-9602-E0E1C56B27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ГРУППЫ КРОВ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ПЕРЕЛИВАНИЕ КРОВ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422064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 учитель биологии МОУ «СОШ № 4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Ртищево Саратовской област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люгина Н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blood_9[1]"/>
          <p:cNvPicPr/>
          <p:nvPr/>
        </p:nvPicPr>
        <p:blipFill>
          <a:blip r:embed="rId1"/>
          <a:stretch/>
        </p:blipFill>
        <p:spPr>
          <a:xfrm>
            <a:off x="468360" y="2852640"/>
            <a:ext cx="39607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Где хранят донорскую кров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онорская кровь хранится в герметичных (безвоздушных), закупоренных сосуд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 специальных хранилищах при определенной температу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Всю донорскую кровь ОБЯЗАТЕЛЬНО проверяют на наличие в ней спирта, инфекций, ВИЧ и других недопустимых  ве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7" descr="022[1]"/>
          <p:cNvPicPr/>
          <p:nvPr/>
        </p:nvPicPr>
        <p:blipFill>
          <a:blip r:embed="rId1"/>
          <a:stretch/>
        </p:blipFill>
        <p:spPr>
          <a:xfrm>
            <a:off x="826920" y="1484280"/>
            <a:ext cx="3097440" cy="237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431b643b8a34d677e9ec98667a4141d3_big[1]"/>
          <p:cNvPicPr/>
          <p:nvPr/>
        </p:nvPicPr>
        <p:blipFill>
          <a:blip r:embed="rId2"/>
          <a:stretch/>
        </p:blipFill>
        <p:spPr>
          <a:xfrm>
            <a:off x="4788000" y="1484280"/>
            <a:ext cx="32400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Почетное донорство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8" descr="50_or-web[1]"/>
          <p:cNvPicPr/>
          <p:nvPr/>
        </p:nvPicPr>
        <p:blipFill>
          <a:blip r:embed="rId1"/>
          <a:stretch/>
        </p:blipFill>
        <p:spPr>
          <a:xfrm>
            <a:off x="1187280" y="1700280"/>
            <a:ext cx="2737080" cy="2520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t__ae_132[1]"/>
          <p:cNvPicPr/>
          <p:nvPr/>
        </p:nvPicPr>
        <p:blipFill>
          <a:blip r:embed="rId2"/>
          <a:stretch/>
        </p:blipFill>
        <p:spPr>
          <a:xfrm>
            <a:off x="4716360" y="1557360"/>
            <a:ext cx="1656000" cy="2519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m149675[1]"/>
          <p:cNvPicPr/>
          <p:nvPr/>
        </p:nvPicPr>
        <p:blipFill>
          <a:blip r:embed="rId3"/>
          <a:stretch/>
        </p:blipFill>
        <p:spPr>
          <a:xfrm>
            <a:off x="900000" y="4581360"/>
            <a:ext cx="3095640" cy="216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25163[1]"/>
          <p:cNvPicPr/>
          <p:nvPr/>
        </p:nvPicPr>
        <p:blipFill>
          <a:blip r:embed="rId4"/>
          <a:stretch/>
        </p:blipFill>
        <p:spPr>
          <a:xfrm>
            <a:off x="5435640" y="4221000"/>
            <a:ext cx="2808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Для чего переливают кровь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6" descr="Stantsiya%20pereliv%20krovi[1]"/>
          <p:cNvPicPr/>
          <p:nvPr/>
        </p:nvPicPr>
        <p:blipFill>
          <a:blip r:embed="rId1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erelivanie2"/>
          <p:cNvPicPr/>
          <p:nvPr/>
        </p:nvPicPr>
        <p:blipFill>
          <a:blip r:embed="rId2"/>
          <a:stretch/>
        </p:blipFill>
        <p:spPr>
          <a:xfrm>
            <a:off x="4840200" y="1981080"/>
            <a:ext cx="3652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У всех военнообязанных, врачей и людей работа которых связана с риском, в документах и на шевронах верхней одежды обозначена группа их крови и резус-факто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gr10[1]"/>
          <p:cNvPicPr/>
          <p:nvPr/>
        </p:nvPicPr>
        <p:blipFill>
          <a:blip r:embed="rId1"/>
          <a:stretch/>
        </p:blipFill>
        <p:spPr>
          <a:xfrm>
            <a:off x="468360" y="692280"/>
            <a:ext cx="3456000" cy="28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78050528254039_480[1]"/>
          <p:cNvPicPr/>
          <p:nvPr/>
        </p:nvPicPr>
        <p:blipFill>
          <a:blip r:embed="rId2"/>
          <a:stretch/>
        </p:blipFill>
        <p:spPr>
          <a:xfrm>
            <a:off x="4932360" y="692280"/>
            <a:ext cx="30956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Что такое РЕЗУС – ФАКТОР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Это один из белков крови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ег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кры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1940 году Карл Ландштейнер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Название получил в честь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макак - Резус,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у которых был впервые обнаружен этот вид бел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32210[1]"/>
          <p:cNvPicPr/>
          <p:nvPr/>
        </p:nvPicPr>
        <p:blipFill>
          <a:blip r:embed="rId1"/>
          <a:stretch/>
        </p:blipFill>
        <p:spPr>
          <a:xfrm>
            <a:off x="4356000" y="2060640"/>
            <a:ext cx="4608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Резус - конфликт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Если человеку с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h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перелить кровь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h+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его антитела начнут избавляться от этой крови, как от чужеродного т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У беременных это приводит к отторжению 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mat0036l[1]"/>
          <p:cNvPicPr/>
          <p:nvPr/>
        </p:nvPicPr>
        <p:blipFill>
          <a:blip r:embed="rId1"/>
          <a:stretch/>
        </p:blipFill>
        <p:spPr>
          <a:xfrm>
            <a:off x="539640" y="1773360"/>
            <a:ext cx="3672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Исторические фа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ереливание пытались делать в Древней Гре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*  В начале 17 века в Европе пытались переливать кровь обескровленным собакам от мертвых собак или чел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10" descr="128221_image_large[1]"/>
          <p:cNvPicPr/>
          <p:nvPr/>
        </p:nvPicPr>
        <p:blipFill>
          <a:blip r:embed="rId1"/>
          <a:stretch/>
        </p:blipFill>
        <p:spPr>
          <a:xfrm>
            <a:off x="3995640" y="1700280"/>
            <a:ext cx="460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Исторические фак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Ни все попытки были удачными, часто умирали и человек и соба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6" descr="1212111[1]"/>
          <p:cNvPicPr/>
          <p:nvPr/>
        </p:nvPicPr>
        <p:blipFill>
          <a:blip r:embed="rId1"/>
          <a:stretch/>
        </p:blipFill>
        <p:spPr>
          <a:xfrm>
            <a:off x="250920" y="1700280"/>
            <a:ext cx="460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Первое переливание крови человек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1667 г. в Париже впервые проведено удачное переливание крови человеку от ягненка. Последующие переливания заканчивались гибелью обо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9" descr="perelivanie_krovi[1]"/>
          <p:cNvPicPr/>
          <p:nvPr/>
        </p:nvPicPr>
        <p:blipFill>
          <a:blip r:embed="rId1"/>
          <a:stretch/>
        </p:blipFill>
        <p:spPr>
          <a:xfrm>
            <a:off x="4140360" y="1773360"/>
            <a:ext cx="46814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Переливание крови от человека человек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конце 19 века впервые сделали переливание крови рожающей женщине от ее муж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Эксперимент прошел уда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7" descr="krov-1b[1]"/>
          <p:cNvPicPr/>
          <p:nvPr/>
        </p:nvPicPr>
        <p:blipFill>
          <a:blip r:embed="rId1"/>
          <a:stretch/>
        </p:blipFill>
        <p:spPr>
          <a:xfrm>
            <a:off x="395280" y="1916280"/>
            <a:ext cx="432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Группы крови челове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1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В 1930 году австрийский иммунолог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арл Ландшейнер,</a:t>
            </a: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получил Нобелевскую премию, за открыт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ГРУПП КРО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7" descr="559px-Blood_Compatibility"/>
          <p:cNvPicPr/>
          <p:nvPr/>
        </p:nvPicPr>
        <p:blipFill>
          <a:blip r:embed="rId1"/>
          <a:stretch/>
        </p:blipFill>
        <p:spPr>
          <a:xfrm>
            <a:off x="4067280" y="1916280"/>
            <a:ext cx="426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У человека 4 группы кро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нтиг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0 (1)      н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 (2)      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(3)     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 (4)      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7" descr="x_32ba7bca[1]"/>
          <p:cNvPicPr/>
          <p:nvPr/>
        </p:nvPicPr>
        <p:blipFill>
          <a:blip r:embed="rId1"/>
          <a:stretch/>
        </p:blipFill>
        <p:spPr>
          <a:xfrm>
            <a:off x="4211640" y="1916280"/>
            <a:ext cx="4680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Переливание кров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Донор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это человек отдающий свою кровь для перелива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Универсальные доно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это люди имеющие 1 группу кро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iStock_blood-donor-web[1]"/>
          <p:cNvPicPr/>
          <p:nvPr/>
        </p:nvPicPr>
        <p:blipFill>
          <a:blip r:embed="rId1"/>
          <a:stretch/>
        </p:blipFill>
        <p:spPr>
          <a:xfrm>
            <a:off x="4643280" y="3429000"/>
            <a:ext cx="4264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Переливание крови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Реципиент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это человек, которому перелили кровь другого челове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Универсальные реципиент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это люди которым при переливании подходит любая группа кров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" descr="242037"/>
          <p:cNvPicPr/>
          <p:nvPr/>
        </p:nvPicPr>
        <p:blipFill>
          <a:blip r:embed="rId1"/>
          <a:stretch/>
        </p:blipFill>
        <p:spPr>
          <a:xfrm>
            <a:off x="4572000" y="3500280"/>
            <a:ext cx="42130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7:45:14Z</dcterms:created>
  <dc:creator>Пользователь</dc:creator>
  <dc:description/>
  <dc:language>en-US</dc:language>
  <cp:lastModifiedBy>наталья</cp:lastModifiedBy>
  <dcterms:modified xsi:type="dcterms:W3CDTF">2013-05-03T18:21:11Z</dcterms:modified>
  <cp:revision>5</cp:revision>
  <dc:subject/>
  <dc:title>ГРУППЫ КРОВИ</dc:title>
</cp:coreProperties>
</file>