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0E81-E02D-456A-B91C-CB59CF23C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C5E4-D53E-4D9F-BE54-0EF7ACC8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C19F-083E-4D5D-A1C1-66972EE8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A42B-D5F7-44CA-8DD6-18B75A9EF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DABB-2A34-470D-AFEA-B0431267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BE90-62C4-437E-A25B-02356C3E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7D4C-6D6E-4CFC-BEB3-CEADBD64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DE25-F8F6-4E9C-B199-277BCDCB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2546-5D62-42F7-A16C-F1B8CA2F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87CF-11C1-4100-9293-E2720F49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F703-768B-46A1-A709-67DCA309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BE79-46E7-4FC0-9F17-36B36840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EB6C-B34D-4A6E-A4ED-4235C2279A9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ahoma"/>
              </a:rPr>
              <a:t>ГРУППЫ КРОВИ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ПЕРЕЛИВАНИЕ КРОВ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4220640"/>
            <a:ext cx="403848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тор учитель биологии МОУ «СОШ № 4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. Ртищево Саратовской области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люгина Н.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5" descr="blood_9[1]"/>
          <p:cNvPicPr/>
          <p:nvPr/>
        </p:nvPicPr>
        <p:blipFill>
          <a:blip r:embed="rId1"/>
          <a:stretch/>
        </p:blipFill>
        <p:spPr>
          <a:xfrm>
            <a:off x="468360" y="2852640"/>
            <a:ext cx="3960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Где хранят донорскую кровь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11480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Донорская кровь хранится в герметичных (безвоздушных), закупоренных сосуда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В специальных хранилищах при определенной температур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Всю донорскую кровь ОБЯЗАТЕЛЬНО проверяют на наличие в ней спирта, инфекций, ВИЧ и других недопустимых  вещест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7" descr="022[1]"/>
          <p:cNvPicPr/>
          <p:nvPr/>
        </p:nvPicPr>
        <p:blipFill>
          <a:blip r:embed="rId1"/>
          <a:stretch/>
        </p:blipFill>
        <p:spPr>
          <a:xfrm>
            <a:off x="826920" y="1484280"/>
            <a:ext cx="3097440" cy="2376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431b643b8a34d677e9ec98667a4141d3_big[1]"/>
          <p:cNvPicPr/>
          <p:nvPr/>
        </p:nvPicPr>
        <p:blipFill>
          <a:blip r:embed="rId2"/>
          <a:stretch/>
        </p:blipFill>
        <p:spPr>
          <a:xfrm>
            <a:off x="4788000" y="1484280"/>
            <a:ext cx="324000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ahoma"/>
              </a:rPr>
              <a:t>Почетное донорство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8" name="Picture 8" descr="50_or-web[1]"/>
          <p:cNvPicPr/>
          <p:nvPr/>
        </p:nvPicPr>
        <p:blipFill>
          <a:blip r:embed="rId1"/>
          <a:stretch/>
        </p:blipFill>
        <p:spPr>
          <a:xfrm>
            <a:off x="1187280" y="1700280"/>
            <a:ext cx="2737080" cy="2520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t__ae_132[1]"/>
          <p:cNvPicPr/>
          <p:nvPr/>
        </p:nvPicPr>
        <p:blipFill>
          <a:blip r:embed="rId2"/>
          <a:stretch/>
        </p:blipFill>
        <p:spPr>
          <a:xfrm>
            <a:off x="4716360" y="1557360"/>
            <a:ext cx="1656000" cy="2519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m149675[1]"/>
          <p:cNvPicPr/>
          <p:nvPr/>
        </p:nvPicPr>
        <p:blipFill>
          <a:blip r:embed="rId3"/>
          <a:stretch/>
        </p:blipFill>
        <p:spPr>
          <a:xfrm>
            <a:off x="900000" y="4581360"/>
            <a:ext cx="3095640" cy="2160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25163[1]"/>
          <p:cNvPicPr/>
          <p:nvPr/>
        </p:nvPicPr>
        <p:blipFill>
          <a:blip r:embed="rId4"/>
          <a:stretch/>
        </p:blipFill>
        <p:spPr>
          <a:xfrm>
            <a:off x="5435640" y="4221000"/>
            <a:ext cx="2808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Для чего переливают кровь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Picture 6" descr="Stantsiya%20pereliv%20krovi[1]"/>
          <p:cNvPicPr/>
          <p:nvPr/>
        </p:nvPicPr>
        <p:blipFill>
          <a:blip r:embed="rId1"/>
          <a:stretch/>
        </p:blipFill>
        <p:spPr>
          <a:xfrm>
            <a:off x="457200" y="25239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perelivanie2"/>
          <p:cNvPicPr/>
          <p:nvPr/>
        </p:nvPicPr>
        <p:blipFill>
          <a:blip r:embed="rId2"/>
          <a:stretch/>
        </p:blipFill>
        <p:spPr>
          <a:xfrm>
            <a:off x="4840200" y="1981080"/>
            <a:ext cx="3652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41144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У всех военнообязанных, врачей и людей работа которых связана с риском, в документах и на шевронах верхней одежды обозначена группа их крови и резус-факто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8" descr="gr10[1]"/>
          <p:cNvPicPr/>
          <p:nvPr/>
        </p:nvPicPr>
        <p:blipFill>
          <a:blip r:embed="rId1"/>
          <a:stretch/>
        </p:blipFill>
        <p:spPr>
          <a:xfrm>
            <a:off x="468360" y="692280"/>
            <a:ext cx="3456000" cy="2881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78050528254039_480[1]"/>
          <p:cNvPicPr/>
          <p:nvPr/>
        </p:nvPicPr>
        <p:blipFill>
          <a:blip r:embed="rId2"/>
          <a:stretch/>
        </p:blipFill>
        <p:spPr>
          <a:xfrm>
            <a:off x="4932360" y="692280"/>
            <a:ext cx="30956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Что такое РЕЗУС – ФАКТОР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Это один из белков крови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ег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ткры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1940 году Карл Ландштейнер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Название получил в честь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макак - Резус,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у которых был впервые обнаружен этот вид бел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6" descr="32210[1]"/>
          <p:cNvPicPr/>
          <p:nvPr/>
        </p:nvPicPr>
        <p:blipFill>
          <a:blip r:embed="rId1"/>
          <a:stretch/>
        </p:blipFill>
        <p:spPr>
          <a:xfrm>
            <a:off x="4356000" y="2060640"/>
            <a:ext cx="46087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ahoma"/>
              </a:rPr>
              <a:t>Резус - конфликт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Если человеку с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Rh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перелить кровь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Rh+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его антитела начнут избавляться от этой крови, как от чужеродного те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У беременных это приводит к отторжению пл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6" descr="mat0036l[1]"/>
          <p:cNvPicPr/>
          <p:nvPr/>
        </p:nvPicPr>
        <p:blipFill>
          <a:blip r:embed="rId1"/>
          <a:stretch/>
        </p:blipFill>
        <p:spPr>
          <a:xfrm>
            <a:off x="539640" y="1773360"/>
            <a:ext cx="36720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Исторические фак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Переливание пытались делать в Древней Гре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*  В начале 17 века в Европе пытались переливать кровь обескровленным собакам от мертвых собак или челове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10" descr="128221_image_large[1]"/>
          <p:cNvPicPr/>
          <p:nvPr/>
        </p:nvPicPr>
        <p:blipFill>
          <a:blip r:embed="rId1"/>
          <a:stretch/>
        </p:blipFill>
        <p:spPr>
          <a:xfrm>
            <a:off x="3995640" y="1700280"/>
            <a:ext cx="4608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Исторические фак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Ни все попытки были удачными, часто умирали и человек и соба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6" descr="1212111[1]"/>
          <p:cNvPicPr/>
          <p:nvPr/>
        </p:nvPicPr>
        <p:blipFill>
          <a:blip r:embed="rId1"/>
          <a:stretch/>
        </p:blipFill>
        <p:spPr>
          <a:xfrm>
            <a:off x="250920" y="1700280"/>
            <a:ext cx="4608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Первое переливание крови человеку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В 1667 г. в Париже впервые проведено удачное переливание крови человеку от ягненка. Последующие переливания заканчивались гибелью обои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9" descr="perelivanie_krovi[1]"/>
          <p:cNvPicPr/>
          <p:nvPr/>
        </p:nvPicPr>
        <p:blipFill>
          <a:blip r:embed="rId1"/>
          <a:stretch/>
        </p:blipFill>
        <p:spPr>
          <a:xfrm>
            <a:off x="4140360" y="1773360"/>
            <a:ext cx="46814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Переливание крови от человека человеку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05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В конце 19 века впервые сделали переливание крови рожающей женщине от ее муж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Эксперимент прошел удач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7" descr="krov-1b[1]"/>
          <p:cNvPicPr/>
          <p:nvPr/>
        </p:nvPicPr>
        <p:blipFill>
          <a:blip r:embed="rId1"/>
          <a:stretch/>
        </p:blipFill>
        <p:spPr>
          <a:xfrm>
            <a:off x="395280" y="1916280"/>
            <a:ext cx="4321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ahoma"/>
              </a:rPr>
              <a:t>Группы крови человек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421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В 1930 году австрийский иммунолог </a:t>
            </a: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Карл Ландшейнер,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 получил Нобелевскую премию, за открыт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ГРУПП КРО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7" descr="559px-Blood_Compatibility"/>
          <p:cNvPicPr/>
          <p:nvPr/>
        </p:nvPicPr>
        <p:blipFill>
          <a:blip r:embed="rId1"/>
          <a:stretch/>
        </p:blipFill>
        <p:spPr>
          <a:xfrm>
            <a:off x="4067280" y="1916280"/>
            <a:ext cx="4267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У человека 4 группы кров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нтиге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0 (1)      н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 (2)      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(3)      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В (4)      А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7" descr="x_32ba7bca[1]"/>
          <p:cNvPicPr/>
          <p:nvPr/>
        </p:nvPicPr>
        <p:blipFill>
          <a:blip r:embed="rId1"/>
          <a:stretch/>
        </p:blipFill>
        <p:spPr>
          <a:xfrm>
            <a:off x="4211640" y="1916280"/>
            <a:ext cx="4680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Переливание кров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Донор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это человек отдающий свою кровь для перелива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Универсальные донор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это люди имеющие 1 группу кро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7" descr="iStock_blood-donor-web[1]"/>
          <p:cNvPicPr/>
          <p:nvPr/>
        </p:nvPicPr>
        <p:blipFill>
          <a:blip r:embed="rId1"/>
          <a:stretch/>
        </p:blipFill>
        <p:spPr>
          <a:xfrm>
            <a:off x="4643280" y="3429000"/>
            <a:ext cx="42642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ahoma"/>
              </a:rPr>
              <a:t>Переливание крови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Реципиент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это человек, которому перелили кровь другого челове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28280"/>
            <a:ext cx="40384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Универсальные реципиент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это люди которым при переливании подходит любая группа кров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7" descr="242037"/>
          <p:cNvPicPr/>
          <p:nvPr/>
        </p:nvPicPr>
        <p:blipFill>
          <a:blip r:embed="rId1"/>
          <a:stretch/>
        </p:blipFill>
        <p:spPr>
          <a:xfrm>
            <a:off x="4572000" y="3500280"/>
            <a:ext cx="421308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7:45:14Z</dcterms:created>
  <dc:creator>Пользователь</dc:creator>
  <dc:description/>
  <dc:language>en-US</dc:language>
  <cp:lastModifiedBy>наталья</cp:lastModifiedBy>
  <dcterms:modified xsi:type="dcterms:W3CDTF">2013-05-03T18:21:11Z</dcterms:modified>
  <cp:revision>5</cp:revision>
  <dc:subject/>
  <dc:title>ГРУППЫ КРОВИ</dc:title>
</cp:coreProperties>
</file>