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7D3-4055-4D3D-A3A1-D2B911E7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5DA-999C-4F0B-8443-9402D63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B47-D0A2-48C9-9C85-4428737D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379-B800-4DE0-AB7C-A53D33E5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9DE-53E9-4309-8BF6-FCAEFC62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368-0405-4CCD-AF69-3F6791BB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F6A-D52F-4AA1-860B-BB6733B8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1E9-6A4D-4796-97DB-E4E61B30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2CD-DD82-4C1B-B7E1-7678CEB1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AD6-831D-4529-B9AC-8CC084A8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EF2-1712-4FD8-9C0D-8DC128DA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56E-B51E-4112-9E6A-8B9FEB4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F1A7-9FE8-44BD-B39C-5A065616D2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ИММУНИТЕТ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31640" y="5013360"/>
            <a:ext cx="578196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 презентации учитель биологии МОУ «СОШ № 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Ртищево Саратовской обл.»   Калюгина Н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18020951[1]"/>
          <p:cNvPicPr/>
          <p:nvPr/>
        </p:nvPicPr>
        <p:blipFill>
          <a:blip r:embed="rId1"/>
          <a:stretch/>
        </p:blipFill>
        <p:spPr>
          <a:xfrm>
            <a:off x="1332000" y="1557360"/>
            <a:ext cx="633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лья Ильич Мечников, физиолог, Нобелевский лауреа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9280" y="198108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Открыл фагоциты (вид лейкоцитов), которые поглощают микроорганизмы попавшие в организ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Создал учение о ФАГОЦИТОЗ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9" descr="573_1486304493[1]"/>
          <p:cNvPicPr/>
          <p:nvPr/>
        </p:nvPicPr>
        <p:blipFill>
          <a:blip r:embed="rId1"/>
          <a:stretch/>
        </p:blipFill>
        <p:spPr>
          <a:xfrm>
            <a:off x="826920" y="198900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овременная иммун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7" descr="m-00001602-a-00000307[1]"/>
          <p:cNvPicPr/>
          <p:nvPr/>
        </p:nvPicPr>
        <p:blipFill>
          <a:blip r:embed="rId1"/>
          <a:stretch/>
        </p:blipFill>
        <p:spPr>
          <a:xfrm>
            <a:off x="324000" y="2060640"/>
            <a:ext cx="4316400" cy="40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211709_20091008083706[1]"/>
          <p:cNvPicPr/>
          <p:nvPr/>
        </p:nvPicPr>
        <p:blipFill>
          <a:blip r:embed="rId2"/>
          <a:stretch/>
        </p:blipFill>
        <p:spPr>
          <a:xfrm>
            <a:off x="5346720" y="1628640"/>
            <a:ext cx="3257640" cy="233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Still0720_00029[1]"/>
          <p:cNvPicPr/>
          <p:nvPr/>
        </p:nvPicPr>
        <p:blipFill>
          <a:blip r:embed="rId3"/>
          <a:stretch/>
        </p:blipFill>
        <p:spPr>
          <a:xfrm>
            <a:off x="5364000" y="4221000"/>
            <a:ext cx="316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Твой выбор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Я прививок не боюсь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Если надо – уколюсь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10" descr="358609[1]"/>
          <p:cNvPicPr/>
          <p:nvPr/>
        </p:nvPicPr>
        <p:blipFill>
          <a:blip r:embed="rId1"/>
          <a:stretch/>
        </p:blipFill>
        <p:spPr>
          <a:xfrm>
            <a:off x="395280" y="1989000"/>
            <a:ext cx="367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ак поддержать иммунитет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9" descr="gavai5[1]"/>
          <p:cNvPicPr/>
          <p:nvPr/>
        </p:nvPicPr>
        <p:blipFill>
          <a:blip r:embed="rId1"/>
          <a:stretch/>
        </p:blipFill>
        <p:spPr>
          <a:xfrm>
            <a:off x="5076720" y="4221000"/>
            <a:ext cx="316728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picture-390h[1]"/>
          <p:cNvPicPr/>
          <p:nvPr/>
        </p:nvPicPr>
        <p:blipFill>
          <a:blip r:embed="rId2"/>
          <a:stretch/>
        </p:blipFill>
        <p:spPr>
          <a:xfrm>
            <a:off x="4284720" y="1557360"/>
            <a:ext cx="3054240" cy="2405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43742[1]"/>
          <p:cNvPicPr/>
          <p:nvPr/>
        </p:nvPicPr>
        <p:blipFill>
          <a:blip r:embed="rId3"/>
          <a:stretch/>
        </p:blipFill>
        <p:spPr>
          <a:xfrm>
            <a:off x="468360" y="1484280"/>
            <a:ext cx="2879640" cy="240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picture-195h[1]"/>
          <p:cNvPicPr/>
          <p:nvPr/>
        </p:nvPicPr>
        <p:blipFill>
          <a:blip r:embed="rId4"/>
          <a:stretch/>
        </p:blipFill>
        <p:spPr>
          <a:xfrm>
            <a:off x="1258920" y="4076640"/>
            <a:ext cx="2876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Беречь здоровье с дет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7" descr="082b2e62dd5881f39accd0b7c55c2047[1]"/>
          <p:cNvPicPr/>
          <p:nvPr/>
        </p:nvPicPr>
        <p:blipFill>
          <a:blip r:embed="rId1"/>
          <a:stretch/>
        </p:blipFill>
        <p:spPr>
          <a:xfrm>
            <a:off x="611280" y="1773360"/>
            <a:ext cx="3744720" cy="468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9dad46b32a9819dafc23a9ce4524384[1]"/>
          <p:cNvPicPr/>
          <p:nvPr/>
        </p:nvPicPr>
        <p:blipFill>
          <a:blip r:embed="rId2"/>
          <a:stretch/>
        </p:blipFill>
        <p:spPr>
          <a:xfrm>
            <a:off x="5335560" y="1773360"/>
            <a:ext cx="2908440" cy="218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149[1]"/>
          <p:cNvPicPr/>
          <p:nvPr/>
        </p:nvPicPr>
        <p:blipFill>
          <a:blip r:embed="rId3"/>
          <a:stretch/>
        </p:blipFill>
        <p:spPr>
          <a:xfrm>
            <a:off x="5076720" y="4149720"/>
            <a:ext cx="3167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Иммунитет -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это способность организма избавляться от чужеродных тел и микроорганизм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5%E1[1]"/>
          <p:cNvPicPr/>
          <p:nvPr/>
        </p:nvPicPr>
        <p:blipFill>
          <a:blip r:embed="rId1"/>
          <a:stretch/>
        </p:blipFill>
        <p:spPr>
          <a:xfrm>
            <a:off x="4572000" y="1916280"/>
            <a:ext cx="4464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иды иммунитета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i="1" lang="ru-RU" sz="3600" spc="-1" strike="noStrike" u="sng">
                <a:solidFill>
                  <a:srgbClr val="003366"/>
                </a:solidFill>
                <a:uFillTx/>
                <a:latin typeface="Tahoma"/>
              </a:rPr>
              <a:t>Клеточны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Фагоциты уничтожают чужеродные тела с помощью антител вырабатываемых кров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12" descr="aureus[1]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иды иммунитета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371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 u="sng">
                <a:solidFill>
                  <a:srgbClr val="003366"/>
                </a:solidFill>
                <a:uFillTx/>
                <a:latin typeface="Tahoma"/>
              </a:rPr>
              <a:t>Ви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Болезни животных не передаются человек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Tahoma"/>
              </a:rPr>
              <a:t>Например,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Собачья чум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щ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den-pomoshchi-bednym[1]"/>
          <p:cNvPicPr/>
          <p:nvPr/>
        </p:nvPicPr>
        <p:blipFill>
          <a:blip r:embed="rId1"/>
          <a:stretch/>
        </p:blipFill>
        <p:spPr>
          <a:xfrm>
            <a:off x="4140360" y="2205000"/>
            <a:ext cx="46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Эпидем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– это вспышка инфекционного заболевания на определенной территор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8" descr="47295[1]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immun_01[1]"/>
          <p:cNvPicPr/>
          <p:nvPr/>
        </p:nvPicPr>
        <p:blipFill>
          <a:blip r:embed="rId2"/>
          <a:stretch/>
        </p:blipFill>
        <p:spPr>
          <a:xfrm>
            <a:off x="5076720" y="2565360"/>
            <a:ext cx="345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История привив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ервую прививку  в 1796 году, сделал англ. вра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Эдвард Дженн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8 - летнему мальчику Джеймсу Фиттсу против Коровьей ос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2" descr="170[1]"/>
          <p:cNvPicPr/>
          <p:nvPr/>
        </p:nvPicPr>
        <p:blipFill>
          <a:blip r:embed="rId1"/>
          <a:stretch/>
        </p:blipFill>
        <p:spPr>
          <a:xfrm>
            <a:off x="4572000" y="1844640"/>
            <a:ext cx="424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Вакцинац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(лат.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Vacca –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коров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осле вакцины мальчик не заражался оспой, но многие отказывались делать прививки, считая, что у них вырастут рога и копы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9" descr="800px-The_cow_pock[1]"/>
          <p:cNvPicPr/>
          <p:nvPr/>
        </p:nvPicPr>
        <p:blipFill>
          <a:blip r:embed="rId1"/>
          <a:stretch/>
        </p:blipFill>
        <p:spPr>
          <a:xfrm>
            <a:off x="4067280" y="2060640"/>
            <a:ext cx="4825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Оспа</a:t>
            </a: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–инфекционное заболевание, оставляющее глубокие рубцы на кож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6" descr="AV37JG5CA7R5UWPCAX1L3SZCA7MEGLPCASKOPF9CAH1UMGJCABTHX21CAKQ7BE4CAAVURYMCAI5YVJ4CA1I2LKRCATUB3Q0CAZX3JJACAH1PJXFCADIRASCCADVS3RICAPRZSM2CA5VEIPUCAIZR3HQ"/>
          <p:cNvPicPr/>
          <p:nvPr/>
        </p:nvPicPr>
        <p:blipFill>
          <a:blip r:embed="rId1"/>
          <a:stretch/>
        </p:blipFill>
        <p:spPr>
          <a:xfrm>
            <a:off x="5003640" y="2349360"/>
            <a:ext cx="3672000" cy="395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718306_1104124596[1]"/>
          <p:cNvPicPr/>
          <p:nvPr/>
        </p:nvPicPr>
        <p:blipFill>
          <a:blip r:embed="rId2"/>
          <a:stretch/>
        </p:blipFill>
        <p:spPr>
          <a:xfrm>
            <a:off x="324000" y="2205000"/>
            <a:ext cx="4319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Луи Пастер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Впервые сделал прививки от бешенства, вводил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Tahoma"/>
              </a:rPr>
              <a:t>антитела -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вещества выработанные в другом организме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7" descr="jenner[1]"/>
          <p:cNvPicPr/>
          <p:nvPr/>
        </p:nvPicPr>
        <p:blipFill>
          <a:blip r:embed="rId1"/>
          <a:stretch/>
        </p:blipFill>
        <p:spPr>
          <a:xfrm>
            <a:off x="468360" y="1557360"/>
            <a:ext cx="396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9:31:53Z</dcterms:created>
  <dc:creator>Пользователь</dc:creator>
  <dc:description/>
  <dc:language>en-US</dc:language>
  <cp:lastModifiedBy>наталья</cp:lastModifiedBy>
  <dcterms:modified xsi:type="dcterms:W3CDTF">2013-05-03T18:20:20Z</dcterms:modified>
  <cp:revision>5</cp:revision>
  <dc:subject/>
  <dc:title>ИММУНИТЕТ</dc:title>
</cp:coreProperties>
</file>