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71F2-4D6F-4284-962C-BA2DF2A841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0DC8-0C65-4E80-B7D0-210BA05C341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948-9106-413F-88B0-42663265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266A-E0D1-4A3A-A453-C2E37F7A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9D813-9543-455B-ACF8-5C72D55A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99BA1-49D4-4871-B93C-E5B2C382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DA77D-EA1D-47F7-981E-32C044AA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36574-3BB7-42EE-AACD-57DF2819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DE02F-81CD-4905-852A-68DD6F27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D77CC-404B-491B-B565-0FC39413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EB26C-E90E-4A13-B059-A548A0D9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5A76A-64B6-47B5-9E45-524FE0E5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00D20-C6AD-45D1-895D-6A9CFAF2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6C373-917D-4BE8-8BBF-D0B30B19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E55-D41F-4B7D-A73E-FD8A9C97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79B58-B325-48D3-8337-290E1CA7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E7039-A71B-47C2-B31D-F461F0E6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3CCE7B-F957-4F14-A1C9-770BCCDD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E37E3-82C5-47B0-AE11-BB20EFBE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D30C1-E6AE-4E21-A062-24EF1995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E376F-C1D8-445B-849D-CF368AC3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C017A-BD9D-47FC-B78E-E282AE4B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D4C91-DC95-4A2A-A3A6-A6EA2286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40F43-9C6E-4F1F-8869-25FA6BB6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CAD3BB-0AE8-4DB4-866C-85F0D592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677F-43B0-4CCE-AAB5-2BA3A1BE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19714-010A-4525-8EDF-E187ED62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B4E5B-080C-404B-8E99-96BDEA88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722EE-3071-42F3-91E2-0D8C8892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3F140-0133-4B65-94D9-23A6EEED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E52DF-52EB-4211-85E2-692D6486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F991C-06E3-4258-BC2E-98988694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9E15A-4147-4A77-8AFB-ED133BF2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02216-40D7-4FE6-B5C1-632EA157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4B36D-8495-4EFA-B5DB-784545EF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7ADF6-B86C-4D76-B333-C087A73C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5EA0-F932-488E-8153-88B384B5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679CE-79C1-4142-9972-82C109C8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572F7-C0B6-4F3B-83C0-B859FE6C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40A76-7146-4B81-AA38-FFA0E5DD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F4606-6C77-487A-B004-912997F5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7646E-C3CC-4D33-BFCA-4679EBD6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ED26D-28EF-4DFE-9D85-4EF8EDC4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9E751-FF00-48B9-8D9A-CBAB4315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25B8A-D10F-4B72-87CD-31AFA807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897EB-E0CC-4FA3-B5A0-761C8EF4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854EE-B394-4103-ABDB-5F779EB6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CFD1-2711-4B55-8522-F332BFE7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9EB99-B1C2-4375-A0DC-BFA4E837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10A59-B9CA-49E5-AF96-4809E1C7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EF391-B1B6-4814-B992-95EDA776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90584-98FD-40DD-9EE5-211685B2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51B8A-0361-49E2-8966-ACD5143C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E237-896A-4C9D-816F-E97CA00B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F3EA-732E-4F28-AEC5-B3E3D54D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956E-0709-4567-AE11-4023B49C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943C-A7B2-4863-8DB8-CDAFE682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9DA6-5B3F-4C48-89EB-61FBDD82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A9D5-E6E9-4992-A4BC-4D95CF6F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A363-6BFB-4FD3-9EF2-B91ECD57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BF28-92DA-47EE-933B-55528F00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250D-6AFE-4DDD-A8DE-A44C5E41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AC43-AD60-4F4E-8288-124C60E4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BE7B-F728-4465-AE72-DA6A7AD1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E3F17-D5AE-487D-B90B-EE01944F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7DD4F-1120-4B60-A32C-1F7596E0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010CA-69D6-4684-96E4-F6791DA1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C9C74-A38F-4A95-8936-3FB2B1D4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569E3-B1C7-4679-A96E-FCEAB190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181-03A7-487C-9308-54673A1B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B8278-9612-4376-8E00-639E085C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40E75-98FA-45AC-8BF1-E498A259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815FF-4823-4A63-9E8E-0C43DF51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E043D-4356-4B62-B8B2-77610080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F57E8-D5C9-4E7F-9507-E9EED93C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3F618-5B45-44B3-A40A-65C39C25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D54F3-D3D1-41B1-8ABA-E730FE5A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CDD3D-F7FF-4F94-B6F1-76B3A1F2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10801-829E-4885-AC36-E79FC5ED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A2CA8-D8F8-4EC5-9643-E503538E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B55D-06CC-41AB-A7C1-F9244D6E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50895-9EB6-4B17-877E-3DC1E064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47B94-541A-41DA-A9D9-FE520DA4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4934C-2742-450A-95B5-6C3C6DB8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0597E-B256-4B53-AD7F-AE711AA4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2E176-21CC-42A8-856A-29C2745A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0D462-6003-4688-9248-6ED21A31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4B23C-9DC0-4036-B5D1-CBB815D4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EFCC2-DB24-4C63-AFF1-ABD81101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4FF79-5BB4-4E57-8965-0A048F2C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4CAAB-925D-4EEB-B308-C86A459C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F63-66AC-49A5-8D16-C2481A5F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64E77-BEC4-41C6-92A6-1B32C00F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97DC2-DED5-4A58-BCCE-A30E4CFB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39D36-88B8-4820-BE6B-6D6432AF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E0A6A-F328-4C41-9E10-B6D92EA1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B57B0-A920-49C1-AE16-5CC8B330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FF3B4-B791-49E3-9B90-B303131A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23F91-78B0-4CB8-9E1F-BE4C9FD2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0B069-7761-4686-A894-6955D5F5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C34D6-4302-4A8E-93A4-DD9B476F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4BF7E-5B94-4213-B59A-6D1FB7FF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ACE-EAC5-4002-8637-3CD66D44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D0C5F-65B0-4A83-A71C-57BE3B09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72BA7-AF79-4E89-BC27-9B322AAB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57515-626B-41DB-A028-923CD196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8A925-D793-4E13-98C5-6E93434B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34ED0-0101-403C-9EA5-CEB14914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93459-3C33-4ACD-AE15-4C2F37C8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47677-3FBB-406F-8053-B8F29B7D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603A0-5A6D-493A-8C90-A742C631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F8BA9-F280-4184-8653-59DDA1FB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1891E-C388-4FF0-AD74-5C9571F1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AD45-61FC-4FBC-A74F-BB081994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1BB41-193B-4586-BE16-33F58488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DCB05-4B99-4991-B65C-D53A2503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62C34-BF85-4514-BC7C-73BF0675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DAF6F-C4A0-42BD-B1D2-F99BC25EE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0E982-A544-4975-B5D4-FD183561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F0A53-01E6-411E-863B-3950B8DA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495A8-282C-4A6B-9D7B-2A0FEC2D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86215-F957-4754-AD1D-94DD1838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0CD33-BB67-4241-B746-E9BEE35C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6D0BD-CA13-4572-A949-52FBBC65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9E0-B247-4A1B-BE7D-F7A41ED4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FCDF8-CC31-4DD5-A56B-F51726C6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4247E-C0B2-49E7-B5F1-5592E3E1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59DBB-8C46-448F-9F75-36523619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7BEF8-072F-4EE3-82C8-3D1629A5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F2A98-2381-4154-9462-45F70A70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A6A1E-50C6-454F-8ED3-5219B569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3B1CC-22A6-4440-AE64-ED0E0A33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B67E8-9EDC-422C-BB13-B6E72C00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C63CF-26A8-4A37-BD10-C10BD374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0EC23-5479-4EC2-BA73-313CA42C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ED2-21A5-48B2-A806-75B8EC15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91609-9C0E-4D37-8872-8C8AD2DE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05CCC-F479-437C-B321-4F33D0A6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45ED8-79B7-4B02-9C8F-EA9B0EB9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39B4D-5D6B-4078-923C-A5D595D4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473DD-28F6-41BA-8F34-AF9D2294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72FEC-8DD3-45BA-A7B9-0E6857AB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C2818-42E9-4FC8-808D-F4FF2E71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48AE7-F721-45A5-B761-89B2283A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E8435-4134-406B-B9FE-F280B7CB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13687-14E2-4439-B84A-0021BEC7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FD7D-EA2F-4CAD-9F42-2A85088CA98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6EE2-EE67-4A95-B96D-97232814CF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AC24-88E1-4C10-8467-BCD34AC876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F2A8-B9DC-4E2A-861C-14F36CAC3F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1747-49B5-4002-8808-DFC59B75F4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5E66-9EF0-4BC5-8509-3B24E15E60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2B1E-7BD8-4238-BD23-28ECC5550AA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1A0B-8332-494B-8C30-3805410D22F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2798-C011-47EC-A0A4-B57B4EE2DED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32F6-BFC8-4E09-BA82-82DACB71840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0F40-A1CD-4CD0-A910-E33C287B06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225E-A522-4198-A52E-C95A26A0808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0" name="Прямоугольник 2" descr=""/>
          <p:cNvPicPr/>
          <p:nvPr/>
        </p:nvPicPr>
        <p:blipFill>
          <a:blip r:embed="rId2"/>
          <a:stretch/>
        </p:blipFill>
        <p:spPr>
          <a:xfrm>
            <a:off x="633240" y="804960"/>
            <a:ext cx="8261640" cy="36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68360" y="1267920"/>
            <a:ext cx="83296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одственные профессии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нженер-конструктор, инженер-микроэлектронщик, инженер по видеонаблюдению, инженер по документации, инженер по охране труда, инженер по пожарной безопасности, инженер по телекоммуникациям, инженер по технадзору, инженер по технике безопасности, инженер предпродажной подготовки, инженер-проектировщик, инженер связи, инженер-сметчик, инженер-строитель, инженер-технолог по качеству, инженер-эколог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4" name="Прямоугольник 4" descr=""/>
          <p:cNvPicPr/>
          <p:nvPr/>
        </p:nvPicPr>
        <p:blipFill>
          <a:blip r:embed="rId2"/>
          <a:stretch/>
        </p:blipFill>
        <p:spPr>
          <a:xfrm>
            <a:off x="706320" y="317520"/>
            <a:ext cx="7656480" cy="822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Спасибо за внимание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Прямоугольник 3" descr=""/>
          <p:cNvPicPr/>
          <p:nvPr/>
        </p:nvPicPr>
        <p:blipFill>
          <a:blip r:embed="rId2"/>
          <a:stretch/>
        </p:blipFill>
        <p:spPr>
          <a:xfrm>
            <a:off x="-158760" y="836640"/>
            <a:ext cx="9302760" cy="1103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C:\Users\Яна\Desktop\инженер\specprof_kpu8.jpg"/>
          <p:cNvPicPr/>
          <p:nvPr/>
        </p:nvPicPr>
        <p:blipFill>
          <a:blip r:embed="rId3"/>
          <a:stretch/>
        </p:blipFill>
        <p:spPr>
          <a:xfrm>
            <a:off x="5357880" y="2116080"/>
            <a:ext cx="2571840" cy="39560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539640" y="2421000"/>
            <a:ext cx="39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женер - это звучит гордо! Прежде всего, это было обусловлено сложностью обучения на инженерной специальности и последующей работой, связанной с миром формул и чертежей, практически закрытым для несведущего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Заголовок 5" descr=""/>
          <p:cNvPicPr/>
          <p:nvPr/>
        </p:nvPicPr>
        <p:blipFill>
          <a:blip r:embed="rId2"/>
          <a:stretch/>
        </p:blipFill>
        <p:spPr>
          <a:xfrm>
            <a:off x="781200" y="237960"/>
            <a:ext cx="7783200" cy="77328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13840" y="999720"/>
            <a:ext cx="4573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Описание профессии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женерные профессии - самые массовые профессии высококвалифицированного труда. В нашей стране более трети специалистов с высшим образованием - инженер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Инженер принимает участие в производстве материальных благ общества - от продуктов питания и товаров повседневного спроса до сложных вычислительных машин и космических ракет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6" name="Picture 5" descr="C:\Users\Яна\Desktop\инженер\00001045.jpg"/>
          <p:cNvPicPr/>
          <p:nvPr/>
        </p:nvPicPr>
        <p:blipFill>
          <a:blip r:embed="rId3"/>
          <a:stretch/>
        </p:blipFill>
        <p:spPr>
          <a:xfrm>
            <a:off x="5364000" y="1197000"/>
            <a:ext cx="3384720" cy="37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Заголовок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 txBox="1"/>
          <p:nvPr/>
        </p:nvSpPr>
        <p:spPr>
          <a:xfrm>
            <a:off x="457200" y="1052280"/>
            <a:ext cx="38275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Современный инженер - это специалист, обладающий высокой культурой и хорошо знающий современную технику и технологии, экономику и организацию производства, умеющий пользоваться инженерными методами при решении инженерных задач и в то же время обладающий способностью к изобретательству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9" name="Picture 6" descr="C:\Users\Яна\Desktop\инженер\0-rabota-work.jpg"/>
          <p:cNvPicPr/>
          <p:nvPr/>
        </p:nvPicPr>
        <p:blipFill>
          <a:blip r:embed="rId3"/>
          <a:stretch/>
        </p:blipFill>
        <p:spPr>
          <a:xfrm>
            <a:off x="5651640" y="1916280"/>
            <a:ext cx="2836800" cy="424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Условно можно выделить 4 такие группы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. Конструктор (разрабатывает конструкцию прибора, оборудования и др.)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. Технолог (разрабатывает процесс изготовления, обработки изделия или продукта)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. Экономист (занимается экономическим анализом и планированием путей достижения определенных экономических результатов)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. Организатор (занимается хозяйственной деятельностью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1" name="Прямоугольник 3" descr=""/>
          <p:cNvPicPr/>
          <p:nvPr/>
        </p:nvPicPr>
        <p:blipFill>
          <a:blip r:embed="rId2"/>
          <a:stretch/>
        </p:blipFill>
        <p:spPr>
          <a:xfrm>
            <a:off x="1219320" y="420840"/>
            <a:ext cx="6997680" cy="1285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Личные качества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Каждый инженер в той или иной степени имеет дело с техникой, с техническими объектами и технологическими процессами. Поэтому интерес к технике, склонность к занятию с ней являются одним из условий успешности его деятельности. Важны для него и технические способности, техническая наблюдательность, техническое мышление, пространственное воображение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3" name="Прямоугольник 3" descr=""/>
          <p:cNvPicPr/>
          <p:nvPr/>
        </p:nvPicPr>
        <p:blipFill>
          <a:blip r:embed="rId2"/>
          <a:stretch/>
        </p:blipFill>
        <p:spPr>
          <a:xfrm>
            <a:off x="1292400" y="420840"/>
            <a:ext cx="6430680" cy="232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Труд инженера носит творческий характер. В любой области настоящий инженер должен действовать самостоятельно, инициативно, творчески. Часто инженер выступает в роли руководителя определенного коллектива людей. Эта особенность деятельности инженера требует от него проявления организаторских способностей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5" name="Прямоугольник 3" descr=""/>
          <p:cNvPicPr/>
          <p:nvPr/>
        </p:nvPicPr>
        <p:blipFill>
          <a:blip r:embed="rId2"/>
          <a:stretch/>
        </p:blipFill>
        <p:spPr>
          <a:xfrm>
            <a:off x="1238400" y="334800"/>
            <a:ext cx="6673680" cy="744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C:\Users\Яна\Desktop\инженер\584203.jpg"/>
          <p:cNvPicPr/>
          <p:nvPr/>
        </p:nvPicPr>
        <p:blipFill>
          <a:blip r:embed="rId3"/>
          <a:stretch/>
        </p:blipFill>
        <p:spPr>
          <a:xfrm>
            <a:off x="5148360" y="2414520"/>
            <a:ext cx="3744720" cy="282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24000" y="1268280"/>
            <a:ext cx="840096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Образование (Что надо знать?)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 первую очередь, инженер - это глубокая фундаментальная подготовка по таким техническим дисциплинам, как математический анализ в различных вариациях, инженерная графика (в более простом понимании - черчение), сопромат, материаловедение и множество других узкоспециализированных дисциплин, перечень которых зависит от конкретной направленност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В процессе обучения студенты получают обстоятельную общетехническую, физико-математическую и другую естественнонаучную подготовку в зависимости от специальности. В школе хорошо надо знать физику, математику, черчение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8" name="Прямоугольник 3" descr=""/>
          <p:cNvPicPr/>
          <p:nvPr/>
        </p:nvPicPr>
        <p:blipFill>
          <a:blip r:embed="rId2"/>
          <a:stretch/>
        </p:blipFill>
        <p:spPr>
          <a:xfrm>
            <a:off x="633240" y="317520"/>
            <a:ext cx="8418600" cy="822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Место работы и карьера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Инженер работает практически во всех отраслях народного хозяйства: на фабриках и заводах, на шахтах и стройках, в НИИ, в авиации, в военном деле, на транспорте и т.д. Он может занимать должности: мастера, ст. мастера, инженера, ст. инженера, руководителя предприятия, начальника смены, отдела, участка, лаборатории, ведущего инженера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1" name="Прямоугольник 3" descr=""/>
          <p:cNvPicPr/>
          <p:nvPr/>
        </p:nvPicPr>
        <p:blipFill>
          <a:blip r:embed="rId2"/>
          <a:stretch/>
        </p:blipFill>
        <p:spPr>
          <a:xfrm>
            <a:off x="566640" y="317520"/>
            <a:ext cx="8444160" cy="8222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7" descr="C:\Users\Яна\Desktop\инженер\PICT3042.jpg"/>
          <p:cNvPicPr/>
          <p:nvPr/>
        </p:nvPicPr>
        <p:blipFill>
          <a:blip r:embed="rId3"/>
          <a:stretch/>
        </p:blipFill>
        <p:spPr>
          <a:xfrm>
            <a:off x="5786280" y="2643120"/>
            <a:ext cx="2714760" cy="361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2:49:06Z</dcterms:created>
  <dc:creator>РТК</dc:creator>
  <dc:description/>
  <dc:language>en-US</dc:language>
  <cp:lastModifiedBy>Админ</cp:lastModifiedBy>
  <dcterms:modified xsi:type="dcterms:W3CDTF">2013-04-22T07:21:36Z</dcterms:modified>
  <cp:revision>58</cp:revision>
  <dc:subject/>
  <dc:title>ВЫПУСКНАЯ КВАЛИФИКАЦИОННАЯ РАБОТА    на тему: "Управление оборотными средствами фирмы".</dc:title>
</cp:coreProperties>
</file>