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ECE-580F-4750-B71C-664327418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F9E-1AD2-4E1C-9965-A63B9D1DFC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B0F-25B3-4ED5-8DC1-67BD843A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C82-0749-4EAC-9EB2-426DF9A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968ED-D43C-4FB6-B5CA-A9900835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B2B4-8F9A-4D4F-BAF2-4F73B896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F268-2557-4F88-A42D-C1AC9E1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130EA-010E-409C-81FF-E734A46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AFB63-7010-46D5-A09A-90FCA75B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5583A-0982-41DF-AA90-589C602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16ECE-A59B-44A9-A534-B42EF81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3B2B4-428F-4B3B-A676-DD17C1E1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7040D-02AC-4871-BDC9-560C4CDF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53BEA-F676-43E3-9C5A-65F54F69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D5A-8744-4178-BB24-EE1A39F4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6ED1B-D92A-4ED9-8A37-22BB3976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5D332-CA60-49BD-B64C-D6DCDC42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42C1-3136-41EE-8868-50B23279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0F84-6A1B-4EBD-9A52-4FDC9D7B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C1218-9729-4981-84D5-C23BD36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42DEA-EC1F-44EF-8B0B-F2CFAB3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55BDB-7630-432B-8D45-A6B7FCA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EA5E7-8551-4A3C-AA95-D2479B7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052A-8D98-4997-8511-7E3D564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B33E0-1715-40DF-A559-30536693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F2B-8821-4F22-A64D-BD732245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99C91-F8C8-42BC-8CE7-2213AED9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96C36-37E5-43C8-A68D-127D568F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E5324-435B-4603-97FA-7F88EBFE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6655E-B81D-434D-9647-EB81C1B3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5E5A2-FB31-4F62-922F-62D5ECE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ED78D-EA17-473B-B59A-CD5BBE9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5E8C-6F6F-4B1F-B229-EE3FA5C3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93720-F0D0-479B-95D9-49BA347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7B8A7-69CC-497F-9087-E169D1A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EBB50-042E-4254-86C7-51506A4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1544-2095-4997-88D3-A108876B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2443A-A0ED-4DC6-B5D4-6642E729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9DB1-5824-4E1A-BEBC-29E325D0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B9C2F-F4BE-4EC4-9DA1-F2280DA9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5601B-7050-4BD1-91EA-447BA534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48B19-C263-4FD2-A9E1-DF92227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A3CC-B6D7-4533-825D-326AFC13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08F25-2DF1-44EA-BABC-6E0BF6EC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3B74F-3CD8-41D5-BA1F-D3924E7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71AC4-4759-4371-9E1B-E940144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7BDAC-121A-4CFF-B475-8EAA9B8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963-0AA0-44E5-82E3-1E1C243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83AD1-3FD2-4C44-BBF4-9E34CBE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57B0-3A7E-4AA9-AB5F-08476DB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E8D57-3A6C-45F5-8995-EC9EF93C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64629-087D-45EB-8731-B11E1CA3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E3B07-234E-424A-9AD4-8300FEB7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8F64-B1FA-4880-BA86-E60EF04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DF8-DB59-4ECF-AE42-7340F75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92F-FE30-420F-BAB1-F466E64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C89-89DF-440D-986C-DDC6808B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353-6434-4784-9035-A914812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E65-E824-41D3-B9A5-CFD6051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1F80-7693-4821-8603-28EFAA5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0F9-E77F-4E53-9D25-12AB084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BF3-7D7A-48CA-B6F7-73EC4712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4921-1246-44D7-B6A4-1A175E39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A96A-DCE7-4968-89DF-A9D138CB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0191-F511-49B4-86EE-D4227579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87D8-4EF7-468A-AE22-3702DAA7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87DC-F6A3-46BC-BA27-E9DD9E14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F2B1-354D-4963-B6CD-427029D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8C71-BF79-4BAD-9BBC-F680D84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E0D-179C-4D0D-9440-191F6CA6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CE31-E2A0-4802-ADAE-43E8A08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1E8C-8762-44E7-9473-9F78DEF7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59D2-10A6-4B6D-BB4C-C0B18A4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04F1-B942-459B-8DAB-5C93ECD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8C33-F11F-40D4-9CA6-833F9E2B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302B-DEBA-44BB-8C0D-D3D1A442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CB4E-E6AA-43B4-B481-027CDF74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FCCC-376D-4520-B90E-060777AB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7657-A1F1-4ABE-98B2-84FD5204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60C4-3D55-4635-9EFC-57ADCDF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BAB-D781-4487-92F8-2480EAC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9E53-49CC-41C2-9ACC-5BFB4F73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EBC5-FE7B-43F2-A5F3-2EFCD760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DB29-2FAC-453F-B31C-6BF5514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D501-4528-489C-A1EF-FC79637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D948-0F90-4292-816E-99C2E14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9D9E-DD4B-4EDD-B8B8-D352C85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201A-DA69-47D4-A260-5F8E9BC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8E83-0884-4220-811F-30EF86F2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9AF0-41BE-4A94-A4D7-733F12E4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67912-FA65-4244-AE0B-246B6666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780-8AAB-4C40-BBCF-E64FC5F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BBA8-929D-4C5B-A198-24A54EBE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07BD2-4392-4B82-8603-BC8EEBC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1C2C-7DD3-4FC3-87C6-7A15189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129F-04BF-4734-B618-6D6E892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5D9E-36B3-48D3-AA98-7346B2D8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297B-5726-4FAE-A41C-A753C04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5F99-9561-487D-B243-2D87963B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F653-9335-40B6-A610-5065C13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D47B-43B2-4098-A24B-07520E5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72FB-3A9C-4AFF-B78F-9ACC3F50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439-F625-462D-BB8D-2D64385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A8E2C-0FC7-48A6-A303-05841FF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21BEA-E517-4D84-971F-5107DD31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EF32-AC89-442B-8CCA-13A175CF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D21F-36C3-4E1C-ACC2-D457ABE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72D6-AADC-410A-BF98-B5B0A60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972DB-0949-40A5-816F-BA2041D2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CC0D-E96B-4A6F-A27A-917776B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FCB0-CB1E-425F-A4DA-97A189B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F7AE-77D3-488E-A79C-162B48E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485A4-677E-4878-8B8A-D815012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157-EC9D-4844-B7D7-6B9EB97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AC5E4-3740-4707-AB41-89233FD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D67B-69BD-4A14-95E4-4740FAC0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BB42-14BE-4C00-A3B9-A0FCCC3E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844E-E75B-4A2D-AACB-CE753249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C23C-E37D-4491-A2A8-83FE3F6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C33A-668D-419A-8DF8-4DB7C89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12E11-65F0-4CEB-8794-8687E66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08FF-D175-47E2-97C6-4FED7CF2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C6395-D27A-4F7D-8D64-D17FA6F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7F33-01FE-4426-8853-E3AC28C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E9F-FF47-40A7-B8BB-9554E18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BABA9-94FD-4D04-9E51-C4E6A35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9393C-585D-4ECD-86FF-B068A74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C731-4ADE-4875-98F3-1B45A3F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CD62-83F8-4BBE-9853-5CC3ABA2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6B72-6A15-48E2-A6C5-C5CC30AA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7D976-03C6-4E60-9956-E52DA0CB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6FAF-DA67-4AAF-BC7A-88B4B5A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A9A5B-2A13-49D2-8784-5C45E78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9A67-9B37-4CA8-B3FF-24B600A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54EC3-9F3A-411A-85C4-60AA69A1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5E3-F7EF-485C-B21C-B910C93E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3BD01-4A02-482B-A4FE-84D6768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1AFA-438C-49CC-8442-EB40B16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7296-4343-46D2-B65C-C6033DA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586F-DFC7-42CC-9ED7-DCD60C7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2EF1-5C4B-45E2-AC85-3DA78CF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1F74-16B0-4025-A2E0-C28762A6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29B5-92B9-4EED-9D86-5B5F257C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892E8-91D0-40C7-B7CD-A1A8C91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DD93-76EF-424B-9E80-9B0256D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5ED04-017D-41BD-93CE-4EBB060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EF15-14A1-4287-A95F-0ABB72805C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043-321F-4765-A120-0649F6033F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230-0FEF-4E7B-8D61-D0B5A66E62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F90-06D6-4422-952F-88A23D48FC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E70B-8DCE-4823-A161-BAC38E32FF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A6CC-6BE3-4A2A-A39B-57FC981CD5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12F3-AB0A-4536-88E0-559DCCE5AE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37C-05C8-4BB7-AA63-EFCAF3E372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C65-81D3-4975-9D8A-1FFAD6B732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275-380A-4C18-AF4C-A3DACDE19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C44-B2AC-4A82-94F0-7C2FCD5DED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9E6C-2396-42FF-9F87-BC8A2A34E2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0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804960"/>
            <a:ext cx="826164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68360" y="126792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дственные профессии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нженер-конструктор, инженер-микроэлектронщик, инженер по видеонаблюдению, инженер по документации, инженер по охране труда, инженер по пожарной безопасности, инженер по телекоммуникациям, инженер по технадзору, инженер по технике безопасности, инженер предпродажной подготовки, инженер-проектировщик, инженер связи, инженер-сметчик, инженер-строитель, инженер-технолог по качеству, инженер-эколо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4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317520"/>
            <a:ext cx="7656480" cy="82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Прямоугольник 3" descr=""/>
          <p:cNvPicPr/>
          <p:nvPr/>
        </p:nvPicPr>
        <p:blipFill>
          <a:blip r:embed="rId2"/>
          <a:stretch/>
        </p:blipFill>
        <p:spPr>
          <a:xfrm>
            <a:off x="-158760" y="836640"/>
            <a:ext cx="9302760" cy="110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Users\Яна\Desktop\инженер\specprof_kpu8.jpg"/>
          <p:cNvPicPr/>
          <p:nvPr/>
        </p:nvPicPr>
        <p:blipFill>
          <a:blip r:embed="rId3"/>
          <a:stretch/>
        </p:blipFill>
        <p:spPr>
          <a:xfrm>
            <a:off x="5357880" y="2116080"/>
            <a:ext cx="2571840" cy="3956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39640" y="242100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женер - это звучит гордо! Прежде всего, это было обусловлено сложностью обучения на инженерной специальности и последующей работой, связанной с миром формул и чертежей, практически закрытым для несведуще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5" descr=""/>
          <p:cNvPicPr/>
          <p:nvPr/>
        </p:nvPicPr>
        <p:blipFill>
          <a:blip r:embed="rId2"/>
          <a:stretch/>
        </p:blipFill>
        <p:spPr>
          <a:xfrm>
            <a:off x="781200" y="237960"/>
            <a:ext cx="7783200" cy="7732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13840" y="999720"/>
            <a:ext cx="4573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Описание професс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женерные профессии - самые массовые профессии высококвалифицированного труда. В нашей стране более трети специалистов с высшим образованием - инженер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женер принимает участие в производстве материальных благ общества - от продуктов питания и товаров повседневного спроса до сложных вычислительных машин и космических ракет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6" name="Picture 5" descr="C:\Users\Яна\Desktop\инженер\00001045.jpg"/>
          <p:cNvPicPr/>
          <p:nvPr/>
        </p:nvPicPr>
        <p:blipFill>
          <a:blip r:embed="rId3"/>
          <a:stretch/>
        </p:blipFill>
        <p:spPr>
          <a:xfrm>
            <a:off x="5364000" y="1197000"/>
            <a:ext cx="338472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7200" y="1052280"/>
            <a:ext cx="3827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овременный инженер - это специалист, обладающий высокой культурой и хорошо знающий современную технику и технологии, экономику и организацию производства, умеющий пользоваться инженерными методами при решении инженерных задач и в то же время обладающий способностью к изобретательству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Picture 6" descr="C:\Users\Яна\Desktop\инженер\0-rabota-work.jpg"/>
          <p:cNvPicPr/>
          <p:nvPr/>
        </p:nvPicPr>
        <p:blipFill>
          <a:blip r:embed="rId3"/>
          <a:stretch/>
        </p:blipFill>
        <p:spPr>
          <a:xfrm>
            <a:off x="5651640" y="1916280"/>
            <a:ext cx="2836800" cy="42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словно можно выделить 4 такие группы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Конструктор (разрабатывает конструкцию прибора, оборудования и др.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Технолог (разрабатывает процесс изготовления, обработки изделия или продукта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Экономист (занимается экономическим анализом и планированием путей достижения определенных экономических результатов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Организатор (занимается хозяйственной деятельностью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Прямоугольник 3" descr=""/>
          <p:cNvPicPr/>
          <p:nvPr/>
        </p:nvPicPr>
        <p:blipFill>
          <a:blip r:embed="rId2"/>
          <a:stretch/>
        </p:blipFill>
        <p:spPr>
          <a:xfrm>
            <a:off x="1219320" y="420840"/>
            <a:ext cx="6997680" cy="128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Личные качеств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ждый инженер в той или иной степени имеет дело с техникой, с техническими объектами и технологическими процессами. Поэтому интерес к технике, склонность к занятию с ней являются одним из условий успешности его деятельности. Важны для него и технические способности, техническая наблюдательность, техническое мышление, пространственное воображение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Прямоугольник 3" descr=""/>
          <p:cNvPicPr/>
          <p:nvPr/>
        </p:nvPicPr>
        <p:blipFill>
          <a:blip r:embed="rId2"/>
          <a:stretch/>
        </p:blipFill>
        <p:spPr>
          <a:xfrm>
            <a:off x="1292400" y="420840"/>
            <a:ext cx="6430680" cy="232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Труд инженера носит творческий характер. В любой области настоящий инженер должен действовать самостоятельно, инициативно, творчески. Часто инженер выступает в роли руководителя определенного коллектива людей. Эта особенность деятельности инженера требует от него проявления организаторских способносте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Прямоугольник 3" descr=""/>
          <p:cNvPicPr/>
          <p:nvPr/>
        </p:nvPicPr>
        <p:blipFill>
          <a:blip r:embed="rId2"/>
          <a:stretch/>
        </p:blipFill>
        <p:spPr>
          <a:xfrm>
            <a:off x="1238400" y="334800"/>
            <a:ext cx="6673680" cy="744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Users\Яна\Desktop\инженер\584203.jpg"/>
          <p:cNvPicPr/>
          <p:nvPr/>
        </p:nvPicPr>
        <p:blipFill>
          <a:blip r:embed="rId3"/>
          <a:stretch/>
        </p:blipFill>
        <p:spPr>
          <a:xfrm>
            <a:off x="5148360" y="2414520"/>
            <a:ext cx="3744720" cy="28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4000" y="1268280"/>
            <a:ext cx="840096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бразование (Что надо знать?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первую очередь, инженер - это глубокая фундаментальная подготовка по таким техническим дисциплинам, как математический анализ в различных вариациях, инженерная графика (в более простом понимании - черчение), сопромат, материаловедение и множество других узкоспециализированных дисциплин, перечень которых зависит от конкретной направлен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процессе обучения студенты получают обстоятельную общетехническую, физико-математическую и другую естественнонаучную подготовку в зависимости от специальности. В школе хорошо надо знать физику, математику, черче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8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317520"/>
            <a:ext cx="8418600" cy="82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есто работы и карьер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Инженер работает практически во всех отраслях народного хозяйства: на фабриках и заводах, на шахтах и стройках, в НИИ, в авиации, в военном деле, на транспорте и т.д. Он может занимать должности: мастера, ст. мастера, инженера, ст. инженера, руководителя предприятия, начальника смены, отдела, участка, лаборатории, ведущего инженер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1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317520"/>
            <a:ext cx="8444160" cy="822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Users\Яна\Desktop\инженер\PICT3042.jpg"/>
          <p:cNvPicPr/>
          <p:nvPr/>
        </p:nvPicPr>
        <p:blipFill>
          <a:blip r:embed="rId3"/>
          <a:stretch/>
        </p:blipFill>
        <p:spPr>
          <a:xfrm>
            <a:off x="5786280" y="2643120"/>
            <a:ext cx="2714760" cy="361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2:49:06Z</dcterms:created>
  <dc:creator>РТК</dc:creator>
  <dc:description/>
  <dc:language>en-US</dc:language>
  <cp:lastModifiedBy>Админ</cp:lastModifiedBy>
  <dcterms:modified xsi:type="dcterms:W3CDTF">2013-04-22T07:21:36Z</dcterms:modified>
  <cp:revision>58</cp:revision>
  <dc:subject/>
  <dc:title>ВЫПУСКНАЯ КВАЛИФИКАЦИОННАЯ РАБОТА    на тему: "Управление оборотными средствами фирмы".</dc:title>
</cp:coreProperties>
</file>