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7A8-1957-4C78-B26F-403BD23C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5AC-33EC-4488-AF83-21D1187F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064-2249-4373-A50B-E05CB236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767-A98F-4C86-B581-BEC41C60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A2458-FB16-4845-BF92-C3A06E1E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E9FD4-0574-4A03-84E2-79F27D87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DD982-E145-4DEA-A817-49AC865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BC3D-702D-4BED-9DF5-F6A9EFE9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43C2A-8128-4F88-ADE3-A91E36A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0E7C-BE1F-4CFB-A9A1-1234C97D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76C93-D780-42E5-BBA1-F2B5D48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772-097A-4FCE-AB41-A9317A2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B3182-526F-426D-8511-DF6C545F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ECFDB-FC05-4C1A-B59F-77D7E66B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04E90-4314-44EA-A02A-858A542F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F7D7D-5D5C-4AE0-8E23-27996495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4333D-B3E8-4BB3-978C-DA8AD19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B4E-3C58-4880-821A-1D6D3000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BD2-67A1-4A96-B7FE-6499EE15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845-28A4-4A14-A2E8-CC79A81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922-A7AC-4128-85E6-F8ECA9B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81A-248E-4267-8EEF-39B0FAC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222-ED5E-43B7-9D14-41E4311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7DB-A4D0-4066-A4EC-F1CF7F2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9F14-90E7-4B30-845B-D2452B93C8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7FB-6E8E-4741-B15F-A01CE4AF1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3e3ff"/>
                </a:solidFill>
                <a:latin typeface="Arial"/>
              </a:rPr>
              <a:t>КТО ТАКИЕ ПТИЦЫ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личительные признаки пт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7812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3095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ТЛИЧИТЕЛЬНЫЕ ПРИЗНАКИ ПТИЦ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лю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ве лап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рь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1924200" cy="1428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372360" y="3789360"/>
            <a:ext cx="2396880" cy="2087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2448000" cy="21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156360" y="1268280"/>
            <a:ext cx="2736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не было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307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4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лю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2592720" cy="2376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2678400" cy="21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2678040" cy="216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61080" y="3241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ас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87480" y="547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9800" y="54752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шалаш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32800" y="5445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592360" cy="223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564000" y="2133720"/>
            <a:ext cx="3095640" cy="200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863800" cy="187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27160" y="25938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ак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40240" y="3602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ак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18280" y="5762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ен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ЛЯ ЧЕГО ПТИЦАМ НОГИ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266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66544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148360" y="393372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076720" y="1773360"/>
            <a:ext cx="2646360" cy="180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09680" y="30988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икая 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19120" y="51865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87800" y="31701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цап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52800" y="53308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уропа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672000" cy="28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095640" cy="2365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92720" y="907920"/>
            <a:ext cx="3166920" cy="23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35272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292720" y="3645000"/>
            <a:ext cx="3672000" cy="2879640"/>
            <a:chOff x="5292720" y="3645000"/>
            <a:chExt cx="3672000" cy="287964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5292720" y="3645000"/>
              <a:ext cx="36720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5292720" y="3645000"/>
              <a:ext cx="3672000" cy="28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55240" y="2882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я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5160" y="6049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ра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29600" y="612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рш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38800" y="28828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чиб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ДЛЯ ЧЕГО ПТИЦАМ КРЫЛЬЯ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04768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2304720" cy="194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2087640" cy="171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84720" y="1773360"/>
            <a:ext cx="2232360" cy="180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084720" y="422100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19080" y="30988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льбат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3840" y="5618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ри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11240" y="324180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бе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68400" y="547524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яб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9840" y="565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ЕРЕНИЕ ПТИЦ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1805040" cy="2149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158920" cy="1860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2521080" cy="1860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588000" y="4076640"/>
            <a:ext cx="19116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СЕ ЛИ ПТИЦЫ ЛЕТАЮТ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3152880" cy="1933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3035160" cy="201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01320" y="3314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16960" y="56912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0640" y="569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ен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73080" y="32418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шалаш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178080" cy="2808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384720" cy="2522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3240000" cy="2593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11360" y="24526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АЗУ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7880" y="25956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ТРЕП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84200" y="5548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56600" y="554832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ТРА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7:38:55Z</dcterms:created>
  <dc:creator>Любовь</dc:creator>
  <dc:description/>
  <dc:language>en-US</dc:language>
  <cp:lastModifiedBy>Любовь</cp:lastModifiedBy>
  <dcterms:modified xsi:type="dcterms:W3CDTF">2013-01-08T09:48:06Z</dcterms:modified>
  <cp:revision>3</cp:revision>
  <dc:subject/>
  <dc:title>КТО ТАКИЕ ПТИЦЫ?</dc:title>
</cp:coreProperties>
</file>