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5B2-1BBA-4AA4-BBDD-1628E77C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08B-8660-4835-BEF5-C1ED89B8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6E7-EED5-49CD-9063-9C389D7E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64B-DC7D-43C6-8F14-4C58AB8B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F4B46-FCF5-4EEE-AA43-3BD38A48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16508-8A95-44AB-AB4C-81369F5B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044BA-0FCD-4CC4-9097-AFD6CFB8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D1B39-DDC6-4F2E-A421-7D109833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E2C81-39D8-4995-B00E-D2BF28D2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BC09F-FD98-4240-AA85-B5022CAC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841E9-684C-4192-B58F-DB6018F7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8AA-4E2A-4CFD-BEE6-BF88C6E1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2B06F-5182-49AF-86D9-F8D479B8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ADEA5-7AA1-4DAD-B5BB-CAF1F8CD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77991-16FC-4BFB-9F66-F3DB23DF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567E1-BF80-482E-BF9C-869E8668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212B3-750A-4DCC-A55D-E7D0D96E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CA1-83E7-4733-B04C-6A93B035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BF4-73A8-4370-A014-1BF000F4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B30-263B-4A25-8016-63D37002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D891-411D-43FF-A173-893BA6F4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073-ECFE-4DA6-954F-BDEB21BD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F3A-8CE8-43A4-B9CE-F14F12C0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CE8-19B8-45B6-AD88-48D58EB6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55E3-FB67-4E10-929E-170726042D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ACCE-E8AA-4736-BCAD-A3D86C4ED3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0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e3e3ff"/>
                </a:solidFill>
                <a:latin typeface="Arial"/>
              </a:rPr>
              <a:t>КТО ТАКИЕ ПТИЦЫ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личительные признаки пти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20000" y="333360"/>
            <a:ext cx="1781280" cy="1428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867280" y="4076640"/>
            <a:ext cx="30956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ТЛИЧИТЕЛЬНЫЕ ПРИЗНАКИ ПТИЦ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клю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две лапк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перь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95280" y="4292640"/>
            <a:ext cx="1924200" cy="14288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372360" y="3789360"/>
            <a:ext cx="2396880" cy="2087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203640" y="3357720"/>
            <a:ext cx="2448000" cy="2160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6156360" y="1268280"/>
            <a:ext cx="27367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Мне было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456000" cy="3076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547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лю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2592720" cy="2376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2665440" cy="237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187280" y="3716280"/>
            <a:ext cx="2678400" cy="2160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788000" y="3716280"/>
            <a:ext cx="2678040" cy="2160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61080" y="3241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аст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72360" y="328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и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87480" y="547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29800" y="547524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шалаш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32800" y="5445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592360" cy="2232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564000" y="2133720"/>
            <a:ext cx="3095640" cy="2003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508720" y="4292640"/>
            <a:ext cx="2863800" cy="187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27160" y="25938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бакл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40240" y="36021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бакл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18280" y="57625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ен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ДЛЯ ЧЕГО ПТИЦАМ НОГИ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2664000" cy="1873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2665440" cy="1800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148360" y="393372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5076720" y="1773360"/>
            <a:ext cx="2646360" cy="1800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09680" y="30988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икая у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19120" y="51865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87800" y="317016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цап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52800" y="533088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уропа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3672000" cy="2879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3095640" cy="2365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292720" y="907920"/>
            <a:ext cx="3166920" cy="2365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3527280" cy="273528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5292720" y="3645000"/>
            <a:ext cx="3672000" cy="2879640"/>
            <a:chOff x="5292720" y="3645000"/>
            <a:chExt cx="3672000" cy="2879640"/>
          </a:xfrm>
        </p:grpSpPr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5292720" y="3645000"/>
              <a:ext cx="36720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5292720" y="3645000"/>
              <a:ext cx="3672000" cy="28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155240" y="288288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дят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5160" y="60498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трау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29600" y="6122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коршу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38800" y="288288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чиб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ДЛЯ ЧЕГО ПТИЦАМ КРЫЛЬЯ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047680" cy="1728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419640" y="2852640"/>
            <a:ext cx="2304720" cy="1944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2087640" cy="1716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084720" y="1773360"/>
            <a:ext cx="2232360" cy="1800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6084720" y="4221000"/>
            <a:ext cx="2286000" cy="1716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19080" y="30988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альбатро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13840" y="56181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стри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11240" y="324180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бе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68400" y="547524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ряб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39840" y="5651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ОПЕРЕНИЕ ПТИЦ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443640" y="1700280"/>
            <a:ext cx="1805040" cy="2149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2158920" cy="1860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348000" y="2060640"/>
            <a:ext cx="2521080" cy="1860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3348000" y="4149720"/>
            <a:ext cx="2592360" cy="18003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6588000" y="4076640"/>
            <a:ext cx="19116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ВСЕ ЛИ ПТИЦЫ ЛЕТАЮТ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879640" cy="1944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2952720" cy="2016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643280" y="1700280"/>
            <a:ext cx="3152880" cy="1933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788000" y="4005360"/>
            <a:ext cx="3035160" cy="2016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01320" y="3314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вол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16960" y="56912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ивол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70640" y="56912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ен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73080" y="32418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шалаш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435640" y="404640"/>
            <a:ext cx="3178080" cy="2808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240000" cy="2808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384720" cy="2522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435640" y="3645000"/>
            <a:ext cx="3240000" cy="25938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11360" y="245268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АЗУ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7880" y="259560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ТРЕП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84200" y="55483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И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56600" y="5548320"/>
            <a:ext cx="134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ТРАУ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7:38:55Z</dcterms:created>
  <dc:creator>Любовь</dc:creator>
  <dc:description/>
  <dc:language>en-US</dc:language>
  <cp:lastModifiedBy>Любовь</cp:lastModifiedBy>
  <dcterms:modified xsi:type="dcterms:W3CDTF">2013-01-08T09:48:06Z</dcterms:modified>
  <cp:revision>3</cp:revision>
  <dc:subject/>
  <dc:title>КТО ТАКИЕ ПТИЦЫ?</dc:title>
</cp:coreProperties>
</file>