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CC4-F3CE-49FC-AC7B-502561F8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3C6-9B6B-4756-8DB8-4FB84094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07F-E7AC-43E3-BDF5-5A04A9D4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6B5-383C-4CBE-9491-65CC92F8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9793-DD52-46FD-9877-175FF3A7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65AF-C343-4A9C-A941-272D2F0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A6C1-BCB7-4492-97A8-AF2820CF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0005-78AF-4EF6-8B5E-23AC9BA7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C621-B3B3-4F3C-ABC5-39723187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2428-3B6B-4A74-9473-D04919C7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9AAD-1004-43D9-80DE-F4BE562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CB0B-60F5-4CF4-9334-D522613E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889B-6F46-4726-9EE5-CE1EB7F5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E249-AF0B-4627-AAA8-BF5A2D8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2D6-24A8-4960-B5EE-68851691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05DD-DB05-490C-A1AD-E82A37C7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6FD7-B99E-4279-9117-2C88B6CD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AD7-EA3C-44AF-946D-5A0794E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6DE-5415-47EE-8249-94CCF18A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539-DE2B-468B-9F74-F0B494A9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8E4-E2A1-41E0-9D17-5BE1043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C2D-0B2D-48CF-AE13-19AD704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9F0-4E97-47D6-A477-744C3EF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829-5467-4954-A25F-84951BB3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613B-4D98-472A-A639-56C07D9313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E423-951A-4CF6-A68C-90E7D659B3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152352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Развитие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общей и  мелкой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оторики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у детей раннего возраста.</a:t>
            </a:r>
            <a:br>
              <a:rPr sz="3600"/>
            </a:br>
            <a:br>
              <a:rPr sz="4000"/>
            </a:b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58960" y="3581280"/>
            <a:ext cx="63324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Цуканова Наталья Викторовна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спитатель группы раннего возра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БДОУ детского сада №26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ногвардейского рай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.Санкт - Петербур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-609840"/>
            <a:ext cx="815364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деятельности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по развитию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щей и мелкой моторики у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етей раннего возра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0674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Волшебные подушечки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863720"/>
            <a:ext cx="2743200" cy="377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27480" y="1828800"/>
            <a:ext cx="279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Застегивание и расстегивание пуговиц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2600" y="269712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0440" y="2697120"/>
            <a:ext cx="38145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альчиковые игр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rot="21142800">
            <a:off x="1471320" y="2433240"/>
            <a:ext cx="2535120" cy="3463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798600">
            <a:off x="4924440" y="2017800"/>
            <a:ext cx="30416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онструир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4240" y="298764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140440" y="2017800"/>
            <a:ext cx="38145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Шнуров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87520" y="2017800"/>
            <a:ext cx="3205080" cy="411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гры с прищепк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82600" y="269712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40440" y="2697120"/>
            <a:ext cx="38145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Закручивание и откручивание крыше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20340000">
            <a:off x="4800240" y="1904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 rot="612000">
            <a:off x="1253880" y="2293920"/>
            <a:ext cx="38145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низывание бу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82600" y="2271600"/>
            <a:ext cx="3814920" cy="3606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rot="20959200">
            <a:off x="5140080" y="2363760"/>
            <a:ext cx="38145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стоки способностей и дарований детей – на кончиках пальцев. От них идут тончайшие ручейки, которые питают источник творческой мысли.  Другими словами: чем больше мастерства в детской руке, тем умнее ребенок».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 В. А. Сухомлинский</a:t>
            </a:r>
            <a:br>
              <a:rPr sz="2800"/>
            </a:br>
            <a:br>
              <a:rPr sz="2000"/>
            </a:b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п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2600" y="269712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исов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2600" y="2238480"/>
            <a:ext cx="3814920" cy="3671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пплик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82600" y="2697120"/>
            <a:ext cx="3814920" cy="275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029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А так же…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готовление поделок из природного матери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асывание пипеткой во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летение косичек из ниток, венков из цве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тание между ладоней массажных мячи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ручивание ленточ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гры с предметами домашнего обиход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тание круглой щетки для волос между ладо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дьба пальцами в клеточках решетки для ракови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Полет пчелки»-пельменница это соты(ребенок пальцами изображает пчелку, которая перелетает из ячейки в ячейку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ладывание гороха из одной кружки в другу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бирание рассыпавшихся сп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обрать фасоль от горо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тание грецкого ореха между ладоня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ольшое значение в развитии общей и мелкой моторики у ребенка имеет семейное воспитание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мните, что чем «умнее» руки, тем умнее ваш ребёнок. Лишь благодаря совместному «общему делу» родителей и ребёнка получится хороший положительный результат.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abriola"/>
              </a:rPr>
              <a:t>СПАСИБО ЗА ВНИМАНИЕ</a:t>
            </a: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лкая моторика - 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утонченные движения руки. У взрослых она достигает разной степени развития: в зависимости от профессии, натренированности и т.п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ребенка это очень важно, поскольку влияет на темпы его психического развития и даже - формирование реч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685800"/>
            <a:ext cx="6324480" cy="54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даря развитию пальцев в мозгу формируется проекция «схемы человеческого тела», а  речевые реакции находятся в прямой зависимости от тренированности пальцев. Такую тренировку следует начинать с самого раннего де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я из оздоровительного воздействия на организм ребенка каждого из пальцев, помогайте ребенку координированно и ловко ими манипулировать. Обращайте внимание на овладение ребенком простыми, но в то же время жизненно важными умениями – держать чашку, ложку, карандаши, умываться. Например, если в четыре года он не умеет доносить в пригоршне воду до лица – значит, у него отстает в развитии мелкая мускула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елью работы по развитию мелкой моторики, является развитие взаимосвязи между полушариями головного мозга и синхронизация их работы. В правом полушарии у нас возникают различные образы предметов и явлений, а в левом они вербализируются, то есть находят словесное выражение, а происходит этот процесс благодаря «мостику» между правым и левым полушариями. Чем крепче этот мостик, тем быстрее и чаще по нему идут нервные импульсы, активнее мыслительные процессы, точнее внимание, выше способност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четать игры и упражнения для тренировки пальцев с речевой деятельностью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делать работу по совершенствованию пальчиковой моторики регулярной, выделив для нее оптимальное врем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твердить целесообразность проведения подобных зан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становить,  влияет ли развитие пальчиковой моторики на коррекцию звукопроизнош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высить интерес малышей к подобным упражнениям, превратив их в игр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ктуальност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детей  довольно часто наблюдается задержка  в развитии речи, хотя они здоровы, не страдают нарушениями слуха или поражениями центральной нервной системы. В чем причины задержки речи? Считается, что главное от чего зависит речь, - это степень речевого общения детей с окружающими  людьми: родители обычно получают совет – больше разговаривайте с ребенком. Они стараются говорить с малышом при каждой возможности, но он продолжает объясняться отдельными звуками и жест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блюдения показали, что уровень развития речи находится в прямой зависимости от степени сформированности тонких движений пальцев ру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29528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А. Сухомлинский говор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Ум ребенка находится на кончиках  его пальцев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Рука – это инструмент всех инструментов» - сказал еще Аристо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Рука – это своего рода внешний мозг» - писал К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тые движения помогают убрать напряжение не только с самих рук, но и расслабить мышцы всего тела. Чем лучше работают пальцы и вся кисть, тем лучше говорит 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итае распространены упражнения ладоней с каменными и металлическими шарами. Популярность занятий объясняется их оздоравливающим и тонизирующим организм эффектом. Регулярные упражнения с шарами улучшают память, умственные способности ребенка, устраняют его эмоциональное напряжение, улучшают деятельность сердечно-сосудистой   и   пищеварительной   систем, развивают координацию движений, силу и ловкость рук, поддерживают жизненный тонус и положительно сказываются на развитие речи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Японии широко используются упражнения для ладоней и пальцев с грецкими орехами. Прекрасное оздоравливающее и тонизирующее воздействие оказывает перекатывание между ладонями шестигранного каранд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ом нашей народной педагогики созданы игры «Ладушки», «Сорока-белобока», «Коза рогатая» и другие. Их значение до сих пор недостаточно осмыслено взрослыми. Многие родители видят в них развлекательное, а не развивающее, оздоравливающее воздействия.  Работы В.М. Бехтерева доказали влияние манипуляции рук на функции высшей нервной деятельности, развитие речи. Простые движения рук помогают убрать напряжение не только с самих рук, но и с губ, снимают умственную усталость. Развитие тонких движений пальцев рук предшествует появлению артикуляции слог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IRST</cp:lastModifiedBy>
  <dcterms:modified xsi:type="dcterms:W3CDTF">2013-05-03T16:25:4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