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35D-3360-4DCB-984D-ABF69478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5D2-26B0-4C3D-9B95-3B245C22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FC5-FDC8-4C06-9B38-6ACFFEDA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2EB-A4BF-4D65-8BB0-39CB9A92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F9E3-9919-4ADC-BAD2-53702A11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477A-EADA-45B9-9CE7-F9342FFF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3B90-90DD-49E2-A85D-073F1537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3E40-DB12-4AE8-BF58-0186B96F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1F0D-0838-48F3-AEC4-FC741F36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16EE-5DFA-4827-BE4B-97169CF7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DBD6-3BE7-4975-9E38-4CF5920B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2DB-20C1-41FA-8D9C-CCDFEF1A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61B1-6F5A-4692-8056-F0382782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9BE8-2EEE-41B2-8434-F6C9A14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28E5-0096-4BC7-8332-811E04E8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B008-7D54-45FF-8FC0-7044AE3A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33B4-B7D8-494A-A771-BB65D256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62E-3E8F-4CC9-B152-FA356D4F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D1A-33C0-400A-9822-87E9EC80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E74-DCD2-48F9-A868-0B9AF8F5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BD0-A94C-4F00-A99F-2E5C9C25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0F6-1858-4AE4-B4D8-4D01606A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A9A-151A-41AA-9989-DAD43B56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97A-5C48-4DAE-B6E9-C3EF8B12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D095-8449-49D8-8FE8-79AA08FC2F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95C0-28AF-4F85-89AF-A288A4979A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1523520"/>
            <a:ext cx="69343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Развитие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общей и  мелкой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оторики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у детей раннего возраста.</a:t>
            </a:r>
            <a:br>
              <a:rPr sz="36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58960" y="3581280"/>
            <a:ext cx="63324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уканова Наталья Викторовн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спитатель группы раннего возра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БДОУ детского сада №26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асногвардейского рай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.Санкт - Петербур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-609840"/>
            <a:ext cx="815364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деятельности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по развитию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щей и мелкой моторики у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тей раннего возра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0674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«Волшебные подушечки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863720"/>
            <a:ext cx="2743200" cy="377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27480" y="1828800"/>
            <a:ext cx="2797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Застегивание и расстегивание пуговиц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2600" y="2697120"/>
            <a:ext cx="3814920" cy="2754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40440" y="2697120"/>
            <a:ext cx="38145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альчиковые иг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 rot="21142800">
            <a:off x="1471320" y="2433240"/>
            <a:ext cx="2535120" cy="3463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 rot="798600">
            <a:off x="4924440" y="2017800"/>
            <a:ext cx="3041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онструир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4240" y="298764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140440" y="2017800"/>
            <a:ext cx="38145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Шнуров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87520" y="2017800"/>
            <a:ext cx="320508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гры с прищепк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2600" y="2697120"/>
            <a:ext cx="3814920" cy="275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40440" y="2697120"/>
            <a:ext cx="38145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Закручивание и откручивание крыше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20340000">
            <a:off x="4800240" y="19047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rot="612000">
            <a:off x="1253880" y="2293920"/>
            <a:ext cx="38145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низывание бу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2600" y="2271600"/>
            <a:ext cx="3814920" cy="3606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20959200">
            <a:off x="5140080" y="2363760"/>
            <a:ext cx="38145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стоки способностей и дарований детей – на кончиках пальцев. От них идут тончайшие ручейки, которые питают источник творческой мысли.  Другими словами: чем больше мастерства в детской руке, тем умнее ребенок».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В. А. Сухомлинский</a:t>
            </a:r>
            <a:br>
              <a:rPr sz="2800"/>
            </a:br>
            <a:br>
              <a:rPr sz="2000"/>
            </a:b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п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2600" y="2697120"/>
            <a:ext cx="3814920" cy="2754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ис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2600" y="2238480"/>
            <a:ext cx="3814920" cy="3671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пплика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82600" y="2697120"/>
            <a:ext cx="3814920" cy="2754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029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«А так же…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готовление поделок из природного материа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асывание пипеткой 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етение косичек из ниток, венков из цве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тание между ладоней массажных мяч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ручивание ленточ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гры с предметами домашнего обиход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тание круглой щетки для волос между ладон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дьба пальцами в клеточках решетки для ракови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Полет пчелки»-пельменница это соты(ребенок пальцами изображает пчелку, которая перелетает из ячейки в ячейку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ладывание гороха из одной кружки в другу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ирание рассыпавшихся спиче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обрать фасоль от горох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тание грецкого ореха между ладоня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ольшое значение в развитии общей и мелкой моторики у ребенка имеет семейное воспитание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мните, что чем «умнее» руки, тем умнее ваш ребёнок. Лишь благодаря совместному «общему делу» родителей и ребёнка получится хороший положительный результат.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abriola"/>
              </a:rPr>
              <a:t>СПАСИБО ЗА ВНИМАНИЕ</a:t>
            </a: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лкая моторика - 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утонченные движения руки. У взрослых она достигает разной степени развития: в зависимости от профессии, натренированности и т.п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ребенка это очень важно, поскольку влияет на темпы его психического развития и даже - формирование реч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685800"/>
            <a:ext cx="632448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я развитию пальцев в мозгу формируется проекция «схемы человеческого тела», а  речевые реакции находятся в прямой зависимости от тренированности пальцев. Такую тренировку следует начинать с самого раннего де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я из оздоровительного воздействия на организм ребенка каждого из пальцев, помогайте ребенку координированно и ловко ими манипулировать. Обращайте внимание на овладение ребенком простыми, но в то же время жизненно важными умениями – держать чашку, ложку, карандаши, умываться. Например, если в четыре года он не умеет доносить в пригоршне воду до лица – значит, у него отстает в развитии мелкая мускул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елью работы по развитию мелкой моторики, является развитие взаимосвязи между полушариями головного мозга и синхронизация их работы. В правом полушарии у нас возникают различные образы предметов и явлений, а в левом они вербализируются, то есть находят словесное выражение, а происходит этот процесс благодаря «мостику» между правым и левым полушариями. Чем крепче этот мостик, тем быстрее и чаще по нему идут нервные импульсы, активнее мыслительные процессы, точнее внимание, выше способност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четать игры и упражнения для тренировки пальцев с речевой деятельностью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делать работу по совершенствованию пальчиковой моторики регулярной, выделив для нее оптимальное врем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твердить целесообразность проведения подобных зан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становить,  влияет ли развитие пальчиковой моторики на коррекцию звукопроизнош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высить интерес малышей к подобным упражнениям, превратив их в игр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ктуальност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детей  довольно часто наблюдается задержка  в развитии речи, хотя они здоровы, не страдают нарушениями слуха или поражениями центральной нервной системы. В чем причины задержки речи? Считается, что главное от чего зависит речь, - это степень речевого общения детей с окружающими  людьми: родители обычно получают совет – больше разговаривайте с ребенком. Они стараются говорить с малышом при каждой возможности, но он продолжает объясняться отдельными звуками и жест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блюдения показали, что уровень развития речи находится в прямой зависимости от степени сформированности тонких движений пальцев ру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295280"/>
            <a:ext cx="701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А. Сухомлинский говор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Ум ребенка находится на кончиках  его пальцев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Рука – это инструмент всех инструментов» - сказал еще Аристо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Рука – это своего рода внешний мозг» - писал К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тые движения помогают убрать напряжение не только с самих рук, но и расслабить мышцы всего тела. Чем лучше работают пальцы и вся кисть, тем лучше говорит реб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итае распространены упражнения ладоней с каменными и металлическими шарами. Популярность занятий объясняется их оздоравливающим и тонизирующим организм эффектом. Регулярные упражнения с шарами улучшают память, умственные способности ребенка, устраняют его эмоциональное напряжение, улучшают деятельность сердечно-сосудистой   и   пищеварительной   систем, развивают координацию движений, силу и ловкость рук, поддерживают жизненный тонус и положительно сказываются на развитие реч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Японии широко используются упражнения для ладоней и пальцев с грецкими орехами. Прекрасное оздоравливающее и тонизирующее воздействие оказывает перекатывание между ладонями шестигранного каранд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антом нашей народной педагогики созданы игры «Ладушки», «Сорока-белобока», «Коза рогатая» и другие. Их значение до сих пор недостаточно осмыслено взрослыми. Многие родители видят в них развлекательное, а не развивающее, оздоравливающее воздействия.  Работы В.М. Бехтерева доказали влияние манипуляции рук на функции высшей нервной деятельности, развитие речи. Простые движения рук помогают убрать напряжение не только с самих рук, но и с губ, снимают умственную усталость. Развитие тонких движений пальцев рук предшествует появлению артикуляции слог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RST</cp:lastModifiedBy>
  <dcterms:modified xsi:type="dcterms:W3CDTF">2013-05-03T16:25:4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