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9C6-19B8-4931-BFAA-FDDA2D2F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DD6-ACBD-4007-B762-B138C77E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D9E-76A2-4FA0-B0BE-E72AA1D7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FFC-D57B-4EC9-95C1-D38FFB8F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8F6E-2481-4608-A86D-C7DC6257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9F42-9F5B-4AD9-8D6E-BABE1827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E703-8B83-4CD4-9548-172972DC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8FC2-B88D-4088-8949-62354B8B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A2F6-3D7F-4C59-8464-E712178C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B83C-B645-458C-B247-BE6FE765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F945-B076-4E7A-971E-8E4CB4FF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ADC-34FC-418B-BA4F-C004712E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2819-2DA8-40BF-8825-53F72EA2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B430-D230-4973-8912-0570906F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7E6F-6FC6-4759-A0F4-7D0D801C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63D0-0217-4240-BDA7-5DD8D26D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0769-3D77-4385-AFBB-30764387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449-B67A-4F78-AA66-36830B53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9C8-59DD-442E-B070-613F0372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DE1-5BD8-42E6-B4BE-05C4D7EC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313-B91B-497F-8285-0EAF841A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FD5-849A-4D78-AA3B-1A761BE9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742-AF22-4AD8-BF5C-7906E13E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EED-55FF-462C-ACBF-AFDF931C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411C-E61D-44D7-8FB4-4998B4A4D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CC32-DD69-4795-A677-777659F67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734688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E5E8-279D-4567-8182-060E283D66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52520" y="1197000"/>
            <a:ext cx="7182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рганизация работы младшего школьника на уроке в соответствии с требованиями ФГОС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4880" y="3789000"/>
            <a:ext cx="7867800" cy="1600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Методический р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065240" y="1125360"/>
            <a:ext cx="7129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: совершенствование профессиональных знаний педагогов, выявление общей эруд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 проведения - групповая работа (оппоненты, группы поддержки оппонентов и группа анали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60520" y="404640"/>
            <a:ext cx="8856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Методический ринг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ая форма организации методическ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357120"/>
            <a:ext cx="7790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тодика организации и проведения методического ринг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12880" y="1844640"/>
            <a:ext cx="6120000" cy="1752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ический ринг как разновидность дискуссии при наличии двух противоположных взглядов на вопро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на методическом ринге по теме «Школа без дисциплины что мельница без воды» (Я. А. Коменский) для дискуссии предлагается вопрос: «Как я добиваюсь дисциплины на уроке - переключением внимания учащихся на другой вид деятельности или мерами дисциплинарного порядка?». Заранее готовятся два оппонента. Каждый оппонент имеет группу поддержки, которая помогает своему лидеру в случае необходимости. Группа анализа оценивает уровень подготовки оппонентов, качество защиты определенной версии, подводит итог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57120"/>
            <a:ext cx="7790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ика организации и проведения методического ринг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80880" y="2112480"/>
            <a:ext cx="6551640" cy="17528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вариан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ический ринг как соревнование методических идей в реализации одной и той же проблемы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методический ринг по теме «Активизация познавательной деятельности учащихся на уроках» предполагает соревнование следующих методических иде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менение игровых зада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ользование активных форм обу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я группового взаимодействия учащих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ение роли самостоятельной работы учащихся в процессе обучения и т. 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ние методических идей завершается обобщающим вывод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8083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снове стандартов второго поколения лежит системно-деятельностный подх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56880" y="1773360"/>
            <a:ext cx="6048360" cy="1752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ние методических иде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ая реализация деятельностного подхода способствует более прочному усвоению знаний учащимися, возможность их самостоятельного движения в изучаемой обла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ледовательная реализация деятельностного подхода существенно повышает мотивацию и интерес к учению у обучаем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3-01-10T20:24:50Z</dcterms:modified>
  <cp:revision>39</cp:revision>
  <dc:subject/>
  <dc:title>Реализация требований стандартов второго поколения в системе  «Начальная школа XXI века»</dc:title>
</cp:coreProperties>
</file>