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616-57B5-4B6B-9CC4-482213DA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90A-31E3-4FFD-BBA7-642B0AAF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82E-C6A8-4487-929A-4FA1C3B6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940-9F37-4872-B2F7-FF35A41B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2BCB-8818-4173-9DBC-1B16A635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BBB8-C8D4-45DE-BFD3-1EB36F4A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BF2B-B97C-446C-9585-182F2F22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F685-2594-4C23-9AF6-0094E6A0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C21C-937C-4C22-9851-94059C8E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453B-A806-4140-94F3-0CC24F94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CBD5-6224-4BEB-B703-7503F57C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4D0-5878-4533-98D7-D54DE8CD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5EE6-30DD-48B8-ACF1-049F391E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2423-D967-44CA-83CE-07D0C13A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B342-A7B8-4690-92D9-CE5E2E09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5743-C8CD-45F4-976F-8308D38E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4DD5-EDF2-43B8-A78F-DB6A3701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18C-9D5F-42B1-B955-DEBEBA6C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E33-6308-40F9-BD90-B44A3666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B92C-32C9-4886-A81B-0B1A608F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3097-EC44-4DED-8A2E-DFCE2B00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74B-48C0-44A2-8FFA-2F4EE588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D6C-4A2C-4AA2-BC21-14981B64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8A7-89C6-4295-BD90-A356AFE5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8DAA-8033-4ACB-952C-05A3714E6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09B0-10C5-4C23-9A8E-A3D23DDFD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734688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8B01-6622-4484-A232-7D2E06B7E44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52520" y="1197000"/>
            <a:ext cx="7182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рганизация работы младшего школьника на уроке в соответствии с требованиями ФГОС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4880" y="3789000"/>
            <a:ext cx="7867800" cy="1600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Методический р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065240" y="1125360"/>
            <a:ext cx="712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совершенствование профессиональных знаний педагогов, выявление общей эруд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 проведения - групповая работа (оппоненты, группы поддержки оппонентов и группа анали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560520" y="404640"/>
            <a:ext cx="8856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Методический ринг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ая форма организации методическ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357120"/>
            <a:ext cx="7790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тодика организации и проведения методического ринг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12880" y="1844640"/>
            <a:ext cx="6120000" cy="17524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ический ринг как разновидность дискуссии при наличии двух противоположных взглядов на вопро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на методическом ринге по теме «Школа без дисциплины что мельница без воды» (Я. А. Коменский) для дискуссии предлагается вопрос: «Как я добиваюсь дисциплины на уроке - переключением внимания учащихся на другой вид деятельности или мерами дисциплинарного порядка?». Заранее готовятся два оппонента. Каждый оппонент имеет группу поддержки, которая помогает своему лидеру в случае необходимости. Группа анализа оценивает уровень подготовки оппонентов, качество защиты определенной версии, подводит итог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57120"/>
            <a:ext cx="7790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ика организации и проведения методического ринг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80880" y="2112480"/>
            <a:ext cx="6551640" cy="17528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вариан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ический ринг как соревнование методических идей в реализации одной и той же проблемы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методический ринг по теме «Активизация познавательной деятельности учащихся на уроках» предполагает соревнование следующих методических иде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енение игровых зада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ование активных форм обуч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зация группового взаимодействия учащих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ышение роли самостоятельной работы учащихся в процессе обучения и т. 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евнование методических идей завершается обобщающим вывод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808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основе стандартов второго поколения лежит системно-деятельностный подх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856880" y="1773360"/>
            <a:ext cx="6048360" cy="17524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евнование методических иде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ая реализация деятельностного подхода способствует более прочному усвоению знаний учащимися, возможность их самостоятельного движения в изучаемой обла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ледовательная реализация деятельностного подхода существенно повышает мотивацию и интерес к учению у обучаем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3-01-10T20:24:50Z</dcterms:modified>
  <cp:revision>39</cp:revision>
  <dc:subject/>
  <dc:title>Реализация требований стандартов второго поколения в системе  «Начальная школа XXI века»</dc:title>
</cp:coreProperties>
</file>