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4BF-AEFD-4898-833D-BB737D69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39640" y="393696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60F-BE24-4C34-BE85-E41571F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004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831-8021-45C5-9109-13D90B70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912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69896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3964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01912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69896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CFE-9E29-4D6E-BEAA-35816870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A00-C2FC-4090-967A-50F67C64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F0A-0514-482A-BEC9-98D8FDA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176-04AA-4CC5-B16C-7265769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7BB-1D75-413E-8DBE-C1E9900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15840" y="117360"/>
            <a:ext cx="4592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BB1-7633-4620-81C2-443EC34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3BD-4643-46A7-B99E-5C290154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004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47A-B87D-4784-BD20-AB238D8D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23-3E11-4CD9-93BB-2BBE2FF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.xml"/><Relationship Id="rId10" Type="http://schemas.openxmlformats.org/officeDocument/2006/relationships/slide" Target="slide14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6237360"/>
            <a:ext cx="9323280" cy="1443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4"/>
          <p:cNvSpPr/>
          <p:nvPr/>
        </p:nvSpPr>
        <p:spPr>
          <a:xfrm>
            <a:off x="0" y="0"/>
            <a:ext cx="9864720" cy="765000"/>
          </a:xfrm>
          <a:custGeom>
            <a:avLst/>
            <a:gdLst>
              <a:gd name="textAreaLeft" fmla="*/ 0 w 9864720"/>
              <a:gd name="textAreaRight" fmla="*/ 4932360 w 98647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2892" h="1000">
                <a:moveTo>
                  <a:pt x="0" y="0"/>
                </a:moveTo>
                <a:lnTo>
                  <a:pt x="12391" y="0"/>
                </a:lnTo>
                <a:cubicBezTo>
                  <a:pt x="12668" y="0"/>
                  <a:pt x="12892" y="223"/>
                  <a:pt x="12892" y="500"/>
                </a:cubicBezTo>
                <a:cubicBezTo>
                  <a:pt x="12892" y="776"/>
                  <a:pt x="12668" y="999"/>
                  <a:pt x="12392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E07-136F-40F0-8FCC-0D783A9E5533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2EF-7560-4032-979D-D821226FA9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34920" y="98100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Глав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Основные свед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Методическая рабо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5" action="ppaction://hlinksldjump"/>
              </a:rPr>
              <a:t>Результат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6" action="ppaction://hlinksldjump"/>
              </a:rPr>
              <a:t>Учебно-материальная б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7" action="ppaction://hlinksldjump"/>
              </a:rPr>
              <a:t>Достиж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8" action="ppaction://hlinksldjump"/>
              </a:rPr>
              <a:t>Другое (вписать своё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2987640" y="83664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9" action="ppaction://hlinksldjump"/>
              </a:rPr>
              <a:t>Главная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10" action="ppaction://hlinksldjump"/>
              </a:rPr>
              <a:t>Карта портфоли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11" action="ppaction://hlinksldjump"/>
              </a:rPr>
              <a:t>Фотоальбо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Награды                    Ссыл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5"/>
          <p:cNvSpPr/>
          <p:nvPr/>
        </p:nvSpPr>
        <p:spPr>
          <a:xfrm>
            <a:off x="2484360" y="836640"/>
            <a:ext cx="6046920" cy="21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C3BE-96BA-4989-820F-B80E458BB71C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47244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варцкоп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тьяна Александров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КОУ ДОД «Центр детского творчеств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.п. Большеречь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:\картинки и фото\шварцкопф т.а\SDC15842.JPG"/>
          <p:cNvPicPr/>
          <p:nvPr/>
        </p:nvPicPr>
        <p:blipFill>
          <a:blip r:embed="rId1"/>
          <a:stretch/>
        </p:blipFill>
        <p:spPr>
          <a:xfrm>
            <a:off x="6804000" y="1268280"/>
            <a:ext cx="2232000" cy="28828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9AA4-790B-4E0A-A2C1-0EE72EE8333E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Picture 5" descr="C:\Users\Max\Desktop\Сертификат Шварцкопф.jpg"/>
          <p:cNvPicPr/>
          <p:nvPr/>
        </p:nvPicPr>
        <p:blipFill>
          <a:blip r:embed="rId1"/>
          <a:stretch/>
        </p:blipFill>
        <p:spPr>
          <a:xfrm>
            <a:off x="2987640" y="1197000"/>
            <a:ext cx="3745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734-C979-43DF-88D4-9CA185EA5E40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 «Диалог»  2011 го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6" descr="G:\2013-04-01\Сохранить0020.JPG"/>
          <p:cNvPicPr/>
          <p:nvPr/>
        </p:nvPicPr>
        <p:blipFill>
          <a:blip r:embed="rId1"/>
          <a:stretch/>
        </p:blipFill>
        <p:spPr>
          <a:xfrm>
            <a:off x="3276720" y="1989000"/>
            <a:ext cx="3528720" cy="417672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4971-D869-400E-9F9A-FFC2B8EC84B9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КВАЛИФИКАЦИИ 2007 го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698920" y="1989000"/>
            <a:ext cx="5618160" cy="3600360"/>
            <a:chOff x="2698920" y="1989000"/>
            <a:chExt cx="5618160" cy="3600360"/>
          </a:xfrm>
        </p:grpSpPr>
        <p:sp>
          <p:nvSpPr>
            <p:cNvPr id="105" name="Rectangle 5"/>
            <p:cNvSpPr/>
            <p:nvPr/>
          </p:nvSpPr>
          <p:spPr>
            <a:xfrm>
              <a:off x="2698920" y="1989000"/>
              <a:ext cx="5618160" cy="3600360"/>
            </a:xfrm>
            <a:prstGeom prst="rect">
              <a:avLst/>
            </a:prstGeom>
            <a:solidFill>
              <a:srgbClr val="efebdd"/>
            </a:solidFill>
            <a:ln w="57240">
              <a:solidFill>
                <a:srgbClr val="d0c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5508720" y="1989000"/>
              <a:ext cx="0" cy="3600360"/>
            </a:xfrm>
            <a:prstGeom prst="line">
              <a:avLst/>
            </a:prstGeom>
            <a:ln w="76320">
              <a:solidFill>
                <a:srgbClr val="d0c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8" descr="G:\Свидетельство.JPG"/>
          <p:cNvPicPr/>
          <p:nvPr/>
        </p:nvPicPr>
        <p:blipFill>
          <a:blip r:embed="rId1"/>
          <a:stretch/>
        </p:blipFill>
        <p:spPr>
          <a:xfrm>
            <a:off x="2700360" y="1989000"/>
            <a:ext cx="5616720" cy="35798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01BA-51A0-4357-88F2-A79CBB7C8139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КВАЛИФИКАЦИИ 201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7" descr="G:\работа\2013-03-28\Сохранить0002.JPG"/>
          <p:cNvPicPr/>
          <p:nvPr/>
        </p:nvPicPr>
        <p:blipFill>
          <a:blip r:embed="rId1"/>
          <a:stretch/>
        </p:blipFill>
        <p:spPr>
          <a:xfrm>
            <a:off x="2665440" y="1989000"/>
            <a:ext cx="4930920" cy="34927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B453-1030-419E-A9B5-B324D295B7AB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ПОРТФОЛИ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19640" y="2205000"/>
            <a:ext cx="172872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тодическая раб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руг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291280" y="22114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рта портфол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0C2D-0292-4C30-B483-BD889B66036C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124000" y="1916280"/>
            <a:ext cx="6624720" cy="27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КВАЛ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овой стаж 22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КВАЛ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шла курсы повышения квалификации ООИПКРО при кафедре педагогики и психологии по теме «Внеурочная деятельность в образовательном учреждение по социальному направлению» в объёме 72 часа. Омск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CC4-FDBA-4B76-A9EA-4C085BCFF137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ПЕДАГОГИЧЕСКОЙ ДЕЯ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124000" y="1916280"/>
            <a:ext cx="662472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а и реализую программу «Тряпичный гном» для воспитанников 7-12 лет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ой программы является создание условий для творческого развития каждого ребёнка через создание поделки собственными руками, что служит  общему развитию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де реализации программы дети знакомятся с различными видами художественно- прикладного творчества. У воспитанников развиваются практические умения и навыки, самостоятельность, трудолюбие, аккурат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а комплект наглядных пособий и методической литературы для педагогов и воспитан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есёлый зоопарк»(2010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ыплёнок Цыпа»(2012г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обрые игрушки своими руками» (2013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A00-59C9-464A-95B5-C34B7D952A9B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-МЕТОДИЧЕСКАЯ БА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0920" y="1557360"/>
            <a:ext cx="669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286000" y="1628640"/>
            <a:ext cx="457200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179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ическая баз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ическая литература для теоретических и практических занят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ка открытых занят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итература и печатные издания в помощь обучающимся для самостоятельной рабо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дактическая баз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зцы издел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ологические карты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ки для аппликац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кройки, лекала, шабло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ому учащемуся необходимо иметь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бор иг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ит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кан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лей ПВА, клей «Момент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ая поддержк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дительская поддержк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ставка- продаж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071-E469-4B4D-AAD0-1878B157C06D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 выставке «Мир твоих увлечени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6" descr="G:\фотки мир твоих увлечений\SDC14064.JPG"/>
          <p:cNvPicPr/>
          <p:nvPr/>
        </p:nvPicPr>
        <p:blipFill>
          <a:blip r:embed="rId1"/>
          <a:stretch/>
        </p:blipFill>
        <p:spPr>
          <a:xfrm>
            <a:off x="0" y="3500280"/>
            <a:ext cx="356400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Max\Desktop\Фото040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Max\Desktop\Фото0576.jpg"/>
          <p:cNvPicPr/>
          <p:nvPr/>
        </p:nvPicPr>
        <p:blipFill>
          <a:blip r:embed="rId3"/>
          <a:stretch/>
        </p:blipFill>
        <p:spPr>
          <a:xfrm>
            <a:off x="3708360" y="1773360"/>
            <a:ext cx="2448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4C3-9DA3-48E5-887F-040E6F09F457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G:\работа\001_ю.jpg"/>
          <p:cNvPicPr/>
          <p:nvPr/>
        </p:nvPicPr>
        <p:blipFill>
          <a:blip r:embed="rId1"/>
          <a:stretch/>
        </p:blipFill>
        <p:spPr>
          <a:xfrm>
            <a:off x="179280" y="3645000"/>
            <a:ext cx="3384720" cy="243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G:\работа\Изображение 114.jpg"/>
          <p:cNvPicPr/>
          <p:nvPr/>
        </p:nvPicPr>
        <p:blipFill>
          <a:blip r:embed="rId2"/>
          <a:stretch/>
        </p:blipFill>
        <p:spPr>
          <a:xfrm>
            <a:off x="6300720" y="342900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G:\работа\Изображение 116.jpg"/>
          <p:cNvPicPr/>
          <p:nvPr/>
        </p:nvPicPr>
        <p:blipFill>
          <a:blip r:embed="rId3"/>
          <a:stretch/>
        </p:blipFill>
        <p:spPr>
          <a:xfrm>
            <a:off x="2700360" y="1557360"/>
            <a:ext cx="3384360" cy="201456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D68-BB85-4F5E-BA8E-91CB7D8003F0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9" name="Picture 9" descr="G:\работа\100_1889.jpg"/>
          <p:cNvPicPr/>
          <p:nvPr/>
        </p:nvPicPr>
        <p:blipFill>
          <a:blip r:embed="rId1"/>
          <a:stretch/>
        </p:blipFill>
        <p:spPr>
          <a:xfrm>
            <a:off x="1619280" y="1413000"/>
            <a:ext cx="3313080" cy="240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:\картинки и фото\куклы\Фото0148.jpg"/>
          <p:cNvPicPr/>
          <p:nvPr/>
        </p:nvPicPr>
        <p:blipFill>
          <a:blip r:embed="rId2"/>
          <a:stretch/>
        </p:blipFill>
        <p:spPr>
          <a:xfrm>
            <a:off x="5364000" y="1700280"/>
            <a:ext cx="2880000" cy="424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D:\маме\шварцкопф\SAM_0997.JPG"/>
          <p:cNvPicPr/>
          <p:nvPr/>
        </p:nvPicPr>
        <p:blipFill>
          <a:blip r:embed="rId3"/>
          <a:stretch/>
        </p:blipFill>
        <p:spPr>
          <a:xfrm>
            <a:off x="154764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BD6-3E63-41D4-90F6-4FB25BB2C08E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12" descr="G:\Сканировать10079.JPG"/>
          <p:cNvPicPr/>
          <p:nvPr/>
        </p:nvPicPr>
        <p:blipFill>
          <a:blip r:embed="rId1"/>
          <a:stretch/>
        </p:blipFill>
        <p:spPr>
          <a:xfrm>
            <a:off x="6516720" y="3429000"/>
            <a:ext cx="18842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G:\Сканировать10078.JPG"/>
          <p:cNvPicPr/>
          <p:nvPr/>
        </p:nvPicPr>
        <p:blipFill>
          <a:blip r:embed="rId2"/>
          <a:stretch/>
        </p:blipFill>
        <p:spPr>
          <a:xfrm>
            <a:off x="4356000" y="2492280"/>
            <a:ext cx="2016360" cy="266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G:\работа\2013-03-28\Сохранить0003.JPG"/>
          <p:cNvPicPr/>
          <p:nvPr/>
        </p:nvPicPr>
        <p:blipFill>
          <a:blip r:embed="rId3"/>
          <a:stretch/>
        </p:blipFill>
        <p:spPr>
          <a:xfrm>
            <a:off x="2124000" y="1557360"/>
            <a:ext cx="2160720" cy="2620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3D1-A616-46D8-A580-92CFBEE1B2D9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7" descr="G:\работа\2013-03-28\Сохранить0006.JPG"/>
          <p:cNvPicPr/>
          <p:nvPr/>
        </p:nvPicPr>
        <p:blipFill>
          <a:blip r:embed="rId1"/>
          <a:stretch/>
        </p:blipFill>
        <p:spPr>
          <a:xfrm>
            <a:off x="1692360" y="1052640"/>
            <a:ext cx="23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G:\работа\2013-03-28\Сохранить0005.JPG"/>
          <p:cNvPicPr/>
          <p:nvPr/>
        </p:nvPicPr>
        <p:blipFill>
          <a:blip r:embed="rId2"/>
          <a:stretch/>
        </p:blipFill>
        <p:spPr>
          <a:xfrm>
            <a:off x="4140360" y="1989000"/>
            <a:ext cx="223200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G:\работа\2013-03-28\Сохранить0007.JPG"/>
          <p:cNvPicPr/>
          <p:nvPr/>
        </p:nvPicPr>
        <p:blipFill>
          <a:blip r:embed="rId3"/>
          <a:stretch/>
        </p:blipFill>
        <p:spPr>
          <a:xfrm>
            <a:off x="6518160" y="2852640"/>
            <a:ext cx="2352960" cy="3160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10:54Z</dcterms:created>
  <dc:creator>MZ</dc:creator>
  <dc:description/>
  <dc:language>en-US</dc:language>
  <cp:lastModifiedBy>Max</cp:lastModifiedBy>
  <dcterms:modified xsi:type="dcterms:W3CDTF">2013-05-03T11:07:43Z</dcterms:modified>
  <cp:revision>159</cp:revision>
  <dc:subject/>
  <dc:title>Слайд 1</dc:title>
</cp:coreProperties>
</file>