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1753-36FB-437B-9C98-C3BFA48A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39640" y="393696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A1F-9D86-4406-B973-87209618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004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D09-1DB1-45BE-8943-4CB83FB6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1912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698960" y="162828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33964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01912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698960" y="393696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09B-45B1-471E-8F17-97A5A678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A0B-9963-49CA-AD06-660A4850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E33-4AA1-4D2D-A01C-CC6D667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998-CE68-42E7-AC90-C15ADAFE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339-729E-43D5-B280-3753100E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15840" y="117360"/>
            <a:ext cx="4592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D1-0E31-4D53-8E12-0A4130A4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4D4-240F-44AB-8B39-8A67D81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00440" y="393696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941-1EC7-467F-906F-BE76D60D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3396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00440" y="162828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339640" y="393696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447-C98A-4288-958A-94EF6C4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.xml"/><Relationship Id="rId10" Type="http://schemas.openxmlformats.org/officeDocument/2006/relationships/slide" Target="slide14.xml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6237360"/>
            <a:ext cx="9323280" cy="1443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4"/>
          <p:cNvSpPr/>
          <p:nvPr/>
        </p:nvSpPr>
        <p:spPr>
          <a:xfrm>
            <a:off x="0" y="0"/>
            <a:ext cx="9864720" cy="765000"/>
          </a:xfrm>
          <a:custGeom>
            <a:avLst/>
            <a:gdLst>
              <a:gd name="textAreaLeft" fmla="*/ 0 w 9864720"/>
              <a:gd name="textAreaRight" fmla="*/ 4932360 w 98647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2892" h="1000">
                <a:moveTo>
                  <a:pt x="0" y="0"/>
                </a:moveTo>
                <a:lnTo>
                  <a:pt x="12391" y="0"/>
                </a:lnTo>
                <a:cubicBezTo>
                  <a:pt x="12668" y="0"/>
                  <a:pt x="12892" y="223"/>
                  <a:pt x="12892" y="500"/>
                </a:cubicBezTo>
                <a:cubicBezTo>
                  <a:pt x="12892" y="776"/>
                  <a:pt x="12668" y="999"/>
                  <a:pt x="12392" y="1000"/>
                </a:cubicBezTo>
                <a:lnTo>
                  <a:pt x="0" y="1000"/>
                </a:lnTo>
                <a:close/>
              </a:path>
            </a:pathLst>
          </a:cu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33964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32C3-61F8-4B08-BD25-3987DD6FA7EF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9F2-2FB0-4A30-A8F7-2335FE42C5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34920" y="981000"/>
            <a:ext cx="1728720" cy="14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Глав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Основные свед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Методическая рабо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5" action="ppaction://hlinksldjump"/>
              </a:rPr>
              <a:t>Результат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6" action="ppaction://hlinksldjump"/>
              </a:rPr>
              <a:t>Учебно-материальная б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7" action="ppaction://hlinksldjump"/>
              </a:rPr>
              <a:t>Достиж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996666"/>
                </a:solidFill>
                <a:uFillTx/>
                <a:latin typeface="Arial"/>
                <a:hlinkClick r:id="rId8" action="ppaction://hlinksldjump"/>
              </a:rPr>
              <a:t>Другое (вписать своё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4"/>
          <p:cNvSpPr/>
          <p:nvPr/>
        </p:nvSpPr>
        <p:spPr>
          <a:xfrm>
            <a:off x="2987640" y="836640"/>
            <a:ext cx="590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9" action="ppaction://hlinksldjump"/>
              </a:rPr>
              <a:t>Главная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10" action="ppaction://hlinksldjump"/>
              </a:rPr>
              <a:t>Карта портфоли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800" spc="-1" strike="noStrike" u="sng">
                <a:solidFill>
                  <a:srgbClr val="996666"/>
                </a:solidFill>
                <a:uFillTx/>
                <a:latin typeface="Arial"/>
                <a:hlinkClick r:id="rId11" action="ppaction://hlinksldjump"/>
              </a:rPr>
              <a:t>Фотоальбо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              Награды                    Ссыл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5"/>
          <p:cNvSpPr/>
          <p:nvPr/>
        </p:nvSpPr>
        <p:spPr>
          <a:xfrm>
            <a:off x="2484360" y="836640"/>
            <a:ext cx="6046920" cy="2160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1A77-0B05-428F-BBD4-921AE818E520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47244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варцкоп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тьяна Александров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дагог дополнительного образ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КОУ ДОД «Центр детского творчеств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.п. Большеречь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D:\картинки и фото\шварцкопф т.а\SDC15842.JPG"/>
          <p:cNvPicPr/>
          <p:nvPr/>
        </p:nvPicPr>
        <p:blipFill>
          <a:blip r:embed="rId1"/>
          <a:stretch/>
        </p:blipFill>
        <p:spPr>
          <a:xfrm>
            <a:off x="6804000" y="1268280"/>
            <a:ext cx="2232000" cy="28828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154F-289E-4ABA-9406-10E31408826B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6" name="Picture 5" descr="C:\Users\Max\Desktop\Сертификат Шварцкопф.jpg"/>
          <p:cNvPicPr/>
          <p:nvPr/>
        </p:nvPicPr>
        <p:blipFill>
          <a:blip r:embed="rId1"/>
          <a:stretch/>
        </p:blipFill>
        <p:spPr>
          <a:xfrm>
            <a:off x="2987640" y="1197000"/>
            <a:ext cx="3745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597-D30F-4C09-AF76-CA5D364C760A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 «Диалог»  2011 го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6" descr="G:\2013-04-01\Сохранить0020.JPG"/>
          <p:cNvPicPr/>
          <p:nvPr/>
        </p:nvPicPr>
        <p:blipFill>
          <a:blip r:embed="rId1"/>
          <a:stretch/>
        </p:blipFill>
        <p:spPr>
          <a:xfrm>
            <a:off x="3276720" y="1989000"/>
            <a:ext cx="3528720" cy="4176720"/>
          </a:xfrm>
          <a:prstGeom prst="rect">
            <a:avLst/>
          </a:prstGeom>
          <a:ln w="0">
            <a:noFill/>
          </a:ln>
        </p:spPr>
      </p:pic>
    </p:spTree>
  </p:cSld>
  <p:transition advTm="6000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15BD-6895-4C40-BCEB-E36C561D3CDC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КВАЛИФИКАЦИИ 2007 го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2698920" y="1989000"/>
            <a:ext cx="5618160" cy="3600360"/>
            <a:chOff x="2698920" y="1989000"/>
            <a:chExt cx="5618160" cy="3600360"/>
          </a:xfrm>
        </p:grpSpPr>
        <p:sp>
          <p:nvSpPr>
            <p:cNvPr id="105" name="Rectangle 5"/>
            <p:cNvSpPr/>
            <p:nvPr/>
          </p:nvSpPr>
          <p:spPr>
            <a:xfrm>
              <a:off x="2698920" y="1989000"/>
              <a:ext cx="5618160" cy="3600360"/>
            </a:xfrm>
            <a:prstGeom prst="rect">
              <a:avLst/>
            </a:prstGeom>
            <a:solidFill>
              <a:srgbClr val="efebdd"/>
            </a:solidFill>
            <a:ln w="57240">
              <a:solidFill>
                <a:srgbClr val="d0c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"/>
            <p:cNvSpPr/>
            <p:nvPr/>
          </p:nvSpPr>
          <p:spPr>
            <a:xfrm>
              <a:off x="5508720" y="1989000"/>
              <a:ext cx="0" cy="3600360"/>
            </a:xfrm>
            <a:prstGeom prst="line">
              <a:avLst/>
            </a:prstGeom>
            <a:ln w="76320">
              <a:solidFill>
                <a:srgbClr val="d0c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8" descr="G:\Свидетельство.JPG"/>
          <p:cNvPicPr/>
          <p:nvPr/>
        </p:nvPicPr>
        <p:blipFill>
          <a:blip r:embed="rId1"/>
          <a:stretch/>
        </p:blipFill>
        <p:spPr>
          <a:xfrm>
            <a:off x="2700360" y="1989000"/>
            <a:ext cx="5616720" cy="3579840"/>
          </a:xfrm>
          <a:prstGeom prst="rect">
            <a:avLst/>
          </a:prstGeom>
          <a:ln w="0">
            <a:noFill/>
          </a:ln>
        </p:spPr>
      </p:pic>
    </p:spTree>
  </p:cSld>
  <p:transition advTm="4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D46E-D300-48A3-A40C-530174C7A1A4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КВАЛИФИКАЦИИ 201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1" name="Picture 7" descr="G:\работа\2013-03-28\Сохранить0002.JPG"/>
          <p:cNvPicPr/>
          <p:nvPr/>
        </p:nvPicPr>
        <p:blipFill>
          <a:blip r:embed="rId1"/>
          <a:stretch/>
        </p:blipFill>
        <p:spPr>
          <a:xfrm>
            <a:off x="2665440" y="1989000"/>
            <a:ext cx="4930920" cy="34927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761-7C11-4C6B-B7F3-B6F7D9F62D20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ПОРТФОЛИ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19640" y="2205000"/>
            <a:ext cx="172872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етодическая раб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руг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291280" y="2211480"/>
            <a:ext cx="136836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рта портфоли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7951-BC05-4F34-B3F2-462E215DA3C2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124000" y="1916280"/>
            <a:ext cx="6624720" cy="27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КВАЛ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овой стаж 22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ЫШЕНИЕ КВАЛ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шла курсы повышения квалификации ООИПКРО при кафедре педагогики и психологии по теме «Внеурочная деятельность в образовательном учреждение по социальному направлению» в объёме 72 часа. Омск.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D72-6696-4027-A462-8DF3FE8CAC1B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ПЕДАГОГИЧЕСКОЙ ДЕЯТЕЛЬНОСТ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124000" y="1916280"/>
            <a:ext cx="662472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а и реализую программу «Тряпичный гном» для воспитанников 7-12 лет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ой программы является создание условий для творческого развития каждого ребёнка через создание поделки собственными руками, что служит  общему развитию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ходе реализации программы дети знакомятся с различными видами художественно- прикладного творчества. У воспитанников развиваются практические умения и навыки, самостоятельность, трудолюбие, аккурат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работала комплект наглядных пособий и методической литературы для педагогов и воспитанни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есёлый зоопарк»(2010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Цыплёнок Цыпа»(2012г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обрые игрушки своими руками» (2013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2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DDD2-1E79-4A86-BB2C-F3598B59F9F6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БНО-МЕТОДИЧЕСКАЯ БАЗ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050920" y="1557360"/>
            <a:ext cx="669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8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286000" y="1628640"/>
            <a:ext cx="457200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179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ическая баз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тодическая литература для теоретических и практических занят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ка открытых занят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итература и печатные издания в помощь обучающимся для самостоятельной рабо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идактическая баз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бразцы издел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ологические карты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ки для аппликаций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кройки, лекала, шабло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ждому учащемуся необходимо иметь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бор иг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ожниц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ит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кань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лей ПВА, клей «Момент»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инансовая поддержк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дительская поддержка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ставка- продаж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03D6-DA50-4092-A832-9804AFE28140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100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ка к выставке «Мир твоих увлечени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6" descr="G:\фотки мир твоих увлечений\SDC14064.JPG"/>
          <p:cNvPicPr/>
          <p:nvPr/>
        </p:nvPicPr>
        <p:blipFill>
          <a:blip r:embed="rId1"/>
          <a:stretch/>
        </p:blipFill>
        <p:spPr>
          <a:xfrm>
            <a:off x="0" y="3500280"/>
            <a:ext cx="3564000" cy="27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Max\Desktop\Фото040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Max\Desktop\Фото0576.jpg"/>
          <p:cNvPicPr/>
          <p:nvPr/>
        </p:nvPicPr>
        <p:blipFill>
          <a:blip r:embed="rId3"/>
          <a:stretch/>
        </p:blipFill>
        <p:spPr>
          <a:xfrm>
            <a:off x="3708360" y="1773360"/>
            <a:ext cx="244800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03280" y="119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484F-6931-4846-B8F5-06F3EFFF0C25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G:\работа\001_ю.jpg"/>
          <p:cNvPicPr/>
          <p:nvPr/>
        </p:nvPicPr>
        <p:blipFill>
          <a:blip r:embed="rId1"/>
          <a:stretch/>
        </p:blipFill>
        <p:spPr>
          <a:xfrm>
            <a:off x="179280" y="3645000"/>
            <a:ext cx="3384720" cy="243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G:\работа\Изображение 114.jpg"/>
          <p:cNvPicPr/>
          <p:nvPr/>
        </p:nvPicPr>
        <p:blipFill>
          <a:blip r:embed="rId2"/>
          <a:stretch/>
        </p:blipFill>
        <p:spPr>
          <a:xfrm>
            <a:off x="6300720" y="342900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G:\работа\Изображение 116.jpg"/>
          <p:cNvPicPr/>
          <p:nvPr/>
        </p:nvPicPr>
        <p:blipFill>
          <a:blip r:embed="rId3"/>
          <a:stretch/>
        </p:blipFill>
        <p:spPr>
          <a:xfrm>
            <a:off x="2700360" y="1557360"/>
            <a:ext cx="3384360" cy="2014560"/>
          </a:xfrm>
          <a:prstGeom prst="rect">
            <a:avLst/>
          </a:prstGeom>
          <a:ln w="0">
            <a:noFill/>
          </a:ln>
        </p:spPr>
      </p:pic>
    </p:spTree>
  </p:cSld>
  <p:transition advTm="1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89D-A025-4626-BCAA-B857CF8E219F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АЛЬБО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9" name="Picture 9" descr="G:\работа\100_1889.jpg"/>
          <p:cNvPicPr/>
          <p:nvPr/>
        </p:nvPicPr>
        <p:blipFill>
          <a:blip r:embed="rId1"/>
          <a:stretch/>
        </p:blipFill>
        <p:spPr>
          <a:xfrm>
            <a:off x="1619280" y="1413000"/>
            <a:ext cx="3313080" cy="2403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D:\картинки и фото\куклы\Фото0148.jpg"/>
          <p:cNvPicPr/>
          <p:nvPr/>
        </p:nvPicPr>
        <p:blipFill>
          <a:blip r:embed="rId2"/>
          <a:stretch/>
        </p:blipFill>
        <p:spPr>
          <a:xfrm>
            <a:off x="5364000" y="1700280"/>
            <a:ext cx="2880000" cy="424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D:\маме\шварцкопф\SAM_0997.JPG"/>
          <p:cNvPicPr/>
          <p:nvPr/>
        </p:nvPicPr>
        <p:blipFill>
          <a:blip r:embed="rId3"/>
          <a:stretch/>
        </p:blipFill>
        <p:spPr>
          <a:xfrm>
            <a:off x="154764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0DAF-0940-4AD5-BF61-5B98E0776E3B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5" name="Picture 12" descr="G:\Сканировать10079.JPG"/>
          <p:cNvPicPr/>
          <p:nvPr/>
        </p:nvPicPr>
        <p:blipFill>
          <a:blip r:embed="rId1"/>
          <a:stretch/>
        </p:blipFill>
        <p:spPr>
          <a:xfrm>
            <a:off x="6516720" y="3429000"/>
            <a:ext cx="1884240" cy="266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G:\Сканировать10078.JPG"/>
          <p:cNvPicPr/>
          <p:nvPr/>
        </p:nvPicPr>
        <p:blipFill>
          <a:blip r:embed="rId2"/>
          <a:stretch/>
        </p:blipFill>
        <p:spPr>
          <a:xfrm>
            <a:off x="4356000" y="2492280"/>
            <a:ext cx="2016360" cy="266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G:\работа\2013-03-28\Сохранить0003.JPG"/>
          <p:cNvPicPr/>
          <p:nvPr/>
        </p:nvPicPr>
        <p:blipFill>
          <a:blip r:embed="rId3"/>
          <a:stretch/>
        </p:blipFill>
        <p:spPr>
          <a:xfrm>
            <a:off x="2124000" y="1557360"/>
            <a:ext cx="2160720" cy="2620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3"/>
          <p:cNvSpPr/>
          <p:nvPr/>
        </p:nvSpPr>
        <p:spPr>
          <a:xfrm>
            <a:off x="46836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3A91-133C-4D52-B237-9CC64BBA6AA7}" type="datetime">
              <a:rPr b="1" i="1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68000" y="1125360"/>
            <a:ext cx="6472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РА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715840" y="117360"/>
            <a:ext cx="4592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ОРТФОЛИО ПЕДАГОГА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7" descr="G:\работа\2013-03-28\Сохранить0006.JPG"/>
          <p:cNvPicPr/>
          <p:nvPr/>
        </p:nvPicPr>
        <p:blipFill>
          <a:blip r:embed="rId1"/>
          <a:stretch/>
        </p:blipFill>
        <p:spPr>
          <a:xfrm>
            <a:off x="1692360" y="1052640"/>
            <a:ext cx="23032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G:\работа\2013-03-28\Сохранить0005.JPG"/>
          <p:cNvPicPr/>
          <p:nvPr/>
        </p:nvPicPr>
        <p:blipFill>
          <a:blip r:embed="rId2"/>
          <a:stretch/>
        </p:blipFill>
        <p:spPr>
          <a:xfrm>
            <a:off x="4140360" y="1989000"/>
            <a:ext cx="223200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G:\работа\2013-03-28\Сохранить0007.JPG"/>
          <p:cNvPicPr/>
          <p:nvPr/>
        </p:nvPicPr>
        <p:blipFill>
          <a:blip r:embed="rId3"/>
          <a:stretch/>
        </p:blipFill>
        <p:spPr>
          <a:xfrm>
            <a:off x="6518160" y="2852640"/>
            <a:ext cx="2352960" cy="3160800"/>
          </a:xfrm>
          <a:prstGeom prst="rect">
            <a:avLst/>
          </a:prstGeom>
          <a:ln w="0">
            <a:noFill/>
          </a:ln>
        </p:spPr>
      </p:pic>
    </p:spTree>
  </p:cSld>
  <p:transition advTm="6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9T21:10:54Z</dcterms:created>
  <dc:creator>MZ</dc:creator>
  <dc:description/>
  <dc:language>en-US</dc:language>
  <cp:lastModifiedBy>Max</cp:lastModifiedBy>
  <dcterms:modified xsi:type="dcterms:W3CDTF">2013-05-03T11:07:43Z</dcterms:modified>
  <cp:revision>159</cp:revision>
  <dc:subject/>
  <dc:title>Слайд 1</dc:title>
</cp:coreProperties>
</file>