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jpeg" ContentType="image/jpeg"/>
  <Override PartName="/ppt/media/image24.wmf" ContentType="image/x-wmf"/>
  <Override PartName="/ppt/media/image21.wmf" ContentType="image/x-wmf"/>
  <Override PartName="/ppt/media/image19.jpeg" ContentType="image/jpeg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29.jpeg" ContentType="image/jpeg"/>
  <Override PartName="/ppt/media/image33.wmf" ContentType="image/x-wmf"/>
  <Override PartName="/ppt/media/image5.png" ContentType="image/png"/>
  <Override PartName="/ppt/media/image35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41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31.jpeg" ContentType="image/jpeg"/>
  <Override PartName="/ppt/media/image10.wmf" ContentType="image/x-wmf"/>
  <Override PartName="/ppt/media/image32.png" ContentType="image/png"/>
  <Override PartName="/ppt/media/image25.jpeg" ContentType="image/jpeg"/>
  <Override PartName="/ppt/media/image36.png" ContentType="image/png"/>
  <Override PartName="/ppt/media/image6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A6E-27F3-47CD-A276-E8FF9A6A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046-AC5B-4A65-ADA4-2E0D8D97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27B-A679-4EBB-88D5-C73938CB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C38-B701-4649-A279-9F8969D4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721-D235-4469-90E0-F07C2C97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9B7F-D1F8-4C9B-B8B5-E5EA64B9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EFFD-B6C5-4584-8D32-36A08F96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7B4D-8B78-4FF8-87FD-730D58A7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6A08-E546-4281-ACEA-98363F1C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B6BB-FE5D-4AA5-AE17-7EDF3FA0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405E-EEA5-4502-9D3A-E6E3C7F5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88ED-69E1-4100-A029-358C3DCB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4234-40F7-4D65-8AF2-94899E5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BCA3-B76D-4452-A232-498662CA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5E79-E28B-454F-AA66-C77B17B2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D5F9-EE63-4EE8-A651-12B0F1CB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B2BD-4E40-4831-9FC4-1ABBEA4B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E0E-F202-4840-A73F-D0E038EA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41A-5204-48CD-B526-7C0FB5B0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145-72EA-4593-A4DB-B450781E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4B0-36C5-4273-B786-6856F08A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C4A-0A8C-4A05-996E-1FF8B690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687-0934-4903-BCBE-4A8730B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96E-8435-404F-9FFF-DA5C4EF5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2130-D403-4274-8E8D-BD91D8E57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D5DF-603C-47D1-99D7-6476B7B14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5.png"/><Relationship Id="rId10" Type="http://schemas.openxmlformats.org/officeDocument/2006/relationships/image" Target="../media/image45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image" Target="../media/image11.jpeg"/><Relationship Id="rId1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7.jpeg"/><Relationship Id="rId13" Type="http://schemas.openxmlformats.org/officeDocument/2006/relationships/image" Target="../media/image18.wmf"/><Relationship Id="rId14" Type="http://schemas.openxmlformats.org/officeDocument/2006/relationships/image" Target="../media/image19.jpeg"/><Relationship Id="rId15" Type="http://schemas.openxmlformats.org/officeDocument/2006/relationships/image" Target="../media/image20.wmf"/><Relationship Id="rId16" Type="http://schemas.openxmlformats.org/officeDocument/2006/relationships/image" Target="../media/image21.wmf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image" Target="../media/image32.png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МБОУ «Апастовская средняя общеобразовательная школа с углубленным изучением отдельных предметов» Апастовского муниципального района РеспубликиТатарстан.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ff00"/>
                </a:solidFill>
                <a:latin typeface="Tahoma"/>
              </a:rPr>
              <a:t>Урок – игра “Большие гонки” в 4 классе по татарскому язы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97124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Провела: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первой квалификационно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Салаватуллина Гульшат Шарапов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2012 г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1619280" y="476280"/>
            <a:ext cx="58197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 нчы этап. "Хаталы җөмләне тап".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Найди предложение с ошибкой"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16000" y="1557360"/>
            <a:ext cx="5533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Әти Мәскәүдән кайта.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00000" y="2565360"/>
            <a:ext cx="72583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.Мин сүзләрне тәрҗемә иттем.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3573360"/>
            <a:ext cx="5962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.Ул ярата китап укырга.</a:t>
            </a:r>
            <a:endParaRPr b="1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00000" y="4941720"/>
            <a:ext cx="8064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4.Быел без дүртенче </a:t>
            </a:r>
            <a:endParaRPr b="1" lang="en-US" sz="6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ыйныфта укыйбыз.</a:t>
            </a:r>
            <a:endParaRPr b="1" lang="en-US" sz="66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292640"/>
            <a:ext cx="532908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e5ffff"/>
                </a:solidFill>
                <a:latin typeface="Tahoma"/>
              </a:rPr>
              <a:t>Ул китап укырга яра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684360" y="1557360"/>
          <a:ext cx="7416720" cy="4564080"/>
        </p:xfrm>
        <a:graphic>
          <a:graphicData uri="http://schemas.openxmlformats.org/drawingml/2006/table">
            <a:tbl>
              <a:tblPr/>
              <a:tblGrid>
                <a:gridCol w="1060200"/>
                <a:gridCol w="1057320"/>
                <a:gridCol w="1060560"/>
                <a:gridCol w="1060560"/>
                <a:gridCol w="1060200"/>
                <a:gridCol w="1057320"/>
                <a:gridCol w="1060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Ә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Ы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Ә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5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1007640" y="30240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ahoma"/>
              </a:rPr>
              <a:t>7 нче этап. “Башваткыч” (“Кроссворд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(Кайсы команда күбрәк яшелчә исемнәре таб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Какая команда побольше</a:t>
            </a:r>
            <a:r>
              <a:rPr b="0" lang="ru-RU" sz="1800" spc="-1" strike="noStrike">
                <a:solidFill>
                  <a:srgbClr val="00ff00"/>
                </a:solidFill>
                <a:latin typeface="Tahoma"/>
              </a:rPr>
              <a:t> находит название овощей.)</a:t>
            </a:r>
            <a:r>
              <a:rPr b="1" lang="tt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6000" y="6165720"/>
            <a:ext cx="78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Ки</a:t>
            </a:r>
            <a:r>
              <a:rPr b="1" lang="tt-RU" sz="2400" spc="-1" strike="noStrike">
                <a:solidFill>
                  <a:srgbClr val="ffcc00"/>
                </a:solidFill>
                <a:latin typeface="Tahoma"/>
              </a:rPr>
              <a:t>шер, чөгендер, суган, кәбестә, кыяр, шалка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3143520" cy="3889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2808360" cy="3889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2987640" y="1484280"/>
            <a:ext cx="3097080" cy="388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476360" y="404640"/>
            <a:ext cx="63532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8 нче этап. "Кемнең җөмләсе күбрәк?"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У кого больше предложений?")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2600" y="530064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Балалар урамда уйный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5840" y="5300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Кызлар кар бабай ясый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2240" y="5661000"/>
            <a:ext cx="66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Малайлар һәм кызлар тимераякта шуа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6021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Укучылар чаңгы шуа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91920" y="602136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Балалар кышны яратал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33080" y="6400800"/>
            <a:ext cx="8092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Уйныйлар, ясыйлар, шуалар, яраталар – фигыл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ь</a:t>
            </a: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лә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Те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1" i="1" lang="tt-RU" sz="2000" spc="-1" strike="noStrike">
                <a:solidFill>
                  <a:srgbClr val="ffff00"/>
                </a:solidFill>
                <a:latin typeface="Tahoma"/>
              </a:rPr>
              <a:t>Хаталы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язылган сүзне табарга. (Найди </a:t>
            </a:r>
            <a:r>
              <a:rPr b="1" i="1" lang="tt-RU" sz="2000" spc="-1" strike="noStrike">
                <a:solidFill>
                  <a:srgbClr val="ffff00"/>
                </a:solidFill>
                <a:latin typeface="Tahoma"/>
              </a:rPr>
              <a:t>неправильно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написанное слово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1) шәһәрләр;    </a:t>
            </a:r>
            <a:r>
              <a:rPr b="0" lang="tt-RU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2)урамлар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;         3)куянна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i="1" lang="tt-RU" sz="2000" spc="-1" strike="noStrike" u="sng">
                <a:solidFill>
                  <a:srgbClr val="ffff00"/>
                </a:solidFill>
                <a:uFillTx/>
                <a:latin typeface="Tahoma"/>
              </a:rPr>
              <a:t>Нәрсә</a:t>
            </a:r>
            <a:r>
              <a:rPr b="1" i="1" lang="tt-RU" sz="2000" spc="-1" strike="noStrike">
                <a:solidFill>
                  <a:srgbClr val="ffff00"/>
                </a:solidFill>
                <a:latin typeface="Tahoma"/>
              </a:rPr>
              <a:t>?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соравына җавап биргән сүзне табарга. (Найди слово, отвечающее на вопрос</a:t>
            </a:r>
            <a:r>
              <a:rPr b="1" lang="tt-RU" sz="2000" spc="-1" strike="noStrike" u="sng">
                <a:solidFill>
                  <a:srgbClr val="00ffff"/>
                </a:solidFill>
                <a:uFillTx/>
                <a:latin typeface="Tahoma"/>
              </a:rPr>
              <a:t> </a:t>
            </a:r>
            <a:r>
              <a:rPr b="1" lang="tt-RU" sz="2000" spc="-1" strike="noStrike" u="sng">
                <a:solidFill>
                  <a:srgbClr val="00ff00"/>
                </a:solidFill>
                <a:uFillTx/>
                <a:latin typeface="Tahoma"/>
              </a:rPr>
              <a:t>нәрсә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?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                      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1) әни;                2) язучы;           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3) э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3.</a:t>
            </a:r>
            <a:r>
              <a:rPr b="1" i="1" lang="tt-RU" sz="2000" spc="-1" strike="noStrike" u="sng">
                <a:solidFill>
                  <a:srgbClr val="ffff00"/>
                </a:solidFill>
                <a:uFillTx/>
                <a:latin typeface="Tahoma"/>
              </a:rPr>
              <a:t>Яңа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сүзенең антонимын билгеләргә.  (Подбери антоним к слову  </a:t>
            </a:r>
            <a:r>
              <a:rPr b="1" lang="tt-RU" sz="2000" spc="-1" strike="noStrike" u="sng">
                <a:solidFill>
                  <a:srgbClr val="00ff00"/>
                </a:solidFill>
                <a:uFillTx/>
                <a:latin typeface="Tahoma"/>
              </a:rPr>
              <a:t>яңа.</a:t>
            </a:r>
            <a:r>
              <a:rPr b="1" lang="tt-RU" sz="2000" spc="-1" strike="noStrike" u="sng">
                <a:solidFill>
                  <a:srgbClr val="ffff00"/>
                </a:solidFill>
                <a:uFillTx/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1) яшь;           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2) иске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;              3) кечкен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4.Кайсы фигыль  </a:t>
            </a:r>
            <a:r>
              <a:rPr b="1" i="1" lang="tt-RU" sz="2000" spc="-1" strike="noStrike" u="sng">
                <a:solidFill>
                  <a:srgbClr val="ffff00"/>
                </a:solidFill>
                <a:uFillTx/>
                <a:latin typeface="Tahoma"/>
              </a:rPr>
              <a:t>киләчәк заманда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бирелгән? (Какой глагол </a:t>
            </a:r>
            <a:r>
              <a:rPr b="1" i="1" lang="tt-RU" sz="2000" spc="-1" strike="noStrike" u="sng">
                <a:solidFill>
                  <a:srgbClr val="00ff00"/>
                </a:solidFill>
                <a:uFillTx/>
                <a:latin typeface="Tahoma"/>
              </a:rPr>
              <a:t>в будущем времени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?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1) укыдым;              2) җырлый;          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3) язармын</a:t>
            </a:r>
            <a:r>
              <a:rPr b="0" lang="tt-RU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5. Дөрес тәрҗемәне тап. (Найди правильный перевод.)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Дәресләрдән соң без ял итәбе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1)До уроков мы отдыха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0" i="1" lang="tt-RU" sz="2000" spc="-1" strike="noStrike">
                <a:solidFill>
                  <a:srgbClr val="ffff00"/>
                </a:solidFill>
                <a:latin typeface="Tahoma"/>
              </a:rPr>
              <a:t>2)</a:t>
            </a:r>
            <a:r>
              <a:rPr b="0" i="1" lang="ru-RU" sz="2000" spc="-1" strike="noStrike">
                <a:solidFill>
                  <a:srgbClr val="ffff00"/>
                </a:solidFill>
                <a:latin typeface="Tahoma"/>
              </a:rPr>
              <a:t>После уроков мы долго отдыха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000" spc="-1" strike="noStrike">
                <a:solidFill>
                  <a:srgbClr val="ffff00"/>
                </a:solidFill>
                <a:latin typeface="Tahoma"/>
              </a:rPr>
              <a:t>            </a:t>
            </a:r>
            <a:r>
              <a:rPr b="1" i="1" lang="tt-RU" sz="2000" spc="-1" strike="noStrike">
                <a:solidFill>
                  <a:srgbClr val="ffff00"/>
                </a:solidFill>
                <a:latin typeface="Tahoma"/>
              </a:rPr>
              <a:t>3)</a:t>
            </a: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После уроков мы отдыхае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956040" y="47628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урамн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8720" y="1916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09800" y="3068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7800" y="42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080" y="609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21844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tt-RU" sz="4400" spc="-1" strike="noStrike">
                <a:solidFill>
                  <a:srgbClr val="e5ffff"/>
                </a:solidFill>
                <a:latin typeface="Tahoma"/>
              </a:rPr>
              <a:t>Йомгаклау</a:t>
            </a:r>
            <a:r>
              <a:rPr b="0" lang="tt-RU" sz="4400" spc="-1" strike="noStrike">
                <a:solidFill>
                  <a:srgbClr val="e5ffff"/>
                </a:solidFill>
                <a:latin typeface="Tahoma"/>
              </a:rPr>
              <a:t>. </a:t>
            </a:r>
            <a:r>
              <a:rPr b="0" lang="tt-RU" sz="3600" spc="-1" strike="noStrike">
                <a:solidFill>
                  <a:srgbClr val="00ff00"/>
                </a:solidFill>
                <a:latin typeface="Tahoma"/>
              </a:rPr>
              <a:t>Балларны санау. Җиңүче команданы билгеләү.</a:t>
            </a:r>
            <a:r>
              <a:rPr b="0" lang="tt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3840" y="5445000"/>
            <a:ext cx="886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Әдәбият. (Литература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Р.З.Хәйдәрова. 4 нче сыйныф – Казан:Мәгариф, 2010 ел дәресле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ahoma"/>
              </a:rPr>
              <a:t>Рисунки “Зимние забавы”,  х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жница – Любовь Новосёл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ccff"/>
                </a:solidFill>
                <a:latin typeface="Tahoma"/>
              </a:rPr>
              <a:t>(Предложения перевести на русский язык)</a:t>
            </a:r>
            <a:r>
              <a:rPr b="1" lang="tt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353440" cy="5661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1. Менә салкын кыш җитте.</a:t>
            </a:r>
            <a:r>
              <a:rPr b="1" lang="tt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2. Урамда кар ява.</a:t>
            </a:r>
            <a:r>
              <a:rPr b="1" lang="tt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3. Җир ак кар белән каплан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4. Без Яңа елны каршыладык.</a:t>
            </a:r>
            <a:r>
              <a:rPr b="1" lang="tt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5. Кыш бабай безгә бүләкләр алып килде.</a:t>
            </a:r>
            <a:r>
              <a:rPr b="1" lang="tt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6. Бәйрәмдә балалар, җырлар җырладылар, биеделәр.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7. Кыш көне салкын.</a:t>
            </a:r>
            <a:r>
              <a:rPr b="1" lang="tt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8. Марат мәктәпкә бармады, чөнки ул авыры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tt-RU" sz="2000" spc="-1" strike="noStrike">
                <a:solidFill>
                  <a:srgbClr val="ffff00"/>
                </a:solidFill>
                <a:latin typeface="Tahoma"/>
              </a:rPr>
              <a:t>9. Сез кайда яшисез?</a:t>
            </a:r>
            <a:r>
              <a:rPr b="0" lang="tt-RU" sz="20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155480" y="105156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Вот наступила холодная з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7120" y="1556280"/>
            <a:ext cx="34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На улице идёт снег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25640" y="22755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Земля покрылась белым снег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33920" y="270720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Мы встречали Новый год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8280" y="3572280"/>
            <a:ext cx="54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Дед Мороз нам подарки привёз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5480" y="450756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На празднике дети пели песни, танцевал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58840" y="494064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Зимой холод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9200" y="5659920"/>
            <a:ext cx="78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Марат не ходил в школу, потому что он более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7520" y="602028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ff"/>
                </a:solidFill>
                <a:latin typeface="Tahoma"/>
              </a:rPr>
              <a:t>Вы где живёте?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55640" y="189000"/>
            <a:ext cx="8115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 нче этап. "Кем тизрәк?" ("Кто быстрее?")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95640" y="3933720"/>
            <a:ext cx="1726920" cy="180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5508720" y="3213000"/>
            <a:ext cx="20746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ен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88000" y="907920"/>
            <a:ext cx="29764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ыпчык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3640" y="1989000"/>
            <a:ext cx="259272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к аю</a:t>
            </a:r>
            <a:endParaRPr b="1" lang="en-US" sz="40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219640" y="4508640"/>
            <a:ext cx="246060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ан</a:t>
            </a:r>
            <a:endParaRPr b="1" lang="en-US" sz="40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76720" y="5516640"/>
            <a:ext cx="2905200" cy="10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рабүрек</a:t>
            </a:r>
            <a:endParaRPr b="1" lang="en-US" sz="40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95640" y="189000"/>
            <a:ext cx="66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нче этап. (1 нче командага)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Парын тап" - "Найди пару"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3"/>
          <a:stretch/>
        </p:blipFill>
        <p:spPr>
          <a:xfrm>
            <a:off x="2195640" y="1557360"/>
            <a:ext cx="1600200" cy="1487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4"/>
          <a:stretch/>
        </p:blipFill>
        <p:spPr>
          <a:xfrm>
            <a:off x="684360" y="333360"/>
            <a:ext cx="1081080" cy="2233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5"/>
          <a:stretch/>
        </p:blipFill>
        <p:spPr>
          <a:xfrm>
            <a:off x="324000" y="2492280"/>
            <a:ext cx="1830240" cy="178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250920" y="5013360"/>
            <a:ext cx="1944720" cy="1488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3924360" y="1557000"/>
            <a:ext cx="934920" cy="23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258920" y="2565000"/>
            <a:ext cx="3817800" cy="230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24360" y="2492280"/>
            <a:ext cx="1727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3068640"/>
            <a:ext cx="29512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413000"/>
            <a:ext cx="3384360" cy="43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916360" y="189000"/>
            <a:ext cx="5256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нче командага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76720" y="1197000"/>
            <a:ext cx="302436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ескан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219640" y="4581360"/>
            <a:ext cx="23767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снәк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64000" y="3500280"/>
            <a:ext cx="2035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өлке</a:t>
            </a:r>
            <a:endParaRPr b="1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580000" y="2276640"/>
            <a:ext cx="1871640" cy="79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үре</a:t>
            </a:r>
            <a:endParaRPr b="1" lang="en-US" sz="4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5734080"/>
            <a:ext cx="3456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а карга</a:t>
            </a:r>
            <a:endParaRPr b="1" lang="en-US" sz="4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2"/>
          <a:stretch/>
        </p:blipFill>
        <p:spPr>
          <a:xfrm>
            <a:off x="324000" y="2276640"/>
            <a:ext cx="180000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324000" y="404640"/>
            <a:ext cx="1806480" cy="1775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2268360" y="3645000"/>
            <a:ext cx="1440000" cy="2255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5"/>
          <a:stretch/>
        </p:blipFill>
        <p:spPr>
          <a:xfrm>
            <a:off x="2700360" y="1484280"/>
            <a:ext cx="1440000" cy="158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324000" y="4797360"/>
            <a:ext cx="1758960" cy="131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1547640" y="1773000"/>
            <a:ext cx="3456000" cy="30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2781360"/>
            <a:ext cx="1657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1844640"/>
            <a:ext cx="324000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852640"/>
            <a:ext cx="194292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284640"/>
            <a:ext cx="2663640" cy="25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58920" y="260280"/>
            <a:ext cx="619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3 нче этап. "Кем тапкыр". ("Кто находчивый?"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1 нче командага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32720" y="1916280"/>
            <a:ext cx="1873080" cy="194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780000" y="4437000"/>
            <a:ext cx="183024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419640" y="1989000"/>
            <a:ext cx="2469960" cy="1711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1434960" cy="2158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042920" y="1916280"/>
            <a:ext cx="155592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948360" y="4005360"/>
            <a:ext cx="1465560" cy="21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1188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tt-RU" sz="1800" spc="-1" strike="noStrike">
                <a:solidFill>
                  <a:srgbClr val="ffffff"/>
                </a:solidFill>
                <a:latin typeface="Tahoma"/>
              </a:rPr>
              <a:t>(Рәсемдәге предметларның исемнәренә туры китереп сыйфатлар өстәп әйтергә. – К предметам добавить имена прилагательные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7000" y="3357720"/>
            <a:ext cx="1520280" cy="39888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Ак чәчәк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3789360"/>
            <a:ext cx="19414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ff0000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цве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52120" y="3573360"/>
            <a:ext cx="181152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Яшел кыяр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31880" y="3933720"/>
            <a:ext cx="23342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зелёный огуре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16800" y="3187800"/>
            <a:ext cx="229428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Кызыл к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үлмәк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06360" y="3619440"/>
            <a:ext cx="22593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красное плат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02240" y="5708520"/>
            <a:ext cx="1832760" cy="39888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Я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ңа курчак</a:t>
            </a: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1440" y="6140520"/>
            <a:ext cx="18144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ahoma"/>
              </a:rPr>
              <a:t>новая кук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5920" y="5635800"/>
            <a:ext cx="1960920" cy="398880"/>
          </a:xfrm>
          <a:prstGeom prst="rect">
            <a:avLst/>
          </a:prstGeom>
          <a:solidFill>
            <a:srgbClr val="e5ffff"/>
          </a:solidFill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Куркак куян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1480" y="6067440"/>
            <a:ext cx="23526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ahoma"/>
              </a:rPr>
              <a:t>трусливый зая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95280" y="5708520"/>
            <a:ext cx="211788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Түгәрәк алма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84480" y="6140520"/>
            <a:ext cx="22489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0000"/>
                </a:solidFill>
                <a:latin typeface="Tahoma"/>
              </a:rPr>
              <a:t>круглое ябло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79640" y="476280"/>
            <a:ext cx="46483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нче командага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556000" cy="198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2426040" cy="2068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3995640" y="18446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1042920" y="3860640"/>
            <a:ext cx="1935360" cy="2421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3995640" y="4365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6659640" y="3645000"/>
            <a:ext cx="1717560" cy="25318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24440" y="3043080"/>
            <a:ext cx="175968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Көчле фил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57760" y="3403440"/>
            <a:ext cx="20721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сильный сл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09600" y="2997360"/>
            <a:ext cx="191052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Сары лимон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71720" y="3332160"/>
            <a:ext cx="221220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жёлтый лим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71440" y="2997360"/>
            <a:ext cx="1840320" cy="3682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Җылы бүрек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280" y="3357720"/>
            <a:ext cx="205056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тёплая шап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3000" y="5708520"/>
            <a:ext cx="210240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Тәмле җиләк</a:t>
            </a:r>
            <a:r>
              <a:rPr b="1" lang="tt-RU" sz="1800" spc="-1" strike="noStrike">
                <a:solidFill>
                  <a:srgbClr val="00ff00"/>
                </a:solidFill>
                <a:latin typeface="Tahoma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72800" y="6165720"/>
            <a:ext cx="206604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вкусная я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48840" y="5734080"/>
            <a:ext cx="206892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Калын китап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02120" y="6140520"/>
            <a:ext cx="206892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толстая кни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01640" y="5780160"/>
            <a:ext cx="127044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ahoma"/>
              </a:rPr>
              <a:t>Ак </a:t>
            </a:r>
            <a:r>
              <a:rPr b="1" lang="tt-RU" sz="2000" spc="-1" strike="noStrike">
                <a:solidFill>
                  <a:srgbClr val="00ff00"/>
                </a:solidFill>
                <a:latin typeface="Tahoma"/>
              </a:rPr>
              <a:t>әтәч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39280" y="6067440"/>
            <a:ext cx="1869480" cy="39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белый пету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258920" y="189000"/>
            <a:ext cx="64087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4 нче этап. "Артык сүзне тап"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Найди лишнее слово").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340000" y="1125360"/>
            <a:ext cx="3816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 нче командага.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600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ндугач-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үке-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рга-</a:t>
            </a:r>
            <a:endParaRPr b="1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укран-</a:t>
            </a:r>
            <a:endParaRPr b="1" lang="en-US" sz="4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машка-</a:t>
            </a:r>
            <a:endParaRPr b="1" lang="en-US" sz="4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ккош-</a:t>
            </a:r>
            <a:endParaRPr b="1" lang="en-US" sz="40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орна-</a:t>
            </a:r>
            <a:endParaRPr b="1" lang="en-US" sz="40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219640" y="1484280"/>
            <a:ext cx="19335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лове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292720" y="2133720"/>
            <a:ext cx="1828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укуш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292720" y="2708280"/>
            <a:ext cx="164772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ро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64000" y="3284640"/>
            <a:ext cx="132408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яте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92720" y="3933720"/>
            <a:ext cx="200016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маш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292720" y="4508640"/>
            <a:ext cx="1666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бед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64000" y="5229360"/>
            <a:ext cx="1990800" cy="46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уравл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551664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әрсә? соравына җавап бирәләр,  исемнәр. Ромашка сүзе артык, чөнки ул чәчәк. Калган сүзләр кошларны белдерәлә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484360" y="404640"/>
            <a:ext cx="41594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нче командага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476360" y="1197000"/>
            <a:ext cx="35290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ен-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ыршы-</a:t>
            </a:r>
            <a:endParaRPr b="1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мән-</a:t>
            </a:r>
            <a:endParaRPr b="1" lang="en-US" sz="4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ырмыска-</a:t>
            </a:r>
            <a:endParaRPr b="1" lang="en-US" sz="4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омырт-</a:t>
            </a:r>
            <a:endParaRPr b="1" lang="en-US" sz="4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сак-</a:t>
            </a:r>
            <a:endParaRPr b="1" lang="en-US" sz="40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л-</a:t>
            </a:r>
            <a:endParaRPr b="1" lang="en-US" sz="40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148360" y="1052640"/>
            <a:ext cx="1562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рёз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292720" y="1773360"/>
            <a:ext cx="838080" cy="38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л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292720" y="2276640"/>
            <a:ext cx="8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уб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64000" y="2924280"/>
            <a:ext cx="2159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ураве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292720" y="357336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ерёмух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292720" y="4292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и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35640" y="4941720"/>
            <a:ext cx="11523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в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5373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Нәрсә? соравына җавап бирәләр,  исемнәр.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Кырмыска сүзе артык, чөнки ул б</a:t>
            </a:r>
            <a:r>
              <a:rPr b="0" lang="tt-RU" sz="2400" spc="-1" strike="noStrike">
                <a:solidFill>
                  <a:srgbClr val="e5ffff"/>
                </a:solidFill>
                <a:latin typeface="Tahoma"/>
              </a:rPr>
              <a:t>өҗәк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. Калган сүзләр агачларны белдерәлә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476360" y="260280"/>
            <a:ext cx="56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 нче этап. "Җөмләне тәмамла"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"Закончи предложение").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5280" y="1341360"/>
            <a:ext cx="3581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Мин Апаста ... 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5280" y="1916280"/>
            <a:ext cx="716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.Безнең Республиканың исеме ... .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2637000"/>
            <a:ext cx="70293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.Татарстанда куе урманнар, </a:t>
            </a:r>
            <a:endParaRPr b="1" lang="en-US" sz="4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иң кырлар ... .</a:t>
            </a:r>
            <a:endParaRPr b="1" lang="en-US" sz="4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4292640"/>
            <a:ext cx="6172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4.Татарстанда зур елгалар ... .</a:t>
            </a:r>
            <a:endParaRPr b="1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9640" y="5877000"/>
            <a:ext cx="590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6.Мин туган җиремне  ... .</a:t>
            </a:r>
            <a:endParaRPr b="1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360" y="5084640"/>
            <a:ext cx="7105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5.Татарстанда төрле халыклар ... .</a:t>
            </a:r>
            <a:endParaRPr b="1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35280" y="1484280"/>
            <a:ext cx="108108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ши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093080" y="1844640"/>
            <a:ext cx="1685880" cy="54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атарстан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148360" y="3429000"/>
            <a:ext cx="934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үп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27640" y="4365720"/>
            <a:ext cx="10810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р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020000" y="5229360"/>
            <a:ext cx="115236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ши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796000" y="5950080"/>
            <a:ext cx="172728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ратам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7:38:22Z</dcterms:created>
  <dc:creator>Гульшат</dc:creator>
  <dc:description/>
  <dc:language>en-US</dc:language>
  <cp:lastModifiedBy>Гульшат</cp:lastModifiedBy>
  <dcterms:modified xsi:type="dcterms:W3CDTF">2012-05-28T08:52:20Z</dcterms:modified>
  <cp:revision>9</cp:revision>
  <dc:subject/>
  <dc:title>Татарстан Республкасы Апас муниципаль районы  Апас урта (тулы) гомуми белем бирү мәктәбе.</dc:title>
</cp:coreProperties>
</file>