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24.wmf" ContentType="image/x-wmf"/>
  <Override PartName="/ppt/media/image21.wmf" ContentType="image/x-wmf"/>
  <Override PartName="/ppt/media/image19.jpeg" ContentType="image/jpeg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29.jpeg" ContentType="image/jpeg"/>
  <Override PartName="/ppt/media/image33.wmf" ContentType="image/x-wmf"/>
  <Override PartName="/ppt/media/image5.png" ContentType="image/png"/>
  <Override PartName="/ppt/media/image35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41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1.jpeg" ContentType="image/jpeg"/>
  <Override PartName="/ppt/media/image10.wmf" ContentType="image/x-wmf"/>
  <Override PartName="/ppt/media/image3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A3E-A27F-4249-89C7-3684929E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671-E294-48B2-AFE5-8F00F1A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A81-1870-4BB5-8732-0BDFD060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C13-BA3E-4482-BD41-BFD48184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6F0E-FB65-4883-B9DE-997E6C5B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25C0-99F6-4451-B5B4-4D2DE4E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8827-00D8-4E51-9A40-7D174AC2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BFE5-F907-4AA8-9C2C-2071718E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7449-9791-481C-ABB3-2BAE83E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69C-0B94-4898-A323-17B94ACC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11C-DF5E-40AB-BE28-9D51BBE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00E-21DE-4C50-8B82-C10D0C1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EC47-79C8-4035-A473-7EA0F79D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DE82-7162-4F06-83BB-6DA2C12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4345-960F-40CB-B6B1-C85E9519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599-5CA9-47A3-932F-F9DEBC63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5FF0-4266-4974-BA81-E0CD984A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E45-13D8-4123-94EF-93CFFC3A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61B-3FDB-4B21-AFEB-FB93B383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7D7-59F1-4AA8-9DAB-2CA618CF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7B2-118B-4AED-8119-3E24E787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C84-FDA6-4C6D-AE96-38BD171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020-9F35-4475-9D16-EE89D504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058-CF76-47C6-AE93-20B8375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0DC-50C8-470B-8423-0C26169DB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BABE-C3C2-41D9-AEBB-98E0AADC7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wmf"/><Relationship Id="rId14" Type="http://schemas.openxmlformats.org/officeDocument/2006/relationships/image" Target="../media/image19.jpeg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МБОУ «Апастовская средняя общеобразовательная школа с углубленным изучением отдельных предметов» Апастовского муниципального района РеспубликиТатарстан.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ff00"/>
                </a:solidFill>
                <a:latin typeface="Tahoma"/>
              </a:rPr>
              <a:t>Урок – игра “Большие гонки” в 4 классе по татарскому язы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9712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Провела: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алаватуллина Гульшат Шарап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2012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619280" y="476280"/>
            <a:ext cx="58197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нчы этап. "Хаталы җөмләне тап".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Найди предложение с ошибкой"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16000" y="1557360"/>
            <a:ext cx="5533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Әти Мәскәүдән кайта.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00000" y="2565360"/>
            <a:ext cx="7258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Мин сүзләрне тәрҗемә иттем.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3573360"/>
            <a:ext cx="596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Ул ярата китап укырга.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00000" y="4941720"/>
            <a:ext cx="806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.Быел без дүртенче </a:t>
            </a:r>
            <a:endParaRPr b="1" lang="en-US" sz="6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ыйныфта укыйбыз.</a:t>
            </a:r>
            <a:endParaRPr b="1" lang="en-US" sz="6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292640"/>
            <a:ext cx="5329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5ffff"/>
                </a:solidFill>
                <a:latin typeface="Tahoma"/>
              </a:rPr>
              <a:t>Ул китап укырга яр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84360" y="1557360"/>
          <a:ext cx="7416720" cy="4564080"/>
        </p:xfrm>
        <a:graphic>
          <a:graphicData uri="http://schemas.openxmlformats.org/drawingml/2006/table">
            <a:tbl>
              <a:tblPr/>
              <a:tblGrid>
                <a:gridCol w="1060200"/>
                <a:gridCol w="1057320"/>
                <a:gridCol w="1060560"/>
                <a:gridCol w="1060560"/>
                <a:gridCol w="1060200"/>
                <a:gridCol w="1057320"/>
                <a:gridCol w="106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Ә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Ә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007640" y="302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ahoma"/>
              </a:rPr>
              <a:t>7 нче этап. “Башваткыч” (“Кроссворд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(Кайсы команда күбрәк яшелчә исемнәре таб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Какая команда побольше</a:t>
            </a:r>
            <a:r>
              <a:rPr b="0" lang="ru-RU" sz="1800" spc="-1" strike="noStrike">
                <a:solidFill>
                  <a:srgbClr val="00ff00"/>
                </a:solidFill>
                <a:latin typeface="Tahoma"/>
              </a:rPr>
              <a:t> находит название овощей.)</a:t>
            </a: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6000" y="6165720"/>
            <a:ext cx="78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и</a:t>
            </a:r>
            <a:r>
              <a:rPr b="1" lang="tt-RU" sz="2400" spc="-1" strike="noStrike">
                <a:solidFill>
                  <a:srgbClr val="ffcc00"/>
                </a:solidFill>
                <a:latin typeface="Tahoma"/>
              </a:rPr>
              <a:t>шер, чөгендер, суган, кәбестә, кыяр, шалк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3143520" cy="3889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2808360" cy="3889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987640" y="1484280"/>
            <a:ext cx="3097080" cy="388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476360" y="404640"/>
            <a:ext cx="6353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 нче этап. "Кемнең җөмләсе күбрәк?"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У кого больше предложений?")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2600" y="53006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Балалар урамда уйный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5840" y="5300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Кызлар кар бабай ясый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2240" y="5661000"/>
            <a:ext cx="66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Малайлар һәм кызлар тимераякта шуа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6021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Укучылар чаңгы шуа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91920" y="602136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Балалар кышны ярата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3080" y="6400800"/>
            <a:ext cx="8092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Уйныйлар, ясыйлар, шуалар, яраталар – фигыл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ь</a:t>
            </a: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Те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Хаталы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язылган сүзне табарга. (Найди 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неправильно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написанное слово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шәһәрләр;    </a:t>
            </a:r>
            <a:r>
              <a:rPr b="0" lang="tt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)урамлар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;         3)куянн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i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Нәрсә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?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соравына җавап биргән сүзне табарга. (Найди слово, отвечающее на вопрос</a:t>
            </a:r>
            <a:r>
              <a:rPr b="1" lang="tt-RU" sz="2000" spc="-1" strike="noStrike" u="sng">
                <a:solidFill>
                  <a:srgbClr val="00ffff"/>
                </a:solidFill>
                <a:uFillTx/>
                <a:latin typeface="Tahoma"/>
              </a:rPr>
              <a:t> </a:t>
            </a:r>
            <a:r>
              <a:rPr b="1" lang="tt-RU" sz="2000" spc="-1" strike="noStrike" u="sng">
                <a:solidFill>
                  <a:srgbClr val="00ff00"/>
                </a:solidFill>
                <a:uFillTx/>
                <a:latin typeface="Tahoma"/>
              </a:rPr>
              <a:t>нәрсә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?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әни;                2) язучы;           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) э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i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Яңа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сүзенең антонимын билгеләргә.  (Подбери антоним к слову  </a:t>
            </a:r>
            <a:r>
              <a:rPr b="1" lang="tt-RU" sz="2000" spc="-1" strike="noStrike" u="sng">
                <a:solidFill>
                  <a:srgbClr val="00ff00"/>
                </a:solidFill>
                <a:uFillTx/>
                <a:latin typeface="Tahoma"/>
              </a:rPr>
              <a:t>яңа.</a:t>
            </a:r>
            <a:r>
              <a:rPr b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яшь;           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) иске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;              3) кечкен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4.Кайсы фигыль  </a:t>
            </a:r>
            <a:r>
              <a:rPr b="1" i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киләчәк заманда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бирелгән? (Какой глагол </a:t>
            </a:r>
            <a:r>
              <a:rPr b="1" i="1" lang="tt-RU" sz="2000" spc="-1" strike="noStrike" u="sng">
                <a:solidFill>
                  <a:srgbClr val="00ff00"/>
                </a:solidFill>
                <a:uFillTx/>
                <a:latin typeface="Tahoma"/>
              </a:rPr>
              <a:t>в будущем времени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?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укыдым;              2) җырлый;          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) язармын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5. Дөрес тәрҗемәне тап. (Найди правильный перевод.)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Дәресләрдән соң без ял итәбе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1)До уроков мы отдыха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i="1" lang="tt-RU" sz="2000" spc="-1" strike="noStrike">
                <a:solidFill>
                  <a:srgbClr val="ffff00"/>
                </a:solidFill>
                <a:latin typeface="Tahoma"/>
              </a:rPr>
              <a:t>2)</a:t>
            </a: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После уроков мы долго отдыха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3)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После уроков мы отдыхае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956040" y="476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урамн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872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980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7800" y="42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080" y="609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tt-RU" sz="4400" spc="-1" strike="noStrike">
                <a:solidFill>
                  <a:srgbClr val="e5ffff"/>
                </a:solidFill>
                <a:latin typeface="Tahoma"/>
              </a:rPr>
              <a:t>Йомгаклау</a:t>
            </a:r>
            <a:r>
              <a:rPr b="0" lang="tt-RU" sz="4400" spc="-1" strike="noStrike">
                <a:solidFill>
                  <a:srgbClr val="e5ffff"/>
                </a:solidFill>
                <a:latin typeface="Tahoma"/>
              </a:rPr>
              <a:t>. </a:t>
            </a:r>
            <a:r>
              <a:rPr b="0" lang="tt-RU" sz="3600" spc="-1" strike="noStrike">
                <a:solidFill>
                  <a:srgbClr val="00ff00"/>
                </a:solidFill>
                <a:latin typeface="Tahoma"/>
              </a:rPr>
              <a:t>Балларны санау. Җиңүче команданы билгеләү.</a:t>
            </a:r>
            <a:r>
              <a:rPr b="0" lang="tt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3840" y="5445000"/>
            <a:ext cx="886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Әдәбият. (Литература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Р.З.Хәйдәрова. 4 нче сыйныф – Казан:Мәгариф, 2010 ел дәресле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Рисунки “Зимние забавы”,  х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жница – Любовь Новосё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ccff"/>
                </a:solidFill>
                <a:latin typeface="Tahoma"/>
              </a:rPr>
              <a:t>(Предложения перевести на русский язык)</a:t>
            </a:r>
            <a:r>
              <a:rPr b="1" lang="tt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353440" cy="566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1. Менә салкын кыш җитте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. Урамда кар ява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. Җир ак кар белән каплан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4. Без Яңа елны каршыладык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5. Кыш бабай безгә бүләкләр алып килде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6. Бәйрәмдә балалар, җырлар җырладылар, биеделәр.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7. Кыш көне салкын.</a:t>
            </a:r>
            <a:r>
              <a:rPr b="1" lang="tt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8. Марат мәктәпкә бармады, чөнки ул авыры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9. Сез кайда яшисез?</a:t>
            </a:r>
            <a:r>
              <a:rPr b="0" lang="tt-RU" sz="20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155480" y="105156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Вот наступила холодная з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7120" y="155628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На улице идёт снег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25640" y="22755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Земля покрылась белым снег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33920" y="270720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Мы встречали Новый год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8280" y="357228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Дед Мороз нам подарки привёз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5480" y="450756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На празднике дети пели песни, танцева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8840" y="49406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Зимой холод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9200" y="5659920"/>
            <a:ext cx="78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Марат не ходил в школу, потому что он более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7520" y="602028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Вы где живёте?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5640" y="189000"/>
            <a:ext cx="8115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нче этап. "Кем тизрәк?" ("Кто быстрее?")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1726920" cy="180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508720" y="3213000"/>
            <a:ext cx="20746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ен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88000" y="907920"/>
            <a:ext cx="2976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ыпчык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3640" y="1989000"/>
            <a:ext cx="2592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 аю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19640" y="4508640"/>
            <a:ext cx="246060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ан</a:t>
            </a:r>
            <a:endParaRPr b="1" lang="en-US" sz="40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76720" y="5516640"/>
            <a:ext cx="290520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рабүрек</a:t>
            </a:r>
            <a:endParaRPr b="1" lang="en-US" sz="40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95640" y="189000"/>
            <a:ext cx="66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этап. (1 нче командага)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Парын тап" - "Найди пару"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3"/>
          <a:stretch/>
        </p:blipFill>
        <p:spPr>
          <a:xfrm>
            <a:off x="2195640" y="1557360"/>
            <a:ext cx="1600200" cy="148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684360" y="333360"/>
            <a:ext cx="1081080" cy="223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5"/>
          <a:stretch/>
        </p:blipFill>
        <p:spPr>
          <a:xfrm>
            <a:off x="324000" y="2492280"/>
            <a:ext cx="1830240" cy="178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250920" y="5013360"/>
            <a:ext cx="1944720" cy="148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3924360" y="1557000"/>
            <a:ext cx="93492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58920" y="2565000"/>
            <a:ext cx="3817800" cy="23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2492280"/>
            <a:ext cx="172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068640"/>
            <a:ext cx="29512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413000"/>
            <a:ext cx="3384360" cy="43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16360" y="189000"/>
            <a:ext cx="5256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командага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76720" y="1197000"/>
            <a:ext cx="30243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ескан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219640" y="4581360"/>
            <a:ext cx="2376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снәк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64000" y="3500280"/>
            <a:ext cx="2035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өлке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580000" y="2276640"/>
            <a:ext cx="187164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үре</a:t>
            </a:r>
            <a:endParaRPr b="1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5734080"/>
            <a:ext cx="3456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а карга</a:t>
            </a:r>
            <a:endParaRPr b="1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24000" y="2276640"/>
            <a:ext cx="18000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324000" y="404640"/>
            <a:ext cx="1806480" cy="1775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2268360" y="3645000"/>
            <a:ext cx="1440000" cy="2255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2700360" y="148428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324000" y="4797360"/>
            <a:ext cx="1758960" cy="131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1547640" y="1773000"/>
            <a:ext cx="3456000" cy="30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781360"/>
            <a:ext cx="1657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1844640"/>
            <a:ext cx="324000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52640"/>
            <a:ext cx="194292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284640"/>
            <a:ext cx="266364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58920" y="260280"/>
            <a:ext cx="61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 нче этап. "Кем тапкыр". ("Кто находчивый?"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1 нче командага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873080" cy="19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780000" y="4437000"/>
            <a:ext cx="183024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2469960" cy="171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042920" y="1916280"/>
            <a:ext cx="155592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948360" y="4005360"/>
            <a:ext cx="1465560" cy="21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1188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(Рәсемдәге предметларның исемнәренә туры китереп сыйфатлар өстәп әйтергә. – К предметам добавить имена прилагательные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7000" y="3357720"/>
            <a:ext cx="1520280" cy="39888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Ак чәчәк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789360"/>
            <a:ext cx="1941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00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цв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52120" y="3573360"/>
            <a:ext cx="181152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Яшел кыяр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1880" y="3933720"/>
            <a:ext cx="2334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зелёный огур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16800" y="3187800"/>
            <a:ext cx="22942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Кызыл к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үлмәк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06360" y="3619440"/>
            <a:ext cx="22593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красное плат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2240" y="5708520"/>
            <a:ext cx="1832760" cy="3988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Я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ңа курчак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1440" y="6140520"/>
            <a:ext cx="18144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ahoma"/>
              </a:rPr>
              <a:t>новая кук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5920" y="5635800"/>
            <a:ext cx="1960920" cy="3988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Куркак куян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1480" y="6067440"/>
            <a:ext cx="23526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ahoma"/>
              </a:rPr>
              <a:t>трусливый зая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5280" y="5708520"/>
            <a:ext cx="21178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Түгәрәк алма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4480" y="6140520"/>
            <a:ext cx="22489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ahoma"/>
              </a:rPr>
              <a:t>круглое ябл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79640" y="476280"/>
            <a:ext cx="4648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командага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556000" cy="198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2426040" cy="2068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995640" y="18446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042920" y="3860640"/>
            <a:ext cx="1935360" cy="242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995640" y="4365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659640" y="3645000"/>
            <a:ext cx="1717560" cy="2531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24440" y="3043080"/>
            <a:ext cx="17596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Көчле фил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57760" y="3403440"/>
            <a:ext cx="2072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сильный сл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0" y="2997360"/>
            <a:ext cx="191052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Сары лимон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71720" y="3332160"/>
            <a:ext cx="22122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жёлтый ли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71440" y="2997360"/>
            <a:ext cx="1840320" cy="3682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Җылы бүрек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280" y="3357720"/>
            <a:ext cx="20505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тёплая ша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3000" y="5708520"/>
            <a:ext cx="210240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Тәмле җиләк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2800" y="6165720"/>
            <a:ext cx="20660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кусная я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48840" y="5734080"/>
            <a:ext cx="206892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Калын китап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02120" y="6140520"/>
            <a:ext cx="20689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толстая кни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01640" y="5780160"/>
            <a:ext cx="127044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Ак 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әтәч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39280" y="6067440"/>
            <a:ext cx="18694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белый пет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58920" y="189000"/>
            <a:ext cx="64087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 нче этап. "Артык сүзне тап"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Найди лишнее слово")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340000" y="1125360"/>
            <a:ext cx="3816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нче командага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600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ндугач-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үке-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рга-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кран-</a:t>
            </a:r>
            <a:endParaRPr b="1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машка-</a:t>
            </a:r>
            <a:endParaRPr b="1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кош-</a:t>
            </a:r>
            <a:endParaRPr b="1" lang="en-US" sz="4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орна-</a:t>
            </a:r>
            <a:endParaRPr b="1" lang="en-US" sz="4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19640" y="1484280"/>
            <a:ext cx="1933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ов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92720" y="2133720"/>
            <a:ext cx="182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куш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292720" y="2708280"/>
            <a:ext cx="16477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64000" y="3284640"/>
            <a:ext cx="132408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те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92720" y="3933720"/>
            <a:ext cx="200016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маш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92720" y="4508640"/>
            <a:ext cx="1666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бед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64000" y="5229360"/>
            <a:ext cx="19908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рав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5516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әрсә? соравына җавап бирәләр,  исемнәр. Ромашка сүзе артык, чөнки ул чәчәк. Калган сүзләр кошларны белдерә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484360" y="404640"/>
            <a:ext cx="4159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командага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476360" y="1197000"/>
            <a:ext cx="3529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ен-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ыршы-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мән-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ырмыска-</a:t>
            </a:r>
            <a:endParaRPr b="1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омырт-</a:t>
            </a:r>
            <a:endParaRPr b="1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ак-</a:t>
            </a:r>
            <a:endParaRPr b="1" lang="en-US" sz="4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л-</a:t>
            </a:r>
            <a:endParaRPr b="1" lang="en-US" sz="4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148360" y="1052640"/>
            <a:ext cx="1562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ёз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92720" y="1773360"/>
            <a:ext cx="8380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292720" y="2276640"/>
            <a:ext cx="8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у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64000" y="2924280"/>
            <a:ext cx="2159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рав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92720" y="3573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ёмух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92720" y="4292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и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35640" y="4941720"/>
            <a:ext cx="11523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в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әрсә? соравына җавап бирәләр,  исемнәр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Кырмыска сүзе артык, чөнки ул б</a:t>
            </a: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өҗәк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 Калган сүзләр агачларны белдерә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476360" y="260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нче этап. "Җөмләне тәмамла"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Закончи предложение")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5280" y="1341360"/>
            <a:ext cx="3581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Мин Апаста ... 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5280" y="1916280"/>
            <a:ext cx="716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Безнең Республиканың исеме ... .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2637000"/>
            <a:ext cx="70293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Татарстанда куе урманнар, </a:t>
            </a:r>
            <a:endParaRPr b="1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иң кырлар ... .</a:t>
            </a:r>
            <a:endParaRPr b="1" lang="en-US" sz="4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4292640"/>
            <a:ext cx="617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.Татарстанда зур елгалар ... .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5877000"/>
            <a:ext cx="59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6.Мин туган җиремне  ... .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5084640"/>
            <a:ext cx="7105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.Татарстанда төрле халыклар ... .</a:t>
            </a:r>
            <a:endParaRPr b="1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35280" y="1484280"/>
            <a:ext cx="10810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ши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093080" y="1844640"/>
            <a:ext cx="168588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тарстан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148360" y="3429000"/>
            <a:ext cx="934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үп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27640" y="4365720"/>
            <a:ext cx="10810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020000" y="5229360"/>
            <a:ext cx="11523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ши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96000" y="5950080"/>
            <a:ext cx="17272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ратам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7:38:22Z</dcterms:created>
  <dc:creator>Гульшат</dc:creator>
  <dc:description/>
  <dc:language>en-US</dc:language>
  <cp:lastModifiedBy>Гульшат</cp:lastModifiedBy>
  <dcterms:modified xsi:type="dcterms:W3CDTF">2012-05-28T08:52:20Z</dcterms:modified>
  <cp:revision>9</cp:revision>
  <dc:subject/>
  <dc:title>Татарстан Республкасы Апас муниципаль районы  Апас урта (тулы) гомуми белем бирү мәктәбе.</dc:title>
</cp:coreProperties>
</file>