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8B1-1EA6-4D2F-85D6-6AD4B8BB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2EA-C57F-4F47-9BEC-28395CD9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609-B71D-4FD5-BB32-19B29009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0E9-4CE8-4D8A-9854-260A07F9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145A-BDBF-4403-A553-D0C3396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D9A9-B9D4-4324-88CF-4784344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4C1-F624-4DC7-BBE1-885B315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9DDE-D3E2-4E2C-A0A4-D136E97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3252-808E-40CC-AC72-ED39D1A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E3A1-DF60-4A11-8C9D-FF55C97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6F3-F421-4399-8155-0F176C39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FB4-1803-4F87-8D96-B9E2BF3B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6102-4CE9-4A2A-AB5D-F638043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168-3003-4D4A-BCCF-0A9FF4A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138E-B4C8-442B-9B71-1B9D4A41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2260-5F5E-48CB-BDC1-2CFB9642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6C7-7F8D-4148-A5FC-C2C9BA54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802-90A7-4D33-A0E8-6671F911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2D4-DFF5-49AF-922A-341A9FA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096-590C-401F-97BB-38A4177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BA9-C0AA-4E99-9E6C-25DC9451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5E4-C9CE-46E1-AB60-E4B6DE9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F38-36F6-46D5-9DC5-D787AD3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F2E-C638-49EB-8599-00F4A75C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C506-92D7-4A41-B185-6F3D7A6E27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C80B-476E-4158-A943-D4767D314F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86421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униципальн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дошкольное образовательное автономное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реждение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«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тский сад №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Гнёздышко»  комбинированного вида г .Орска" </a:t>
            </a:r>
            <a:br>
              <a:rPr sz="12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следовательский проек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4500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Мой друг черепах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ры: Галкин Андрей– 6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уководитель: Коломие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тьяна Николаевна- воспитате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85200" y="6237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ск– 20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Содержимое 5" descr="http://www.zootur.ru/images/stories/01.jpg"/>
          <p:cNvPicPr/>
          <p:nvPr/>
        </p:nvPicPr>
        <p:blipFill>
          <a:blip r:embed="rId1"/>
          <a:stretch/>
        </p:blipFill>
        <p:spPr>
          <a:xfrm>
            <a:off x="5292720" y="2492280"/>
            <a:ext cx="3571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сследов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785600"/>
            <a:ext cx="78152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определить примерный возраст нашей черепахи,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рили её спинной щит от  головы до хво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4500720" y="457200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ак как считается, что длина панциря приблизительно равна возрасту черепахи, можно сделать вывод о том, что нашей черепахе Юле 5 л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Содержимое 9" descr="Изображение 201.jpg"/>
          <p:cNvPicPr/>
          <p:nvPr/>
        </p:nvPicPr>
        <p:blipFill>
          <a:blip r:embed="rId1"/>
          <a:stretch/>
        </p:blipFill>
        <p:spPr>
          <a:xfrm>
            <a:off x="714240" y="3643200"/>
            <a:ext cx="32814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ведя исследование, мы наш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тветы на интересующие нас вопросы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перь мы знаем, к какому виду относится наша черепаха, как определить её пол и возраст,  как заботиться о ней, чем корм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имаясь нашим исследованием, мы узнали много интересного о нашей черепахе, сделали фотографии, оформили паспорт «Сухопутная  черепаха», поделились накопленными знаниями с детьми нашей группы и выучили стихотворение И. Мазнина «Черепаха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тератур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геенко Ю.В. Черепахи. – М.: Вече, 2004. («Животные в вашем доме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ников А. Г. и др. «Земноводные и пресмыкающиеся СССР». – Москва «Мысль»,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шей работы – исследовать особенности сухопутных черепах в террариуме и приро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46483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определить вид черепах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научиться определя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 и возраст сухопутной черепах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брать сведения 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неазиатской сухопутной черепах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ставить паспо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сухопутная черепах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C:\Users\Таня\Desktop\андрей2.jpg"/>
          <p:cNvPicPr/>
          <p:nvPr/>
        </p:nvPicPr>
        <p:blipFill>
          <a:blip r:embed="rId1"/>
          <a:stretch/>
        </p:blipFill>
        <p:spPr>
          <a:xfrm>
            <a:off x="6012000" y="1844640"/>
            <a:ext cx="2313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ипотез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а черепаха относится к Среднеазиатски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хопутным черепаха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четыре когтя на передних конечност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а сухопутная черепаха передвигается медленнее, чем  красноухая черепаха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пустим, наша черепаха самка, потому что у большинства животных самцы имеют яркий окрас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ей черепахе 5 лет, потому что у неё столько щитков на панцир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58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сслед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14320"/>
            <a:ext cx="8434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наблюдения за черепах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помощь родителей и воспитател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использование сети Интерн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проведение экспери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чтение познавательной литерату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10" descr="кар0004"/>
          <p:cNvPicPr/>
          <p:nvPr/>
        </p:nvPicPr>
        <p:blipFill>
          <a:blip r:embed="rId1"/>
          <a:stretch/>
        </p:blipFill>
        <p:spPr>
          <a:xfrm>
            <a:off x="0" y="45720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кар0003"/>
          <p:cNvPicPr/>
          <p:nvPr/>
        </p:nvPicPr>
        <p:blipFill>
          <a:blip r:embed="rId2"/>
          <a:stretch/>
        </p:blipFill>
        <p:spPr>
          <a:xfrm>
            <a:off x="642960" y="257184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кар0002"/>
          <p:cNvPicPr/>
          <p:nvPr/>
        </p:nvPicPr>
        <p:blipFill>
          <a:blip r:embed="rId3"/>
          <a:stretch/>
        </p:blipFill>
        <p:spPr>
          <a:xfrm>
            <a:off x="642960" y="471492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0007"/>
          <p:cNvPicPr/>
          <p:nvPr/>
        </p:nvPicPr>
        <p:blipFill>
          <a:blip r:embed="rId4"/>
          <a:stretch/>
        </p:blipFill>
        <p:spPr>
          <a:xfrm>
            <a:off x="642960" y="400068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кар0006"/>
          <p:cNvPicPr/>
          <p:nvPr/>
        </p:nvPicPr>
        <p:blipFill>
          <a:blip r:embed="rId5"/>
          <a:stretch/>
        </p:blipFill>
        <p:spPr>
          <a:xfrm>
            <a:off x="642960" y="171468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кар0005"/>
          <p:cNvPicPr/>
          <p:nvPr/>
        </p:nvPicPr>
        <p:blipFill>
          <a:blip r:embed="rId6"/>
          <a:stretch/>
        </p:blipFill>
        <p:spPr>
          <a:xfrm>
            <a:off x="642960" y="3214800"/>
            <a:ext cx="69516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 опроса взрослых, просмотра книг мы узнал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773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хопутная черепа является крупнейшим из живущих в настоящее время сухопутных череп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сравнению с пресноводными черепахами сухопутные очень медлительны и неуклюж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л черепахи можно по хвост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 большинства черепах можно определить по углублению на брюшном щите у самцов, которое отсутствует у само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раст черепашки можно определ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панцир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читается, что длина панциря приблизительн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вна её возрас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черепахи принадлежат к древнейшем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ряду животных – рептилия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Рисунок 10" descr="C:\Documents and Settings\User.SAMLAB\Рабочий стол\P8251458.JPG"/>
          <p:cNvPicPr/>
          <p:nvPr/>
        </p:nvPicPr>
        <p:blipFill>
          <a:blip r:embed="rId1"/>
          <a:stretch/>
        </p:blipFill>
        <p:spPr>
          <a:xfrm>
            <a:off x="5715000" y="3500280"/>
            <a:ext cx="328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Экспери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2600" y="2143080"/>
            <a:ext cx="3714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ыяснить, правда ли что пресноводная черепаха передвигается быстрее сухопутной  черепах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Содержимое 75" descr="PA211809_0.tmp"/>
          <p:cNvPicPr/>
          <p:nvPr/>
        </p:nvPicPr>
        <p:blipFill>
          <a:blip r:embed="rId1"/>
          <a:stretch/>
        </p:blipFill>
        <p:spPr>
          <a:xfrm>
            <a:off x="5364000" y="1844640"/>
            <a:ext cx="3311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7"/>
          <p:cNvSpPr/>
          <p:nvPr/>
        </p:nvSpPr>
        <p:spPr>
          <a:xfrm>
            <a:off x="684360" y="28584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8" descr="PA211815_0.tmp"/>
          <p:cNvPicPr/>
          <p:nvPr/>
        </p:nvPicPr>
        <p:blipFill>
          <a:blip r:embed="rId1"/>
          <a:stretch/>
        </p:blipFill>
        <p:spPr>
          <a:xfrm>
            <a:off x="571680" y="2143080"/>
            <a:ext cx="3786120" cy="3857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PA211814_0.tmp"/>
          <p:cNvPicPr/>
          <p:nvPr/>
        </p:nvPicPr>
        <p:blipFill>
          <a:blip r:embed="rId2"/>
          <a:stretch/>
        </p:blipFill>
        <p:spPr>
          <a:xfrm>
            <a:off x="4929120" y="2143080"/>
            <a:ext cx="3929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640" y="1557000"/>
            <a:ext cx="4797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наша гипотеза подтвердилась, сухопутная черепаха передвигается медленнее, чем красноухая черепах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полученная из книг подтверди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Содержимое 8" descr="PA211816_0.tmp"/>
          <p:cNvPicPr/>
          <p:nvPr/>
        </p:nvPicPr>
        <p:blipFill>
          <a:blip r:embed="rId1"/>
          <a:stretch/>
        </p:blipFill>
        <p:spPr>
          <a:xfrm>
            <a:off x="5292720" y="1700280"/>
            <a:ext cx="3562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блюд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643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л черепахи можно по хвос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ычно он у самцов узкий и длинный, н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це обычно имеется вырост по форм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оминающий коготь. Клоака у самц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меет форму продольной полос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 самок же, хвост короткий и широк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конце хвоста нет выроста в вид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гтя, а клоака по форме напоминае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вёздоч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 большинства черепах можн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 углублению на брюшном щите у самцов, которое отсутствует у само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наблюдав за нашей черепахой, мы определили, что это самка и назвали Юля. Наша гипотеза подтвердила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Содержимое 4" descr="02"/>
          <p:cNvPicPr/>
          <p:nvPr/>
        </p:nvPicPr>
        <p:blipFill>
          <a:blip r:embed="rId1"/>
          <a:stretch/>
        </p:blipFill>
        <p:spPr>
          <a:xfrm>
            <a:off x="4700520" y="2428920"/>
            <a:ext cx="4157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4:16:01Z</dcterms:created>
  <dc:creator>User</dc:creator>
  <dc:description/>
  <dc:language>en-US</dc:language>
  <cp:lastModifiedBy>Таня</cp:lastModifiedBy>
  <dcterms:modified xsi:type="dcterms:W3CDTF">2013-05-03T18:18:52Z</dcterms:modified>
  <cp:revision>55</cp:revision>
  <dc:subject/>
  <dc:title>Исследовательская работа</dc:title>
</cp:coreProperties>
</file>