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DD2-1003-4A7B-949D-F4B299E6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DF4-16E6-44A2-92A6-7C908D22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CE0-1F95-4939-BECB-BA6C8910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491-5F34-462D-869C-F5A64CC8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A416-7367-4E67-8A68-25F5BD1B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3375-E9FA-4DA8-AB17-0D298C5A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FD0A-BB25-477F-8823-1647510A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6101-F2D1-44D4-B1E9-64B8654F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3B91-8936-44A5-9B07-E0CD7B92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580A-0506-47F8-B90C-1A50AE40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7E9E-C5AE-4CF6-8D0D-22C3BB76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9EC-6B89-4093-BFEA-2F9A3268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21D0-6F93-4ACB-86D4-3F20A880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48B6-F78C-4DA5-A27C-A6454368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CAF2-29A6-4BBE-AF9B-4E21B712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362E-79CD-4BDC-9481-9A575A6C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B0CF-CDE3-433C-95F9-3B26221F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8D7-5E02-4DE4-B981-6E586D68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E7C-155E-41BC-BD46-DEC2AED7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E8B-748E-406F-B599-6E37F71B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6DC-3B97-4169-BAF7-406444DC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1B6-50E4-4E8C-ABDE-85E52857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A1E-DC2D-405A-AEAF-861B03D4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9C7-A02E-4E6A-8A46-EED1C29C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14AF-ED2B-4BA7-9B11-037E1C61D2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2201-85F2-4822-8BCE-E5D5B6642D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14200"/>
            <a:ext cx="86421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униципально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дошкольное образовательное автономное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реждение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«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етский сад №1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Гнёздышко»  комбинированного вида г .Орска" </a:t>
            </a:r>
            <a:br>
              <a:rPr sz="12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следовательский проект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57160" y="2571840"/>
            <a:ext cx="4500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Мой друг черепаха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вторы: Галкин Андрей– 6 ле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уководитель: Коломиец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тьяна Николаевна- воспитате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985200" y="6237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ск– 20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Содержимое 5" descr="http://www.zootur.ru/images/stories/01.jpg"/>
          <p:cNvPicPr/>
          <p:nvPr/>
        </p:nvPicPr>
        <p:blipFill>
          <a:blip r:embed="rId1"/>
          <a:stretch/>
        </p:blipFill>
        <p:spPr>
          <a:xfrm>
            <a:off x="5292720" y="2492280"/>
            <a:ext cx="35719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Исследова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400" y="1785600"/>
            <a:ext cx="78152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бы определить примерный возраст нашей черепахи, 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мерили её спинной щит от  головы до хво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4500720" y="4572000"/>
            <a:ext cx="45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ак как считается, что длина панциря приблизительно равна возрасту черепахи, можно сделать вывод о том, что нашей черепахе Юле 5 л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Содержимое 9" descr="Изображение 201.jpg"/>
          <p:cNvPicPr/>
          <p:nvPr/>
        </p:nvPicPr>
        <p:blipFill>
          <a:blip r:embed="rId1"/>
          <a:stretch/>
        </p:blipFill>
        <p:spPr>
          <a:xfrm>
            <a:off x="714240" y="3643200"/>
            <a:ext cx="328140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оведя исследование, мы нашл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тветы на интересующие нас вопросы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перь мы знаем, к какому виду относится наша черепаха, как определить её пол и возраст,  как заботиться о ней, чем корми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нимаясь нашим исследованием, мы узнали много интересного о нашей черепахе, сделали фотографии, оформили паспорт «Сухопутная  черепаха», поделились накопленными знаниями с детьми нашей группы и выучили стихотворение И. Мазнина «Черепаха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Литератур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геенко Ю.В. Черепахи. – М.: Вече, 2004. («Животные в вашем доме»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анников А. Г. и др. «Земноводные и пресмыкающиеся СССР». – Москва «Мысль», 197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шей работы – исследовать особенности сухопутных черепах в террариуме и природ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46483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дачи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определить вид черепах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научиться определят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 и возраст сухопутной черепах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брать сведения 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неазиатской сухопутной черепахе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ставить паспор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сухопутная черепах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C:\Users\Таня\Desktop\андрей2.jpg"/>
          <p:cNvPicPr/>
          <p:nvPr/>
        </p:nvPicPr>
        <p:blipFill>
          <a:blip r:embed="rId1"/>
          <a:stretch/>
        </p:blipFill>
        <p:spPr>
          <a:xfrm>
            <a:off x="6012000" y="1844640"/>
            <a:ext cx="2313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Гипотеза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2920" y="1752120"/>
            <a:ext cx="3924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оложим, что наша черепаха относится к Среднеазиатски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ухопутным черепахам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четыре когтя на передних конечност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оложим, что наша сухопутная черепаха передвигается медленнее, чем  красноухая черепаха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пустим, наша черепаха самка, потому что у большинства животных самцы имеют яркий окрас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положим, что нашей черепахе 5 лет, потому что у неё столько щитков на панцир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558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оды исследова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14320"/>
            <a:ext cx="8434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наблюдения за черепахо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помощь родителей и воспитател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использование сети Интерне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проведение экспери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-чтение познавательной литерату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10" descr="кар0004"/>
          <p:cNvPicPr/>
          <p:nvPr/>
        </p:nvPicPr>
        <p:blipFill>
          <a:blip r:embed="rId1"/>
          <a:stretch/>
        </p:blipFill>
        <p:spPr>
          <a:xfrm>
            <a:off x="0" y="457200"/>
            <a:ext cx="695160" cy="66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кар0003"/>
          <p:cNvPicPr/>
          <p:nvPr/>
        </p:nvPicPr>
        <p:blipFill>
          <a:blip r:embed="rId2"/>
          <a:stretch/>
        </p:blipFill>
        <p:spPr>
          <a:xfrm>
            <a:off x="642960" y="2571840"/>
            <a:ext cx="695160" cy="66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кар0002"/>
          <p:cNvPicPr/>
          <p:nvPr/>
        </p:nvPicPr>
        <p:blipFill>
          <a:blip r:embed="rId3"/>
          <a:stretch/>
        </p:blipFill>
        <p:spPr>
          <a:xfrm>
            <a:off x="642960" y="4714920"/>
            <a:ext cx="695160" cy="66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кар0007"/>
          <p:cNvPicPr/>
          <p:nvPr/>
        </p:nvPicPr>
        <p:blipFill>
          <a:blip r:embed="rId4"/>
          <a:stretch/>
        </p:blipFill>
        <p:spPr>
          <a:xfrm>
            <a:off x="642960" y="4000680"/>
            <a:ext cx="695160" cy="66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кар0006"/>
          <p:cNvPicPr/>
          <p:nvPr/>
        </p:nvPicPr>
        <p:blipFill>
          <a:blip r:embed="rId5"/>
          <a:stretch/>
        </p:blipFill>
        <p:spPr>
          <a:xfrm>
            <a:off x="642960" y="1714680"/>
            <a:ext cx="695160" cy="66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кар0005"/>
          <p:cNvPicPr/>
          <p:nvPr/>
        </p:nvPicPr>
        <p:blipFill>
          <a:blip r:embed="rId6"/>
          <a:stretch/>
        </p:blipFill>
        <p:spPr>
          <a:xfrm>
            <a:off x="642960" y="3214800"/>
            <a:ext cx="695160" cy="666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 опроса взрослых, просмотра книг мы узнали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7732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ухопутная черепа является крупнейшим из живущих в настоящее время сухопутных череп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 сравнению с пресноводными черепахами сухопутные очень медлительны и неуклюж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ределить пол черепахи можно по хвост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 большинства черепах можно определить по углублению на брюшном щите у самцов, которое отсутствует у само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раст черепашки можно определи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 панцир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читается, что длина панциря приблизительн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вна её возрасту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то черепахи принадлежат к древнейшему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ряду животных – рептилия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Рисунок 10" descr="C:\Documents and Settings\User.SAMLAB\Рабочий стол\P8251458.JPG"/>
          <p:cNvPicPr/>
          <p:nvPr/>
        </p:nvPicPr>
        <p:blipFill>
          <a:blip r:embed="rId1"/>
          <a:stretch/>
        </p:blipFill>
        <p:spPr>
          <a:xfrm>
            <a:off x="5715000" y="3500280"/>
            <a:ext cx="3286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Экспери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42600" y="2143080"/>
            <a:ext cx="37148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выяснить, правда ли что пресноводная черепаха передвигается быстрее сухопутной  черепах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Содержимое 75" descr="PA211809_0.tmp"/>
          <p:cNvPicPr/>
          <p:nvPr/>
        </p:nvPicPr>
        <p:blipFill>
          <a:blip r:embed="rId1"/>
          <a:stretch/>
        </p:blipFill>
        <p:spPr>
          <a:xfrm>
            <a:off x="5364000" y="1844640"/>
            <a:ext cx="33116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7"/>
          <p:cNvSpPr/>
          <p:nvPr/>
        </p:nvSpPr>
        <p:spPr>
          <a:xfrm>
            <a:off x="684360" y="285840"/>
            <a:ext cx="80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Рисунок 8" descr="PA211815_0.tmp"/>
          <p:cNvPicPr/>
          <p:nvPr/>
        </p:nvPicPr>
        <p:blipFill>
          <a:blip r:embed="rId1"/>
          <a:stretch/>
        </p:blipFill>
        <p:spPr>
          <a:xfrm>
            <a:off x="571680" y="2143080"/>
            <a:ext cx="3786120" cy="3857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9" descr="PA211814_0.tmp"/>
          <p:cNvPicPr/>
          <p:nvPr/>
        </p:nvPicPr>
        <p:blipFill>
          <a:blip r:embed="rId2"/>
          <a:stretch/>
        </p:blipFill>
        <p:spPr>
          <a:xfrm>
            <a:off x="4929120" y="2143080"/>
            <a:ext cx="39290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66640" y="1557000"/>
            <a:ext cx="4797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вод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наша гипотеза подтвердилась, сухопутная черепаха передвигается медленнее, чем красноухая черепах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полученная из книг подтвердила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Содержимое 8" descr="PA211816_0.tmp"/>
          <p:cNvPicPr/>
          <p:nvPr/>
        </p:nvPicPr>
        <p:blipFill>
          <a:blip r:embed="rId1"/>
          <a:stretch/>
        </p:blipFill>
        <p:spPr>
          <a:xfrm>
            <a:off x="5292720" y="1700280"/>
            <a:ext cx="35622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блюд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3840" y="1752120"/>
            <a:ext cx="8643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ределить пол черепахи можно по хвосту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ычно он у самцов узкий и длинный, н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нце обычно имеется вырост по форм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оминающий коготь. Клоака у самц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меет форму продольной полос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 самок же, хвост короткий и широки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 конце хвоста нет выроста в вид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гтя, а клоака по форме напоминает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вёздочк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 большинства черепах можн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ределить по углублению на брюшном щите у самцов, которое отсутствует у само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вод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наблюдав за нашей черепахой, мы определили, что это самка и назвали Юля. Наша гипотеза подтвердилас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Содержимое 4" descr="02"/>
          <p:cNvPicPr/>
          <p:nvPr/>
        </p:nvPicPr>
        <p:blipFill>
          <a:blip r:embed="rId1"/>
          <a:stretch/>
        </p:blipFill>
        <p:spPr>
          <a:xfrm>
            <a:off x="4700520" y="2428920"/>
            <a:ext cx="4157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04:16:01Z</dcterms:created>
  <dc:creator>User</dc:creator>
  <dc:description/>
  <dc:language>en-US</dc:language>
  <cp:lastModifiedBy>Таня</cp:lastModifiedBy>
  <dcterms:modified xsi:type="dcterms:W3CDTF">2013-05-03T18:18:52Z</dcterms:modified>
  <cp:revision>55</cp:revision>
  <dc:subject/>
  <dc:title>Исследовательская работа</dc:title>
</cp:coreProperties>
</file>