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AE0-3FCB-4D97-B2A8-1DDCE9B7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912-F30A-40F0-B0C3-CBC3BCCB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2F5-C43B-4A54-B875-7FF5E910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E01-310C-49E3-B5AC-56C59CC4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74EF-3608-4A98-9020-B874C766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A5A-C140-47F6-864F-22836927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754-9392-4BCB-B68B-1B9D2C8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7F3-F57A-4D2C-AD19-295F0650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78E-DFF9-46B8-8384-EA03DFFE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648-7968-48B9-87D3-5CE92B4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DBE-82CD-4089-9689-E0500B7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BEA-C253-4E84-953B-1789455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A64C-F4FB-4A7C-9EAA-F46D160CFF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Урок математ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381636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58920" y="0"/>
            <a:ext cx="6019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17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79736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4210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t </a:t>
            </a:r>
            <a:r>
              <a:rPr b="1" i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=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lang="ru-RU" sz="9600" spc="-1" strike="noStrike">
                <a:solidFill>
                  <a:srgbClr val="99cc00"/>
                </a:solidFill>
                <a:latin typeface="Times New Roman"/>
                <a:ea typeface="Arial"/>
              </a:rPr>
              <a:t>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5445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1640" y="47628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з пунктов А и В навстречу друг другу выехали автомобиль со скоростью 60 км/ч и велосипедист со скоростью 15 км/ч.    Встретятся ли автомобиль и велосипедист через 2 часа, если расстояние между пунктами     160 к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96000" y="39783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96000" y="3978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260280"/>
            <a:ext cx="86421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С какой скоростью бежал каждый мальчик, если они встретились через 10 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260280"/>
            <a:ext cx="864216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     С какой скоростью бежал каждый мальчик, если они встретились через 10 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ыберите верное решение задачи и дайте пояснение кажд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573360"/>
            <a:ext cx="85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 – 20 = 100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удвоенное расстояние пройденное Фёд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: 2 = 50 (м) – пробежал Фё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+20 = 70 (м) – пробежал 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: 10 = 5 (м /с) – скорость Фёд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0 : 10 = 7 (м/с) – скорость С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260280"/>
            <a:ext cx="8642160" cy="35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ор и Саша одновременно побежали навстречу друг другу по дорожке длиной 120 м. Фёдор пробежал до встречи на 20 м меньше, чем Саша.      С какой скоростью бежал каждый мальчик, если они встретились через 10 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Выберите верное решение задачи и дайте пояснение каждого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73360"/>
            <a:ext cx="85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 – 20 = 100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удвоенное расстояние пройденное Фёд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0 : 2 = 50 (м) – пробежал Фё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0 : 10 = 12 (м/с)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л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0 : 10 = 5 (м/с) – скорость Фёд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2 -5 = 7 (м/с) – скорость Са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1285920" y="980640"/>
            <a:ext cx="785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работал(а) хорошо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я старался(лась), 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получилось не вс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работа на уроке 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получилась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684360" y="1268280"/>
            <a:ext cx="571320" cy="571680"/>
          </a:xfrm>
          <a:prstGeom prst="rect">
            <a:avLst/>
          </a:prstGeom>
          <a:solidFill>
            <a:srgbClr val="008000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755640" y="3141720"/>
            <a:ext cx="500040" cy="500040"/>
          </a:xfrm>
          <a:prstGeom prst="rect">
            <a:avLst/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755640" y="4869000"/>
            <a:ext cx="500040" cy="50004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8847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60360" y="40464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6160" y="134136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2421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7800" y="3860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9080" y="4508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7440" y="551664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41440" y="33336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141300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2720" y="2421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2720" y="3429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2720" y="450864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445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0"/>
            <a:ext cx="19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292640"/>
            <a:ext cx="14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3141720"/>
            <a:ext cx="26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213372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125360"/>
            <a:ext cx="151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5229360"/>
            <a:ext cx="115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89800" y="5373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2.0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7080" y="414972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80.0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1080" y="189000"/>
            <a:ext cx="360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0.090.0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5440" y="220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00.0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6520" y="314172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400.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5080" y="1197000"/>
            <a:ext cx="32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002.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1628640"/>
            <a:ext cx="19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42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9360"/>
            <a:ext cx="26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07920"/>
            <a:ext cx="223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292640"/>
            <a:ext cx="151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45000"/>
            <a:ext cx="11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Times New Roman"/>
              </a:rPr>
              <a:t>Решение задач на движ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4149720"/>
            <a:ext cx="399888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Заголовок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Скорость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V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Время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61128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Расстояние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Скорость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V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168720" cy="3003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708360" y="1557360"/>
            <a:ext cx="51116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коростью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ывается расстояние, пройденное за единицу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км/ч, м/с, км/м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Время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t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LOCK"/>
          <p:cNvPicPr/>
          <p:nvPr/>
        </p:nvPicPr>
        <p:blipFill>
          <a:blip r:embed="rId1"/>
          <a:stretch/>
        </p:blipFill>
        <p:spPr>
          <a:xfrm>
            <a:off x="468360" y="1773360"/>
            <a:ext cx="259704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S00935_"/>
          <p:cNvPicPr/>
          <p:nvPr/>
        </p:nvPicPr>
        <p:blipFill>
          <a:blip r:embed="rId2"/>
          <a:stretch/>
        </p:blipFill>
        <p:spPr>
          <a:xfrm rot="510000">
            <a:off x="2050920" y="3715920"/>
            <a:ext cx="189576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284720" y="1557360"/>
            <a:ext cx="4859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рем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цесс смены явлений, вещей,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ин, сек, ч, сут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Courier New"/>
              </a:rPr>
              <a:t>Расстояние</a:t>
            </a:r>
            <a:r>
              <a:rPr b="1" lang="en-US" sz="6000" spc="-1" strike="noStrike">
                <a:solidFill>
                  <a:srgbClr val="333399"/>
                </a:solidFill>
                <a:latin typeface="Courier New"/>
              </a:rPr>
              <a:t> (s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лин"/>
          <p:cNvPicPr/>
          <p:nvPr/>
        </p:nvPicPr>
        <p:blipFill>
          <a:blip r:embed="rId1"/>
          <a:stretch/>
        </p:blipFill>
        <p:spPr>
          <a:xfrm>
            <a:off x="395280" y="1557360"/>
            <a:ext cx="3449520" cy="2443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ро"/>
          <p:cNvPicPr/>
          <p:nvPr/>
        </p:nvPicPr>
        <p:blipFill>
          <a:blip r:embed="rId2"/>
          <a:stretch/>
        </p:blipFill>
        <p:spPr>
          <a:xfrm>
            <a:off x="2268360" y="3860640"/>
            <a:ext cx="137988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3995640" y="1557360"/>
            <a:ext cx="489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Расстояние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пространство разделяющее два пункта; промежуток между чем-либ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означение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диницы измер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м, см, м, км, шагах.</a:t>
            </a:r>
            <a:r>
              <a:rPr b="0" lang="ru-RU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22:25:49Z</dcterms:created>
  <dc:creator>Елена</dc:creator>
  <dc:description/>
  <dc:language>en-US</dc:language>
  <cp:lastModifiedBy>Олег</cp:lastModifiedBy>
  <dcterms:modified xsi:type="dcterms:W3CDTF">2012-11-21T16:20:53Z</dcterms:modified>
  <cp:revision>15</cp:revision>
  <dc:subject/>
  <dc:title>Слайд 1</dc:title>
</cp:coreProperties>
</file>