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661-6336-4B4E-825E-1C8945F9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F5-49E5-4D07-BFCF-C2DA4EB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834-DE37-479D-A08D-4C6AC3C5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E07-E0AD-49A9-8CD5-C0BFB282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4BC-419A-44CF-931F-4915540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6C4-7196-4063-B1F8-C88E240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71A-77F3-44E8-8CD5-5D30B63D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4DC-D2BC-4822-AE97-69D7F0AB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00E-2242-4635-A407-77DD968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902-81FC-4F0A-A56F-2411F91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B7E-D59B-4C64-9A9B-F10B375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3A5-6B29-426A-B312-E49B592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AE2-FCC3-4789-9E2C-4538ACC78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Урок математ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3816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0"/>
            <a:ext cx="601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17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79736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4210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lang="ru-RU" sz="9600" spc="-1" strike="noStrike">
                <a:solidFill>
                  <a:srgbClr val="99cc00"/>
                </a:solidFill>
                <a:latin typeface="Times New Roman"/>
                <a:ea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445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47628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 пунктов А и В навстречу друг другу выехали автомобиль со скоростью 60 км/ч и велосипедист со скоростью 15 км/ч.    Встретятся ли автомобиль и велосипедист через 2 часа, если расстояние между пунктами     160 к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97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3978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86421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С какой скоростью бежал каждый мальчик, если они встретились через 10 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260280"/>
            <a:ext cx="864216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     С какой скоростью бежал каждый мальчик, если они встретились через 10 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ыберите верное решение задачи и дайте пояснение кажд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573360"/>
            <a:ext cx="85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 – 20 = 100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удвоенное расстояние пройденное Фёд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: 2 = 50 (м) – пробежал Фё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+20 = 70 (м) – пробежал 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: 10 = 5 (м /с) – скорость Фёд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0 : 10 = 7 (м/с) – скорость С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260280"/>
            <a:ext cx="864216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     С какой скоростью бежал каждый мальчик, если они встретились через 10 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ыберите верное решение задачи и дайте пояснение кажд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73360"/>
            <a:ext cx="85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 – 20 = 100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удвоенное расстояние пройденное Фёд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: 2 = 50 (м) – пробежал Фё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 : 10 = 12 (м/с)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л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: 10 = 5 (м/с) – скорость Фёд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 -5 = 7 (м/с) – скорость С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285920" y="980640"/>
            <a:ext cx="785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работал(а) хорош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я старался(лась), 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получилось не в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на уроке 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получилась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684360" y="1268280"/>
            <a:ext cx="571320" cy="571680"/>
          </a:xfrm>
          <a:prstGeom prst="rect">
            <a:avLst/>
          </a:prstGeom>
          <a:solidFill>
            <a:srgbClr val="00800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755640" y="3141720"/>
            <a:ext cx="500040" cy="500040"/>
          </a:xfrm>
          <a:prstGeom prst="rect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55640" y="4869000"/>
            <a:ext cx="500040" cy="50004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4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0360" y="40464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6160" y="134136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2421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7800" y="3860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9080" y="4508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7440" y="55166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1440" y="33336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141300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720" y="2421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2720" y="3429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2720" y="4508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445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0"/>
            <a:ext cx="19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29264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14172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13372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125360"/>
            <a:ext cx="15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522936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89800" y="5373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7080" y="4149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89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5440" y="220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6520" y="314172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5080" y="119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628640"/>
            <a:ext cx="19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42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936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0792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29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4500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Times New Roman"/>
              </a:rPr>
              <a:t>Решение задач на движ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3998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Скорость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V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Время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61128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Расстояние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Скорость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V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168720" cy="3003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708360" y="1557360"/>
            <a:ext cx="51116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коростью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ывается расстояние, пройденное за единицу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м/ч, м/с, км/м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Время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LOCK"/>
          <p:cNvPicPr/>
          <p:nvPr/>
        </p:nvPicPr>
        <p:blipFill>
          <a:blip r:embed="rId1"/>
          <a:stretch/>
        </p:blipFill>
        <p:spPr>
          <a:xfrm>
            <a:off x="468360" y="1773360"/>
            <a:ext cx="259704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S00935_"/>
          <p:cNvPicPr/>
          <p:nvPr/>
        </p:nvPicPr>
        <p:blipFill>
          <a:blip r:embed="rId2"/>
          <a:stretch/>
        </p:blipFill>
        <p:spPr>
          <a:xfrm rot="510000">
            <a:off x="2050920" y="3715920"/>
            <a:ext cx="189576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284720" y="1557360"/>
            <a:ext cx="4859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 смены явлений, вещей,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ин, сек, ч, сут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Расстояние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лин"/>
          <p:cNvPicPr/>
          <p:nvPr/>
        </p:nvPicPr>
        <p:blipFill>
          <a:blip r:embed="rId1"/>
          <a:stretch/>
        </p:blipFill>
        <p:spPr>
          <a:xfrm>
            <a:off x="395280" y="1557360"/>
            <a:ext cx="3449520" cy="244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ро"/>
          <p:cNvPicPr/>
          <p:nvPr/>
        </p:nvPicPr>
        <p:blipFill>
          <a:blip r:embed="rId2"/>
          <a:stretch/>
        </p:blipFill>
        <p:spPr>
          <a:xfrm>
            <a:off x="2268360" y="3860640"/>
            <a:ext cx="137988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95640" y="1557360"/>
            <a:ext cx="489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асстояни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пространство разделяющее два пункта; промежуток между чем-либ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м, см, м, км, шагах.</a:t>
            </a:r>
            <a:r>
              <a:rPr b="0" lang="ru-RU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2:25:49Z</dcterms:created>
  <dc:creator>Елена</dc:creator>
  <dc:description/>
  <dc:language>en-US</dc:language>
  <cp:lastModifiedBy>Олег</cp:lastModifiedBy>
  <dcterms:modified xsi:type="dcterms:W3CDTF">2012-11-21T16:20:53Z</dcterms:modified>
  <cp:revision>15</cp:revision>
  <dc:subject/>
  <dc:title>Слайд 1</dc:title>
</cp:coreProperties>
</file>