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3F0-218F-43EC-8146-84094A57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A43-2A0F-4072-B077-98FC5F3A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B7E-1456-4C12-8835-F837AD0D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9BD-9296-4FB9-B4CC-31BD2FEE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F5B4-ECE9-4530-92A5-0C5258E0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3CF4-A07C-493C-97B6-B9EEC6B0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9B30-1631-40E0-B175-2FB3A363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339D-23C4-46B3-963C-5E99E279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A0AC-F082-4878-95F6-495CD79F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A7C9-8D34-474E-8B64-0A96FBB3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E5BA-6A3E-4995-82D1-8A8073AB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8AA-AAA9-4BDE-8FC0-3E1BEEC7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2AC0-2000-496D-8DCC-377949F2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DA74-5048-486C-9A6B-A4EB849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6368-83B2-497B-B58D-8C9F197F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9E55-67A8-4155-B3BD-EE1ED43B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B4B1-DA0A-4F7A-A4B6-61167F8E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09E-E1B8-4E58-9B5E-EBDED656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C8C-03A1-403C-B27B-07AFA00E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F56-8134-403D-91C2-AA1DFA06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2A9A-83A7-43F2-AE88-2E7DDD6D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E15-1E66-4EC1-A481-7D6BF71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8A7-4D91-414B-908D-B3EEEE5D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8FB-5BC5-48E4-B86C-89049446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AC8A-AEC7-442B-8955-FC47E6FA46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8EEA-65B7-40DA-BD36-0F65DF20F46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…рок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…сиц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м…роз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…на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уч…ник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рагая мамачка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паздравляю тибя с Днем матери! Буду  стараться тибя всигда радавать 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гать тибе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чень тибя люблю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вай сын саш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Лучше матери  в свете не сыщешь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При солнышке - тепло, при матери – добро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en-US" sz="4800" spc="-1" strike="noStrike">
                <a:solidFill>
                  <a:srgbClr val="009900"/>
                </a:solidFill>
                <a:latin typeface="Times New Roman"/>
              </a:rPr>
              <a:t>Сердце матери лучше солнца греет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7280" y="1773360"/>
            <a:ext cx="705672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Семнадцатое ноябр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Классная работ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Если буква гласна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Вызвала сомнени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Ты ее немедленно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Поставь под ударени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Город Чистопис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Озеро Словарных с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Синтаксический ле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Избушка безударных гласны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00"/>
                </a:solidFill>
                <a:uFillTx/>
                <a:latin typeface="Comic Sans MS"/>
              </a:rPr>
              <a:t>Город Умники и Умниц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1052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220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 rot="5400000">
            <a:off x="1079280" y="2239560"/>
            <a:ext cx="3024000" cy="266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Я</a:t>
            </a:r>
            <a:endParaRPr b="1" i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2" name=""/>
          <p:cNvSpPr txBox="1"/>
          <p:nvPr/>
        </p:nvSpPr>
        <p:spPr>
          <a:xfrm rot="5400000">
            <a:off x="5239440" y="2184840"/>
            <a:ext cx="233676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М</a:t>
            </a:r>
            <a:endParaRPr b="1" i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8:36:54Z</dcterms:created>
  <dc:creator>Иван</dc:creator>
  <dc:description/>
  <dc:language>en-US</dc:language>
  <cp:lastModifiedBy>Иван</cp:lastModifiedBy>
  <dcterms:modified xsi:type="dcterms:W3CDTF">2012-11-16T21:07:57Z</dcterms:modified>
  <cp:revision>2</cp:revision>
  <dc:subject/>
  <dc:title>Слайд 1</dc:title>
</cp:coreProperties>
</file>