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45E6-67BC-4068-A37E-9C292FA2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2BAF-D9CA-4BAF-8FC0-9D7D41BE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CD4F-2772-42DE-A0FA-2D5C236F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ACE5-2BEF-473B-8D70-6827C132D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0719-2695-4720-B7DC-D1AA26E6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E54D-E05B-485B-9F4D-9393A9AD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9C19-02A0-4C07-85D8-8D0613C2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710F-A102-43F0-9374-12280C80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8695-C3B1-497B-AF30-41F52673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E833-6E47-4FFA-BF34-097B3CB6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40BD-249F-4167-9626-96F51936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2C44-3929-4483-91DB-3EE9A808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B5E3-B562-4736-AED0-FB031FBA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49DE-9F54-4D92-A8BE-8D870467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A4FF-E91F-4B7A-89D6-930B40F6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9E2D-B00B-492F-92E0-576EE399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F2BE-3E73-4CA8-9D9E-40B3BC98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8B6B-A362-4E30-8F13-CBBE45F4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6D4F-49D6-442B-9F9E-DA1C21C9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ED4A-0430-4FA4-9996-8F28EFE9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710-AD6F-4B49-A9FD-FE2F0E61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F87-A980-4B08-8F2E-F8F5E039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377F-E558-4578-A141-17751204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D453-BCAC-4015-A3B2-B869039C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D192-0B5B-43D5-9D9C-21F877F18D8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0C5F-FDD0-4175-81FF-02D6D81BDEC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…рок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л…сиц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м…роз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п…нал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уч…ни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2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рагая мамачка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Я паздравляю тибя с Днем матери! Буду  стараться тибя всигда радавать и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могать тибе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чень тибя люблю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вай сын саша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800" spc="-1" strike="noStrike">
                <a:solidFill>
                  <a:srgbClr val="009900"/>
                </a:solidFill>
                <a:latin typeface="Times New Roman"/>
              </a:rPr>
              <a:t>Лучше матери  в свете не сыщешь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i="1" lang="en-US" sz="4800" spc="-1" strike="noStrike">
                <a:solidFill>
                  <a:srgbClr val="009900"/>
                </a:solidFill>
                <a:latin typeface="Times New Roman"/>
              </a:rPr>
              <a:t>При солнышке - тепло, при матери – добро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i="1" lang="en-US" sz="4800" spc="-1" strike="noStrike">
                <a:solidFill>
                  <a:srgbClr val="009900"/>
                </a:solidFill>
                <a:latin typeface="Times New Roman"/>
              </a:rPr>
              <a:t>Сердце матери лучше солнца греет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87280" y="1773360"/>
            <a:ext cx="705672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Семнадцатое ноября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Классная работ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5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Если буква гласная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Вызвала сомнение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Ты ее немедленно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Поставь под ударение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 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Comic Sans MS"/>
              </a:rPr>
              <a:t>Город Чистопис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00"/>
                </a:solidFill>
                <a:uFillTx/>
                <a:latin typeface="Comic Sans MS"/>
              </a:rPr>
              <a:t>Озеро Словарных сл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00"/>
                </a:solidFill>
                <a:uFillTx/>
                <a:latin typeface="Comic Sans MS"/>
              </a:rPr>
              <a:t>Синтаксический ле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00"/>
                </a:solidFill>
                <a:uFillTx/>
                <a:latin typeface="Comic Sans MS"/>
              </a:rPr>
              <a:t>Избушка безударных гласн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00"/>
                </a:solidFill>
                <a:uFillTx/>
                <a:latin typeface="Comic Sans MS"/>
              </a:rPr>
              <a:t>Город Умники и Умниц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1052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45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 rot="5400000">
            <a:off x="1079280" y="2239560"/>
            <a:ext cx="3024000" cy="2665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Я</a:t>
            </a:r>
            <a:endParaRPr b="1" i="1" lang="en-US" sz="6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2" name=""/>
          <p:cNvSpPr txBox="1"/>
          <p:nvPr/>
        </p:nvSpPr>
        <p:spPr>
          <a:xfrm rot="5400000">
            <a:off x="5239440" y="2184840"/>
            <a:ext cx="2336760" cy="237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М</a:t>
            </a:r>
            <a:endParaRPr b="1" i="1" lang="en-US" sz="6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8:36:54Z</dcterms:created>
  <dc:creator>Иван</dc:creator>
  <dc:description/>
  <dc:language>en-US</dc:language>
  <cp:lastModifiedBy>Иван</cp:lastModifiedBy>
  <dcterms:modified xsi:type="dcterms:W3CDTF">2012-11-16T21:07:57Z</dcterms:modified>
  <cp:revision>2</cp:revision>
  <dc:subject/>
  <dc:title>Слайд 1</dc:title>
</cp:coreProperties>
</file>