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0.png" ContentType="image/png"/>
  <Override PartName="/ppt/media/image9.jpeg" ContentType="image/jpeg"/>
  <Override PartName="/ppt/media/image7.jpeg" ContentType="image/jpeg"/>
  <Override PartName="/ppt/media/image6.png" ContentType="image/png"/>
  <Override PartName="/ppt/media/image11.gif" ContentType="image/gif"/>
  <Override PartName="/ppt/media/image5.jpeg" ContentType="image/jpeg"/>
  <Override PartName="/ppt/media/image13.jpeg" ContentType="image/jpeg"/>
  <Override PartName="/ppt/media/image8.jpeg" ContentType="image/jpeg"/>
  <Override PartName="/ppt/media/image22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D2E-F112-4DB3-A067-373E8751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C6F-EEC8-46D4-A6B2-1FDE1DC5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572-6118-4A92-9D8A-3C90CB63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3E11-B850-427B-A923-07BFB42D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F8406-4B97-49D8-8F97-21CDC1FD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D503F-FB3C-4C9B-B761-DC76CB3C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11218-4A86-4EEE-8571-7FE2CDAC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67C2C-1311-446F-9CE8-8E9E6B52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95FFB-A561-45C8-B760-F7FD7F04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31764-B885-4706-8E8B-7B1B4B9D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C08F2-B6B2-459A-A237-A41211FA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4EB2-64AB-4271-BCB5-55F2153E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01F1C-14AA-4DD4-8695-72186DED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F6C63-B60E-4181-B36B-01D0F4AA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2663E-1668-4A62-8468-DE8AC76D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2BE56-1DB4-483A-8DFF-2628E47D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B16D9-9CBD-4619-942C-A325D7B7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B2C203-5024-467E-96DA-06EF6C1A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ECB464-9C54-4FD7-AA47-0A1019E3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9851F0-EE3C-4982-AC8E-5C964FDB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794012-A888-4808-ACF2-2C23F09E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8961FC-0B59-4010-BB44-F4F39BDA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303-7194-4626-A446-922B2F1A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4513A3-A053-4786-9079-B4B0D75E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9C330C-C129-4158-A64F-3DA7080A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006AE5-FA4E-4711-82F2-3442411C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FCBDD4-FE56-4AFF-8158-55FCD214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EFD6BD-44DF-4373-9EC2-635A0F40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0B3B1C-04A5-43E2-B90D-C5012371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576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50480" y="175248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74140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59576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50480" y="3942000"/>
            <a:ext cx="17658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0A63F1-F8F8-4E68-854C-A32FFF3D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1F5-C09B-40D2-ACCA-51981DBF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D499-870F-4545-805C-32524144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83772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1A1D-4039-47C7-B631-76805A02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506B-AF7B-421C-B4C8-80F7AD7C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51920" y="394200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81EE-59D9-477D-8BA7-DD62CF31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40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1920" y="1752480"/>
            <a:ext cx="26762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400" y="3942000"/>
            <a:ext cx="54846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7802-E578-4637-8A4A-6EEB4A64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3399-7DC8-4251-B7B1-054BAB011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400" y="1752480"/>
            <a:ext cx="5484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2" marL="10857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3" marL="142884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4" marL="1771560" indent="-228600">
              <a:spcBef>
                <a:spcPts val="550"/>
              </a:spcBef>
              <a:buClr>
                <a:srgbClr val="5c230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5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  <a:p>
            <a:pPr lvl="6" marL="177156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c2305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E4BC-4DC9-43E3-8CDE-DB0AE7D806C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dt" idx="6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533520"/>
            <a:ext cx="8458200" cy="5790960"/>
          </a:xfrm>
          <a:prstGeom prst="rect">
            <a:avLst/>
          </a:prstGeom>
          <a:solidFill>
            <a:srgbClr val="ffffff">
              <a:alpha val="80000"/>
            </a:srgbClr>
          </a:solidFill>
          <a:ln cap="sq" w="38160">
            <a:solidFill>
              <a:srgbClr val="5c2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762120"/>
            <a:ext cx="8001000" cy="5333760"/>
          </a:xfrm>
          <a:prstGeom prst="rect">
            <a:avLst/>
          </a:prstGeom>
          <a:noFill/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41400" y="1370160"/>
            <a:ext cx="54846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5c2305"/>
                </a:solidFill>
                <a:latin typeface="Verdana"/>
              </a:rPr>
              <a:t>Click to edit the title text format</a:t>
            </a:r>
            <a:endParaRPr b="1" lang="en-US" sz="4600" spc="-1" strike="noStrike">
              <a:solidFill>
                <a:srgbClr val="5c2305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7"/>
          </p:nvPr>
        </p:nvSpPr>
        <p:spPr>
          <a:xfrm>
            <a:off x="8076960" y="6414840"/>
            <a:ext cx="7398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5E1B-BC37-49B8-9FF6-FB8DD95B7A3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580920" y="6415200"/>
            <a:ext cx="4419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9"/>
          </p:nvPr>
        </p:nvSpPr>
        <p:spPr>
          <a:xfrm>
            <a:off x="190476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youtube.com/watch?v=YF5wIwKSovU" TargetMode="External"/><Relationship Id="rId4" Type="http://schemas.openxmlformats.org/officeDocument/2006/relationships/hyperlink" Target="http://www.bawi.ru/images/bpic_0046245.gif" TargetMode="External"/><Relationship Id="rId5" Type="http://schemas.openxmlformats.org/officeDocument/2006/relationships/hyperlink" Target="http://www.bawi.ru/images/bpic_0046245.gif" TargetMode="External"/><Relationship Id="rId6" Type="http://schemas.openxmlformats.org/officeDocument/2006/relationships/hyperlink" Target="http://www.bawi.ru/images/bpic_0046245.gif" TargetMode="External"/><Relationship Id="rId7" Type="http://schemas.openxmlformats.org/officeDocument/2006/relationships/hyperlink" Target="http://www.bawi.ru/images/bpic_0046245.gif" TargetMode="External"/><Relationship Id="rId8" Type="http://schemas.openxmlformats.org/officeDocument/2006/relationships/hyperlink" Target="http://www.bawi.ru/images/bpic_0046245.gif" TargetMode="External"/><Relationship Id="rId9" Type="http://schemas.openxmlformats.org/officeDocument/2006/relationships/hyperlink" Target="http://www.bawi.ru/images/bpic_0046245.gif" TargetMode="External"/><Relationship Id="rId10" Type="http://schemas.openxmlformats.org/officeDocument/2006/relationships/hyperlink" Target="http://img1.liveinternet.ru/images/foto/b/3/417/2243417/f_14356232.jpg" TargetMode="External"/><Relationship Id="rId11" Type="http://schemas.openxmlformats.org/officeDocument/2006/relationships/hyperlink" Target="http://img1.liveinternet.ru/images/foto/b/3/417/2243417/f_14356232.jpg" TargetMode="External"/><Relationship Id="rId12" Type="http://schemas.openxmlformats.org/officeDocument/2006/relationships/hyperlink" Target="http://img1.liveinternet.ru/images/foto/b/3/417/2243417/f_14356232.jpg" TargetMode="External"/><Relationship Id="rId13" Type="http://schemas.openxmlformats.org/officeDocument/2006/relationships/hyperlink" Target="http://img1.liveinternet.ru/images/foto/b/3/417/2243417/f_14356232.jpg" TargetMode="External"/><Relationship Id="rId14" Type="http://schemas.openxmlformats.org/officeDocument/2006/relationships/hyperlink" Target="http://img1.liveinternet.ru/images/foto/b/3/417/2243417/f_14356232.jpg" TargetMode="External"/><Relationship Id="rId15" Type="http://schemas.openxmlformats.org/officeDocument/2006/relationships/hyperlink" Target="http://img1.liveinternet.ru/images/foto/b/3/417/2243417/f_14356232.jpg" TargetMode="External"/><Relationship Id="rId1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55640" y="981000"/>
            <a:ext cx="748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Классная работа.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2060640"/>
            <a:ext cx="7410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99"/>
                </a:solidFill>
                <a:latin typeface="Monotype Corsiva"/>
              </a:rPr>
              <a:t>Правописание суффиксов существительных           -ЕК/-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203640" y="3860640"/>
            <a:ext cx="503280" cy="21600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06920" y="3860640"/>
            <a:ext cx="431640" cy="21600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716360" y="3860640"/>
            <a:ext cx="503280" cy="21600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19640" y="3860640"/>
            <a:ext cx="432000" cy="21600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732720" y="4292640"/>
            <a:ext cx="1938240" cy="2421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03280" y="5300640"/>
            <a:ext cx="51134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нава Тамара Фёдоров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39 г.Иркут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evt="end">
                                        <p:tn val="30"/>
                                      </p:cond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39640" y="765000"/>
            <a:ext cx="7920000" cy="5334480"/>
          </a:xfrm>
          <a:prstGeom prst="rect">
            <a:avLst/>
          </a:prstGeom>
          <a:solidFill>
            <a:srgbClr val="f0f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описание суффиксов существительны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-ЕК/-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при склонении слова гласная бу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ВЫПАДАЕТ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НЕ ВЫПАД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56000" y="3716280"/>
            <a:ext cx="0" cy="309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00720" y="3716280"/>
            <a:ext cx="0" cy="309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771280" y="2781360"/>
            <a:ext cx="452520" cy="3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940360" y="2781360"/>
            <a:ext cx="452520" cy="333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195640" y="4076640"/>
            <a:ext cx="718920" cy="593640"/>
            <a:chOff x="2195640" y="4076640"/>
            <a:chExt cx="718920" cy="593640"/>
          </a:xfrm>
        </p:grpSpPr>
        <p:sp>
          <p:nvSpPr>
            <p:cNvPr id="215" name=""/>
            <p:cNvSpPr/>
            <p:nvPr/>
          </p:nvSpPr>
          <p:spPr>
            <a:xfrm>
              <a:off x="2195640" y="414972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Е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338560" y="4076640"/>
              <a:ext cx="193680" cy="1443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56000" y="4076640"/>
              <a:ext cx="215640" cy="1443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258920" y="4797360"/>
            <a:ext cx="280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амоч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Tahoma"/>
              </a:rPr>
              <a:t>Е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К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– замо</a:t>
            </a:r>
            <a:r>
              <a:rPr b="1" lang="ru-RU" sz="2000" spc="-1" strike="noStrike" u="sng">
                <a:solidFill>
                  <a:srgbClr val="003399"/>
                </a:solidFill>
                <a:uFillTx/>
                <a:latin typeface="Tahoma"/>
              </a:rPr>
              <a:t>чк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ыноч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Tahoma"/>
              </a:rPr>
              <a:t>Е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К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- сыно</a:t>
            </a:r>
            <a:r>
              <a:rPr b="1" lang="ru-RU" sz="2000" spc="-1" strike="noStrike" u="sng">
                <a:solidFill>
                  <a:srgbClr val="003399"/>
                </a:solidFill>
                <a:uFillTx/>
                <a:latin typeface="Tahoma"/>
              </a:rPr>
              <a:t>чк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940360" y="4076640"/>
            <a:ext cx="718920" cy="593640"/>
            <a:chOff x="5940360" y="4076640"/>
            <a:chExt cx="718920" cy="593640"/>
          </a:xfrm>
        </p:grpSpPr>
        <p:sp>
          <p:nvSpPr>
            <p:cNvPr id="220" name=""/>
            <p:cNvSpPr/>
            <p:nvPr/>
          </p:nvSpPr>
          <p:spPr>
            <a:xfrm>
              <a:off x="5940360" y="414972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И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083280" y="4076640"/>
              <a:ext cx="193680" cy="1443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00720" y="4076640"/>
              <a:ext cx="215640" cy="1443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859280" y="4869000"/>
            <a:ext cx="30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люч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Tahoma"/>
              </a:rPr>
              <a:t>ИК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– ключ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Tahoma"/>
              </a:rPr>
              <a:t>ИК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шалаш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Tahoma"/>
              </a:rPr>
              <a:t>ИК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- шалаш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Tahoma"/>
              </a:rPr>
              <a:t>Ик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59440" y="4005360"/>
            <a:ext cx="2284560" cy="285264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395280" y="620640"/>
            <a:ext cx="7272360" cy="4390920"/>
            <a:chOff x="395280" y="620640"/>
            <a:chExt cx="7272360" cy="4390920"/>
          </a:xfrm>
        </p:grpSpPr>
        <p:sp>
          <p:nvSpPr>
            <p:cNvPr id="226" name=""/>
            <p:cNvSpPr/>
            <p:nvPr/>
          </p:nvSpPr>
          <p:spPr>
            <a:xfrm>
              <a:off x="395280" y="620640"/>
              <a:ext cx="7272360" cy="4390920"/>
            </a:xfrm>
            <a:prstGeom prst="cloudCallout">
              <a:avLst>
                <a:gd name="adj1" fmla="val 47796"/>
                <a:gd name="adj2" fmla="val 54050"/>
              </a:avLst>
            </a:prstGeom>
            <a:solidFill>
              <a:srgbClr val="ffff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21192000">
              <a:off x="1102320" y="1912680"/>
              <a:ext cx="59770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Monotype Corsiva"/>
                </a:rPr>
                <a:t>Потренируемся?!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3598920" cy="2808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492360" y="126828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бараш…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342900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Р.п.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бараш  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59280" y="335772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ff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867280" y="1125000"/>
            <a:ext cx="865080" cy="288000"/>
            <a:chOff x="5867280" y="1125000"/>
            <a:chExt cx="865080" cy="288000"/>
          </a:xfrm>
        </p:grpSpPr>
        <p:sp>
          <p:nvSpPr>
            <p:cNvPr id="233" name=""/>
            <p:cNvSpPr/>
            <p:nvPr/>
          </p:nvSpPr>
          <p:spPr>
            <a:xfrm flipV="1">
              <a:off x="5867280" y="1125000"/>
              <a:ext cx="433080" cy="28764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00360" y="1125360"/>
              <a:ext cx="432000" cy="28764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6859440" y="4005360"/>
            <a:ext cx="22845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8776E-006 L -0.35035 -0.30418 E">
                                      <p:cBhvr>
                                        <p:cTn id="367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35 -0.30418 L 0.09861 -0.31483 E">
                                      <p:cBhvr>
                                        <p:cTn id="370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826920" y="907920"/>
            <a:ext cx="2897280" cy="3600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067280" y="1628640"/>
            <a:ext cx="26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кот   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35280" y="31417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ff"/>
                </a:solidFill>
                <a:latin typeface="Arial"/>
              </a:rPr>
              <a:t>Р.п.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кот  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40360" y="3141720"/>
            <a:ext cx="5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64000" y="162864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ff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508720" y="1557360"/>
            <a:ext cx="864720" cy="287280"/>
            <a:chOff x="5508720" y="1557360"/>
            <a:chExt cx="864720" cy="287280"/>
          </a:xfrm>
        </p:grpSpPr>
        <p:sp>
          <p:nvSpPr>
            <p:cNvPr id="242" name=""/>
            <p:cNvSpPr/>
            <p:nvPr/>
          </p:nvSpPr>
          <p:spPr>
            <a:xfrm flipV="1">
              <a:off x="5508720" y="1557360"/>
              <a:ext cx="433080" cy="287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1800" y="1557360"/>
              <a:ext cx="431640" cy="287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859440" y="4005360"/>
            <a:ext cx="22845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244000" y="620640"/>
            <a:ext cx="503280" cy="504720"/>
          </a:xfrm>
          <a:prstGeom prst="rect">
            <a:avLst/>
          </a:prstGeom>
          <a:solidFill>
            <a:srgbClr val="fef8f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528480"/>
            <a:ext cx="2521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нт...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ыноч..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оточ..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...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...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соч....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оч....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25440" y="528480"/>
            <a:ext cx="160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нт</a:t>
            </a:r>
            <a:r>
              <a:rPr b="1" lang="en-US" sz="3600" spc="-1" strike="noStrike">
                <a:solidFill>
                  <a:srgbClr val="f87d46"/>
                </a:solidFill>
                <a:latin typeface="Times New Roman"/>
                <a:ea typeface="Times New Roman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18520" y="2184480"/>
            <a:ext cx="20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ото</a:t>
            </a:r>
            <a:r>
              <a:rPr b="1" lang="en-US" sz="3600" spc="-1" strike="noStrike">
                <a:solidFill>
                  <a:srgbClr val="89e9ff"/>
                </a:solidFill>
                <a:latin typeface="Times New Roman"/>
                <a:ea typeface="Times New Roman"/>
              </a:rPr>
              <a:t>ч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60720" y="2976480"/>
            <a:ext cx="170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</a:t>
            </a:r>
            <a:r>
              <a:rPr b="1" lang="en-US" sz="3600" spc="-1" strike="noStrike">
                <a:solidFill>
                  <a:srgbClr val="f87d46"/>
                </a:solidFill>
                <a:latin typeface="Times New Roman"/>
                <a:ea typeface="Times New Roman"/>
              </a:rPr>
              <a:t>и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61440" y="3840120"/>
            <a:ext cx="184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</a:t>
            </a:r>
            <a:r>
              <a:rPr b="1" lang="en-US" sz="3600" spc="-1" strike="noStrike">
                <a:solidFill>
                  <a:srgbClr val="f87d46"/>
                </a:solidFill>
                <a:latin typeface="Times New Roman"/>
                <a:ea typeface="Times New Roman"/>
              </a:rPr>
              <a:t>и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5080" y="470520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со</a:t>
            </a:r>
            <a:r>
              <a:rPr b="1" lang="en-US" sz="3600" spc="-1" strike="noStrike">
                <a:solidFill>
                  <a:srgbClr val="89e9ff"/>
                </a:solidFill>
                <a:latin typeface="Times New Roman"/>
                <a:ea typeface="Times New Roman"/>
              </a:rPr>
              <a:t>ч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78160" y="5497560"/>
            <a:ext cx="19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о</a:t>
            </a:r>
            <a:r>
              <a:rPr b="1" lang="en-US" sz="3600" spc="-1" strike="noStrike">
                <a:solidFill>
                  <a:srgbClr val="89e9ff"/>
                </a:solidFill>
                <a:latin typeface="Times New Roman"/>
                <a:ea typeface="Times New Roman"/>
              </a:rPr>
              <a:t>ч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26520" y="1465200"/>
            <a:ext cx="19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ыноч</a:t>
            </a:r>
            <a:r>
              <a:rPr b="1" lang="en-US" sz="36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54160" y="2184480"/>
            <a:ext cx="20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оточ</a:t>
            </a:r>
            <a:r>
              <a:rPr b="1" lang="en-US" sz="36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7800" y="2976480"/>
            <a:ext cx="14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</a:t>
            </a:r>
            <a:r>
              <a:rPr b="1" lang="en-US" sz="3600" spc="-1" strike="noStrike">
                <a:solidFill>
                  <a:srgbClr val="f87d46"/>
                </a:solidFill>
                <a:latin typeface="Times New Roman"/>
                <a:ea typeface="Times New Roman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98160" y="3840120"/>
            <a:ext cx="16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</a:t>
            </a:r>
            <a:r>
              <a:rPr b="1" lang="en-US" sz="3600" spc="-1" strike="noStrike">
                <a:solidFill>
                  <a:srgbClr val="f87d46"/>
                </a:solidFill>
                <a:latin typeface="Times New Roman"/>
                <a:ea typeface="Times New Roman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97800" y="4705200"/>
            <a:ext cx="18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соч</a:t>
            </a:r>
            <a:r>
              <a:rPr b="1" lang="en-US" sz="36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69080" y="5497560"/>
            <a:ext cx="193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оч</a:t>
            </a:r>
            <a:r>
              <a:rPr b="1" lang="en-US" sz="36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40360" y="11764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84720" y="19684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84720" y="44164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00720" y="52815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195640" y="528480"/>
            <a:ext cx="2736720" cy="642600"/>
            <a:chOff x="2195640" y="528480"/>
            <a:chExt cx="2736720" cy="642600"/>
          </a:xfrm>
        </p:grpSpPr>
        <p:sp>
          <p:nvSpPr>
            <p:cNvPr id="264" name=""/>
            <p:cNvSpPr/>
            <p:nvPr/>
          </p:nvSpPr>
          <p:spPr>
            <a:xfrm>
              <a:off x="2987640" y="52848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зонт</a:t>
              </a:r>
              <a:r>
                <a:rPr b="1" lang="en-US" sz="3600" spc="-1" strike="noStrike">
                  <a:solidFill>
                    <a:srgbClr val="f87d46"/>
                  </a:solidFill>
                  <a:latin typeface="Times New Roman"/>
                  <a:ea typeface="Times New Roman"/>
                </a:rPr>
                <a:t>ик</a:t>
              </a: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95640" y="888840"/>
              <a:ext cx="57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076720" y="888840"/>
            <a:ext cx="432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556000" y="1392120"/>
            <a:ext cx="2344320" cy="642600"/>
            <a:chOff x="2556000" y="1392120"/>
            <a:chExt cx="2344320" cy="642600"/>
          </a:xfrm>
        </p:grpSpPr>
        <p:sp>
          <p:nvSpPr>
            <p:cNvPr id="268" name=""/>
            <p:cNvSpPr/>
            <p:nvPr/>
          </p:nvSpPr>
          <p:spPr>
            <a:xfrm>
              <a:off x="2918160" y="1392120"/>
              <a:ext cx="198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ыно</a:t>
              </a:r>
              <a:r>
                <a:rPr b="1" lang="en-US" sz="3600" spc="-1" strike="noStrike">
                  <a:solidFill>
                    <a:srgbClr val="89e9ff"/>
                  </a:solidFill>
                  <a:latin typeface="Times New Roman"/>
                  <a:ea typeface="Times New Roman"/>
                </a:rPr>
                <a:t>чк</a:t>
              </a: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56000" y="1752480"/>
              <a:ext cx="360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5076720" y="1752480"/>
            <a:ext cx="574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56000" y="254484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48360" y="2544840"/>
            <a:ext cx="431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95640" y="3408480"/>
            <a:ext cx="720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8360" y="3336840"/>
            <a:ext cx="647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11280" y="4200480"/>
            <a:ext cx="576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48360" y="4200480"/>
            <a:ext cx="576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56000" y="506412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19640" y="506412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71640" y="5929200"/>
            <a:ext cx="505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92720" y="585612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00360" y="0"/>
            <a:ext cx="3024000" cy="459720"/>
          </a:xfrm>
          <a:prstGeom prst="rect">
            <a:avLst/>
          </a:prstGeom>
          <a:solidFill>
            <a:srgbClr val="f0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.п. (кого? чег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38889E-006 2.59259E-006 L 0.44896 -0.09167 E">
                                      <p:cBhvr>
                                        <p:cTn id="434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0.43316 -0.20718 E">
                                      <p:cBhvr>
                                        <p:cTn id="467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-0.03889 L 0.43316 -0.56412 E">
                                      <p:cBhvr>
                                        <p:cTn id="543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8403 L 0.40938 -0.69028 E">
                                      <p:cBhvr>
                                        <p:cTn id="576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08000" y="476280"/>
            <a:ext cx="7272360" cy="4390920"/>
          </a:xfrm>
          <a:prstGeom prst="cloudCallout">
            <a:avLst>
              <a:gd name="adj1" fmla="val 47796"/>
              <a:gd name="adj2" fmla="val 54050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21192000">
            <a:off x="1258560" y="1125000"/>
            <a:ext cx="491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Поработаем с учебником!                      стр. ___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§ ____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21192000">
            <a:off x="997560" y="1262160"/>
            <a:ext cx="597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Задание: запишите слова, вставьте пропущенные букв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7164360" y="4005360"/>
            <a:ext cx="22845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24000" y="476280"/>
            <a:ext cx="8569080" cy="63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с...к, носоч...к, зайч...к,  мяч...к, замоч....к, глоточ..к, фонар..к, ломт...к, лист..к, дожд..к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79640" y="549360"/>
            <a:ext cx="9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7d46"/>
                </a:solidFill>
                <a:latin typeface="Tahoma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24360" y="1628640"/>
            <a:ext cx="9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7d46"/>
                </a:solidFill>
                <a:latin typeface="Tahoma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44720" y="3860640"/>
            <a:ext cx="9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7d46"/>
                </a:solidFill>
                <a:latin typeface="Tahoma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24000" y="4940280"/>
            <a:ext cx="9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7d46"/>
                </a:solidFill>
                <a:latin typeface="Tahoma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653080" y="4940280"/>
            <a:ext cx="9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7d46"/>
                </a:solidFill>
                <a:latin typeface="Tahoma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68360" y="1628640"/>
            <a:ext cx="9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7d46"/>
                </a:solidFill>
                <a:latin typeface="Tahoma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940360" y="476280"/>
            <a:ext cx="9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ff"/>
                </a:solidFill>
                <a:latin typeface="Tahoma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16360" y="2637000"/>
            <a:ext cx="93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ff"/>
                </a:solidFill>
                <a:latin typeface="Tahoma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2708280"/>
            <a:ext cx="9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ff"/>
                </a:solidFill>
                <a:latin typeface="Tahoma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45080" y="3860640"/>
            <a:ext cx="9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7d46"/>
                </a:solidFill>
                <a:latin typeface="Tahoma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195640" y="620640"/>
            <a:ext cx="936000" cy="216000"/>
            <a:chOff x="2195640" y="620640"/>
            <a:chExt cx="936000" cy="216000"/>
          </a:xfrm>
        </p:grpSpPr>
        <p:sp>
          <p:nvSpPr>
            <p:cNvPr id="298" name=""/>
            <p:cNvSpPr/>
            <p:nvPr/>
          </p:nvSpPr>
          <p:spPr>
            <a:xfrm flipV="1">
              <a:off x="2195640" y="620640"/>
              <a:ext cx="46836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64000" y="620640"/>
              <a:ext cx="46764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084720" y="620640"/>
            <a:ext cx="936360" cy="216000"/>
            <a:chOff x="6084720" y="620640"/>
            <a:chExt cx="936360" cy="216000"/>
          </a:xfrm>
        </p:grpSpPr>
        <p:sp>
          <p:nvSpPr>
            <p:cNvPr id="301" name=""/>
            <p:cNvSpPr/>
            <p:nvPr/>
          </p:nvSpPr>
          <p:spPr>
            <a:xfrm flipV="1">
              <a:off x="6084720" y="620640"/>
              <a:ext cx="46836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53080" y="620640"/>
              <a:ext cx="46800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411280" y="1700280"/>
            <a:ext cx="936360" cy="216000"/>
            <a:chOff x="2411280" y="1700280"/>
            <a:chExt cx="936360" cy="216000"/>
          </a:xfrm>
        </p:grpSpPr>
        <p:sp>
          <p:nvSpPr>
            <p:cNvPr id="304" name=""/>
            <p:cNvSpPr/>
            <p:nvPr/>
          </p:nvSpPr>
          <p:spPr>
            <a:xfrm flipV="1">
              <a:off x="2411280" y="1700280"/>
              <a:ext cx="46836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79640" y="1700280"/>
              <a:ext cx="46800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940360" y="1700280"/>
            <a:ext cx="936360" cy="216000"/>
            <a:chOff x="5940360" y="1700280"/>
            <a:chExt cx="936360" cy="216000"/>
          </a:xfrm>
        </p:grpSpPr>
        <p:sp>
          <p:nvSpPr>
            <p:cNvPr id="307" name=""/>
            <p:cNvSpPr/>
            <p:nvPr/>
          </p:nvSpPr>
          <p:spPr>
            <a:xfrm flipV="1">
              <a:off x="5940360" y="1700280"/>
              <a:ext cx="46836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8720" y="1700280"/>
              <a:ext cx="46800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3132000" y="2781360"/>
            <a:ext cx="936360" cy="216000"/>
            <a:chOff x="3132000" y="2781360"/>
            <a:chExt cx="936360" cy="216000"/>
          </a:xfrm>
        </p:grpSpPr>
        <p:sp>
          <p:nvSpPr>
            <p:cNvPr id="310" name=""/>
            <p:cNvSpPr/>
            <p:nvPr/>
          </p:nvSpPr>
          <p:spPr>
            <a:xfrm flipV="1">
              <a:off x="3132000" y="2781360"/>
              <a:ext cx="46836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600360" y="2781360"/>
              <a:ext cx="46800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7524720" y="2852640"/>
            <a:ext cx="936360" cy="216000"/>
            <a:chOff x="7524720" y="2852640"/>
            <a:chExt cx="936360" cy="216000"/>
          </a:xfrm>
        </p:grpSpPr>
        <p:sp>
          <p:nvSpPr>
            <p:cNvPr id="313" name=""/>
            <p:cNvSpPr/>
            <p:nvPr/>
          </p:nvSpPr>
          <p:spPr>
            <a:xfrm flipV="1">
              <a:off x="7524720" y="2852640"/>
              <a:ext cx="46836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93080" y="2852640"/>
              <a:ext cx="46800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916360" y="3860640"/>
            <a:ext cx="936000" cy="216000"/>
            <a:chOff x="2916360" y="3860640"/>
            <a:chExt cx="936000" cy="216000"/>
          </a:xfrm>
        </p:grpSpPr>
        <p:sp>
          <p:nvSpPr>
            <p:cNvPr id="316" name=""/>
            <p:cNvSpPr/>
            <p:nvPr/>
          </p:nvSpPr>
          <p:spPr>
            <a:xfrm flipV="1">
              <a:off x="2916360" y="3860640"/>
              <a:ext cx="46836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84720" y="3860640"/>
              <a:ext cx="46764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588000" y="3933720"/>
            <a:ext cx="936360" cy="216000"/>
            <a:chOff x="6588000" y="3933720"/>
            <a:chExt cx="936360" cy="216000"/>
          </a:xfrm>
        </p:grpSpPr>
        <p:sp>
          <p:nvSpPr>
            <p:cNvPr id="319" name=""/>
            <p:cNvSpPr/>
            <p:nvPr/>
          </p:nvSpPr>
          <p:spPr>
            <a:xfrm flipV="1">
              <a:off x="6588000" y="3933720"/>
              <a:ext cx="46836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56360" y="3933720"/>
              <a:ext cx="46800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268360" y="5013360"/>
            <a:ext cx="936360" cy="216000"/>
            <a:chOff x="2268360" y="5013360"/>
            <a:chExt cx="936360" cy="216000"/>
          </a:xfrm>
        </p:grpSpPr>
        <p:sp>
          <p:nvSpPr>
            <p:cNvPr id="322" name=""/>
            <p:cNvSpPr/>
            <p:nvPr/>
          </p:nvSpPr>
          <p:spPr>
            <a:xfrm flipV="1">
              <a:off x="2268360" y="5013360"/>
              <a:ext cx="46836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36720" y="5013360"/>
              <a:ext cx="46800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724360" y="5013360"/>
            <a:ext cx="936360" cy="216000"/>
            <a:chOff x="5724360" y="5013360"/>
            <a:chExt cx="936360" cy="216000"/>
          </a:xfrm>
        </p:grpSpPr>
        <p:sp>
          <p:nvSpPr>
            <p:cNvPr id="325" name=""/>
            <p:cNvSpPr/>
            <p:nvPr/>
          </p:nvSpPr>
          <p:spPr>
            <a:xfrm flipV="1">
              <a:off x="5724360" y="5013360"/>
              <a:ext cx="46836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92720" y="5013360"/>
              <a:ext cx="468000" cy="21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7164360" y="4005360"/>
            <a:ext cx="2284560" cy="2852640"/>
          </a:xfrm>
          <a:prstGeom prst="rect">
            <a:avLst/>
          </a:prstGeom>
          <a:ln w="0">
            <a:noFill/>
          </a:ln>
        </p:spPr>
      </p:pic>
      <p:grpSp>
        <p:nvGrpSpPr>
          <p:cNvPr id="328" name=""/>
          <p:cNvGrpSpPr/>
          <p:nvPr/>
        </p:nvGrpSpPr>
        <p:grpSpPr>
          <a:xfrm>
            <a:off x="324000" y="333360"/>
            <a:ext cx="7272360" cy="5738760"/>
            <a:chOff x="324000" y="333360"/>
            <a:chExt cx="7272360" cy="5738760"/>
          </a:xfrm>
        </p:grpSpPr>
        <p:sp>
          <p:nvSpPr>
            <p:cNvPr id="329" name=""/>
            <p:cNvSpPr/>
            <p:nvPr/>
          </p:nvSpPr>
          <p:spPr>
            <a:xfrm>
              <a:off x="324000" y="333360"/>
              <a:ext cx="7272360" cy="4390920"/>
            </a:xfrm>
            <a:prstGeom prst="cloudCallout">
              <a:avLst>
                <a:gd name="adj1" fmla="val 47796"/>
                <a:gd name="adj2" fmla="val 54050"/>
              </a:avLst>
            </a:prstGeom>
            <a:solidFill>
              <a:srgbClr val="ffff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21192000">
              <a:off x="1149120" y="1616400"/>
              <a:ext cx="5977080" cy="41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Monotype Corsiva"/>
                </a:rPr>
                <a:t>Задание: найдите ошибки в словах.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-316080"/>
            <a:ext cx="9144000" cy="67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тек, коврек, мешочик, кузнечек, желудочек, бубличик, цветочик, телёночик, корешочик, шовчек, домик, зайчик, рисуночик, песочик, овражик, порожик.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1834920" y="736560"/>
            <a:ext cx="21564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419280" y="1600200"/>
            <a:ext cx="21564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524720" y="736560"/>
            <a:ext cx="21600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356000" y="736560"/>
            <a:ext cx="21600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7380360" y="3257640"/>
            <a:ext cx="21600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92360" y="3184560"/>
            <a:ext cx="21600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6877080" y="2392200"/>
            <a:ext cx="21600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635280" y="2392200"/>
            <a:ext cx="21600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2627280" y="4049640"/>
            <a:ext cx="21600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995640" y="4842000"/>
            <a:ext cx="21600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877080" y="4842000"/>
            <a:ext cx="21600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564000" y="5634000"/>
            <a:ext cx="21600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6732360" y="5634000"/>
            <a:ext cx="215640" cy="72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484360" y="3760920"/>
            <a:ext cx="5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7d46"/>
                </a:solidFill>
                <a:latin typeface="Tahoma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76720" y="124128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7d46"/>
                </a:solidFill>
                <a:latin typeface="Tahoma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211640" y="304920"/>
            <a:ext cx="5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7d46"/>
                </a:solidFill>
                <a:latin typeface="Tahoma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92360" y="23328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7d46"/>
                </a:solidFill>
                <a:latin typeface="Tahoma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093080" y="28256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03640" y="289728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659640" y="20336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92360" y="2033640"/>
            <a:ext cx="5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380360" y="3049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80000" y="44816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59640" y="44816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348000" y="5273640"/>
            <a:ext cx="5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16720" y="5273640"/>
            <a:ext cx="5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6627960" y="3716280"/>
            <a:ext cx="2516040" cy="31417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24000" y="333360"/>
            <a:ext cx="7272360" cy="4390920"/>
          </a:xfrm>
          <a:prstGeom prst="cloudCallout">
            <a:avLst>
              <a:gd name="adj1" fmla="val 47796"/>
              <a:gd name="adj2" fmla="val 54050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21192000">
            <a:off x="1089720" y="1620000"/>
            <a:ext cx="5977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А теперь фотодиктант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258920" y="1341360"/>
            <a:ext cx="5689440" cy="2775240"/>
            <a:chOff x="1258920" y="1341360"/>
            <a:chExt cx="5689440" cy="2775240"/>
          </a:xfrm>
        </p:grpSpPr>
        <p:sp>
          <p:nvSpPr>
            <p:cNvPr id="362" name=""/>
            <p:cNvSpPr/>
            <p:nvPr/>
          </p:nvSpPr>
          <p:spPr>
            <a:xfrm>
              <a:off x="1258920" y="1341360"/>
              <a:ext cx="568944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Monotype Corsiva"/>
                </a:rPr>
                <a:t>Задание: распределите слова в три столбика: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1403280" y="2997000"/>
              <a:ext cx="5113080" cy="649080"/>
              <a:chOff x="1403280" y="2997000"/>
              <a:chExt cx="5113080" cy="649080"/>
            </a:xfrm>
          </p:grpSpPr>
          <p:sp>
            <p:nvSpPr>
              <p:cNvPr id="364" name=""/>
              <p:cNvSpPr/>
              <p:nvPr/>
            </p:nvSpPr>
            <p:spPr>
              <a:xfrm>
                <a:off x="1403280" y="2997000"/>
                <a:ext cx="1704600" cy="649080"/>
              </a:xfrm>
              <a:prstGeom prst="rect">
                <a:avLst/>
              </a:prstGeom>
              <a:solidFill>
                <a:srgbClr val="33339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ffffff"/>
                    </a:solidFill>
                    <a:latin typeface="Arial"/>
                  </a:rPr>
                  <a:t>-чик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107880" y="2997000"/>
                <a:ext cx="1704240" cy="649080"/>
              </a:xfrm>
              <a:prstGeom prst="rect">
                <a:avLst/>
              </a:prstGeom>
              <a:solidFill>
                <a:srgbClr val="33339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900" spc="-1" strike="noStrike">
                    <a:solidFill>
                      <a:srgbClr val="ffffff"/>
                    </a:solidFill>
                    <a:latin typeface="Arial"/>
                  </a:rPr>
                  <a:t>-ик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812120" y="2997000"/>
                <a:ext cx="1704240" cy="649080"/>
              </a:xfrm>
              <a:prstGeom prst="rect">
                <a:avLst/>
              </a:prstGeom>
              <a:solidFill>
                <a:srgbClr val="33339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900" spc="-1" strike="noStrike">
                    <a:solidFill>
                      <a:srgbClr val="ffffff"/>
                    </a:solidFill>
                    <a:latin typeface="Arial"/>
                  </a:rPr>
                  <a:t>-ек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00000" y="981000"/>
            <a:ext cx="734544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Monotype Corsiva"/>
              </a:rPr>
              <a:t>Сегодня на уроке нам предстоит:</a:t>
            </a: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2133720"/>
            <a:ext cx="73454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Monotype Corsiva"/>
              </a:rPr>
              <a:t>1. поработать по карте Русского языка;</a:t>
            </a: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3068640"/>
            <a:ext cx="734544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Monotype Corsiva"/>
              </a:rPr>
              <a:t>2.  изучить правило правописания суффиксов –ЕК/-ИК;</a:t>
            </a: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4437000"/>
            <a:ext cx="7345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Monotype Corsiva"/>
              </a:rPr>
              <a:t>3. учиться применять новое правило </a:t>
            </a: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732720" y="4292640"/>
            <a:ext cx="19382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900000" y="692280"/>
            <a:ext cx="6265800" cy="4174920"/>
          </a:xfrm>
          <a:prstGeom prst="rect">
            <a:avLst/>
          </a:prstGeom>
          <a:ln w="76320">
            <a:solidFill>
              <a:srgbClr val="9966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1476360" y="692280"/>
            <a:ext cx="5184720" cy="419400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1332000" y="692280"/>
            <a:ext cx="5400720" cy="421308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1908000" y="692280"/>
            <a:ext cx="4218120" cy="424800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1547640" y="692280"/>
            <a:ext cx="4753080" cy="422748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372" name="" descr=""/>
          <p:cNvPicPr/>
          <p:nvPr/>
        </p:nvPicPr>
        <p:blipFill>
          <a:blip r:embed="rId7"/>
          <a:stretch/>
        </p:blipFill>
        <p:spPr>
          <a:xfrm>
            <a:off x="1547640" y="692280"/>
            <a:ext cx="5040360" cy="426564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373" name="" descr=""/>
          <p:cNvPicPr/>
          <p:nvPr/>
        </p:nvPicPr>
        <p:blipFill>
          <a:blip r:embed="rId8"/>
          <a:stretch/>
        </p:blipFill>
        <p:spPr>
          <a:xfrm>
            <a:off x="1258920" y="765000"/>
            <a:ext cx="5473800" cy="410688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374" name="" descr=""/>
          <p:cNvPicPr/>
          <p:nvPr/>
        </p:nvPicPr>
        <p:blipFill>
          <a:blip r:embed="rId9"/>
          <a:stretch/>
        </p:blipFill>
        <p:spPr>
          <a:xfrm>
            <a:off x="1258920" y="692280"/>
            <a:ext cx="5543640" cy="416556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375" name="" descr=""/>
          <p:cNvPicPr/>
          <p:nvPr/>
        </p:nvPicPr>
        <p:blipFill>
          <a:blip r:embed="rId10"/>
          <a:stretch/>
        </p:blipFill>
        <p:spPr>
          <a:xfrm>
            <a:off x="1258920" y="692280"/>
            <a:ext cx="5616720" cy="4211640"/>
          </a:xfrm>
          <a:prstGeom prst="rect">
            <a:avLst/>
          </a:prstGeom>
          <a:ln w="76320">
            <a:solidFill>
              <a:srgbClr val="996600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11"/>
          <a:stretch/>
        </p:blipFill>
        <p:spPr>
          <a:xfrm>
            <a:off x="6627960" y="3716280"/>
            <a:ext cx="251604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9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1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3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5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7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9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1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3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476360" y="476280"/>
            <a:ext cx="5688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овер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9640" y="1125360"/>
            <a:ext cx="2657520" cy="1036800"/>
          </a:xfrm>
          <a:prstGeom prst="rect">
            <a:avLst/>
          </a:prstGeom>
          <a:solidFill>
            <a:srgbClr val="3333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-чи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203640" y="1149480"/>
            <a:ext cx="2657520" cy="965160"/>
          </a:xfrm>
          <a:prstGeom prst="rect">
            <a:avLst/>
          </a:prstGeom>
          <a:solidFill>
            <a:srgbClr val="3333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-и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861160" y="1149480"/>
            <a:ext cx="2657520" cy="965160"/>
          </a:xfrm>
          <a:prstGeom prst="rect">
            <a:avLst/>
          </a:prstGeom>
          <a:solidFill>
            <a:srgbClr val="3333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-е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9640" y="4581360"/>
            <a:ext cx="2657520" cy="1368720"/>
          </a:xfrm>
          <a:prstGeom prst="rect">
            <a:avLst/>
          </a:prstGeom>
          <a:solidFill>
            <a:srgbClr val="ffffe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кодиль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03640" y="4581360"/>
            <a:ext cx="2657520" cy="1368720"/>
          </a:xfrm>
          <a:prstGeom prst="rect">
            <a:avLst/>
          </a:prstGeom>
          <a:solidFill>
            <a:srgbClr val="f0ffe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н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861160" y="2114640"/>
            <a:ext cx="2657520" cy="1268280"/>
          </a:xfrm>
          <a:prstGeom prst="rect">
            <a:avLst/>
          </a:prstGeom>
          <a:solidFill>
            <a:srgbClr val="fef8f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вёноч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9640" y="2133720"/>
            <a:ext cx="2657520" cy="1269720"/>
          </a:xfrm>
          <a:prstGeom prst="rect">
            <a:avLst/>
          </a:prstGeom>
          <a:solidFill>
            <a:srgbClr val="ffffe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нгвин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03640" y="2133720"/>
            <a:ext cx="2657520" cy="1269720"/>
          </a:xfrm>
          <a:prstGeom prst="rect">
            <a:avLst/>
          </a:prstGeom>
          <a:solidFill>
            <a:srgbClr val="f0ffe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емот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1160" y="3382920"/>
            <a:ext cx="2657520" cy="1270080"/>
          </a:xfrm>
          <a:prstGeom prst="rect">
            <a:avLst/>
          </a:prstGeom>
          <a:solidFill>
            <a:srgbClr val="fef8f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грёноч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9640" y="3357720"/>
            <a:ext cx="2657520" cy="1268280"/>
          </a:xfrm>
          <a:prstGeom prst="rect">
            <a:avLst/>
          </a:prstGeom>
          <a:solidFill>
            <a:srgbClr val="ffffe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гай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03640" y="3357720"/>
            <a:ext cx="2657520" cy="1268280"/>
          </a:xfrm>
          <a:prstGeom prst="rect">
            <a:avLst/>
          </a:prstGeom>
          <a:solidFill>
            <a:srgbClr val="f0ffe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ж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861160" y="4653000"/>
            <a:ext cx="2657520" cy="1268280"/>
          </a:xfrm>
          <a:prstGeom prst="rect">
            <a:avLst/>
          </a:prstGeom>
          <a:solidFill>
            <a:srgbClr val="fef8f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чоноч</a:t>
            </a:r>
            <a:r>
              <a:rPr b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03640" y="1149480"/>
            <a:ext cx="0" cy="477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861160" y="1149480"/>
            <a:ext cx="0" cy="477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46120" y="2114640"/>
            <a:ext cx="7972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518680" y="1149480"/>
            <a:ext cx="0" cy="477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084720" y="522936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йч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68360" y="765000"/>
            <a:ext cx="8675640" cy="6093000"/>
            <a:chOff x="468360" y="765000"/>
            <a:chExt cx="8675640" cy="6093000"/>
          </a:xfrm>
        </p:grpSpPr>
        <p:pic>
          <p:nvPicPr>
            <p:cNvPr id="396" name="" descr=""/>
            <p:cNvPicPr/>
            <p:nvPr/>
          </p:nvPicPr>
          <p:blipFill>
            <a:blip r:embed="rId2"/>
            <a:stretch/>
          </p:blipFill>
          <p:spPr>
            <a:xfrm>
              <a:off x="7262640" y="4508640"/>
              <a:ext cx="18813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68360" y="765000"/>
              <a:ext cx="7272360" cy="4391280"/>
            </a:xfrm>
            <a:prstGeom prst="cloudCallout">
              <a:avLst>
                <a:gd name="adj1" fmla="val 47796"/>
                <a:gd name="adj2" fmla="val 54050"/>
              </a:avLst>
            </a:prstGeom>
            <a:solidFill>
              <a:srgbClr val="ffff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21192000">
              <a:off x="1234080" y="2052000"/>
              <a:ext cx="597708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Monotype Corsiva"/>
                </a:rPr>
                <a:t>Проверим фотодиктант!!!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4167 -0.00046 L -0.28594 -0.00046 E">
                                      <p:cBhvr>
                                        <p:cTn id="924" dur="2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684360" y="1700280"/>
            <a:ext cx="7345080" cy="28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Monotype Corsiva"/>
              </a:rPr>
              <a:t>Подведём итоги уро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Monotype Corsiva"/>
              </a:rPr>
              <a:t>Что нового вы сегодня узнали?</a:t>
            </a: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6732720" y="4005360"/>
            <a:ext cx="22842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84360" y="1700280"/>
            <a:ext cx="7345080" cy="31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3399"/>
                </a:solidFill>
                <a:uFillTx/>
                <a:latin typeface="Monotype Corsiva"/>
              </a:rPr>
              <a:t>Домашнее задание</a:t>
            </a:r>
            <a:r>
              <a:rPr b="1" lang="en-US" sz="4400" spc="-1" strike="noStrike">
                <a:solidFill>
                  <a:srgbClr val="003399"/>
                </a:solidFill>
                <a:latin typeface="Monotype Corsiv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выучить правило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выполнить упр.</a:t>
            </a: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 __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6732720" y="4005360"/>
            <a:ext cx="22842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 rot="21447600">
            <a:off x="483120" y="1773000"/>
            <a:ext cx="4249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Monotype Corsiva"/>
              </a:rPr>
              <a:t>Спасибо за урок!</a:t>
            </a: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>
            <a:off x="4284720" y="981000"/>
            <a:ext cx="38955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0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0" dur="29650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250920" y="638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539640" y="1052640"/>
            <a:ext cx="7848720" cy="36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спользованные ресурс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ультфильм «В стране невыученных уроков» -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Tahoma"/>
                <a:hlinkClick r:id="rId3"/>
              </a:rPr>
              <a:t>http://www.youtube.com/watch?v=YF5wIwKSov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окодил -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Tahoma"/>
                <a:hlinkClick r:id="rId4"/>
              </a:rPr>
              <a:t>http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Tahoma"/>
                <a:hlinkClick r:id="rId5"/>
              </a:rPr>
              <a:t>://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Tahoma"/>
                <a:hlinkClick r:id="rId6"/>
              </a:rPr>
              <a:t>www.bawi.ru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Tahoma"/>
                <a:hlinkClick r:id="rId7"/>
              </a:rPr>
              <a:t>/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Tahoma"/>
                <a:hlinkClick r:id="rId8"/>
              </a:rPr>
              <a:t>images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Tahoma"/>
                <a:hlinkClick r:id="rId9"/>
              </a:rPr>
              <a:t>/bpic_0046245.gif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ьвёнок - 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Tahoma"/>
                <a:hlinkClick r:id="rId10"/>
              </a:rPr>
              <a:t>http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Tahoma"/>
                <a:hlinkClick r:id="rId11"/>
              </a:rPr>
              <a:t>://img1.liveinternet.ru/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Tahoma"/>
                <a:hlinkClick r:id="rId12"/>
              </a:rPr>
              <a:t>images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Tahoma"/>
                <a:hlinkClick r:id="rId13"/>
              </a:rPr>
              <a:t>/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Tahoma"/>
                <a:hlinkClick r:id="rId14"/>
              </a:rPr>
              <a:t>foto</a:t>
            </a:r>
            <a:r>
              <a:rPr b="0" lang="ru-RU" sz="1200" spc="-1" strike="noStrike" u="sng">
                <a:solidFill>
                  <a:srgbClr val="00ffcc"/>
                </a:solidFill>
                <a:uFillTx/>
                <a:latin typeface="Tahoma"/>
                <a:hlinkClick r:id="rId15"/>
              </a:rPr>
              <a:t>/b/3/417/2243417/f_1435623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ингвин-  http://takeprideinutah.org/wp-content/uploads/2009/01/pengui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пугай - http://www.b177.ru/uploads/posts/2009-08/1249631103_exotic-birds-27589238.ep_0395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яц - http://saper.ru/images/060420_bunn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ж - http://www.1zoom.ru/big2/10/107950-melisent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егемот - day.sibnet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лон – http://zooclub.ru/photo/wild/13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окодил - http://cryazone.com/uploads/posts/2009-08/1251040857_miguel-a.-leyva-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ны - forum.materinstvo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6" dur="29650" fill="hold"/>
                                        <p:tgtEl>
                                          <p:spTgt spid="4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308720" y="4437000"/>
            <a:ext cx="1835280" cy="2421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4000" y="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арта Русск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620640"/>
            <a:ext cx="8064720" cy="4175280"/>
          </a:xfrm>
          <a:prstGeom prst="cloudCallout">
            <a:avLst>
              <a:gd name="adj1" fmla="val 35925"/>
              <a:gd name="adj2" fmla="val 63157"/>
            </a:avLst>
          </a:prstGeom>
          <a:solidFill>
            <a:srgbClr val="fff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1125360"/>
            <a:ext cx="69260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Monotype Corsiva"/>
              </a:rPr>
              <a:t>Задание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Опираясь на карту, расскажи о любой стране Русского языка и её жителях (почему страна так называется, какая в ней столица, кто в ней живет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620640"/>
            <a:ext cx="8064720" cy="4175280"/>
          </a:xfrm>
          <a:prstGeom prst="cloudCallout">
            <a:avLst>
              <a:gd name="adj1" fmla="val 36041"/>
              <a:gd name="adj2" fmla="val 63384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1268280"/>
            <a:ext cx="6408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Monotype Corsiva"/>
              </a:rPr>
              <a:t>Задание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Monotype Corsiva"/>
              </a:rPr>
              <a:t>Ребята, а может, найдётся среди вас смельчак, который не побоится сдать экзамен по карте Русского язы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308720" y="4437000"/>
            <a:ext cx="1835280" cy="2421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rcRect l="8264" t="46853" r="61809" b="17452"/>
          <a:stretch/>
        </p:blipFill>
        <p:spPr>
          <a:xfrm>
            <a:off x="755640" y="3213000"/>
            <a:ext cx="2736720" cy="244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835280" y="4292640"/>
            <a:ext cx="1008000" cy="647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4720" y="333360"/>
            <a:ext cx="4174920" cy="5040360"/>
          </a:xfrm>
          <a:prstGeom prst="cloudCallout">
            <a:avLst>
              <a:gd name="adj1" fmla="val 32203"/>
              <a:gd name="adj2" fmla="val 50851"/>
            </a:avLst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88000" y="1052640"/>
            <a:ext cx="316872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Скажите, друзья,  где же живут суффиксы            </a:t>
            </a: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ЕК и ИК,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,                 с которыми нам предстоит сегодня познаком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781360"/>
            <a:ext cx="3313080" cy="718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709800">
            <a:off x="4774320" y="2124720"/>
            <a:ext cx="33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Monotype Corsiva"/>
              </a:rPr>
              <a:t>Молодцы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1197000"/>
            <a:ext cx="331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Посмотрите на карту Русского языка, ребята. По соседству с суффиксами </a:t>
            </a:r>
            <a:r>
              <a:rPr b="1" lang="en-US" sz="2800" spc="-1" strike="noStrike">
                <a:solidFill>
                  <a:srgbClr val="cc3300"/>
                </a:solidFill>
                <a:latin typeface="Monotype Corsiva"/>
              </a:rPr>
              <a:t>–ЕК/-ИК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живут суффиксы –</a:t>
            </a:r>
            <a:r>
              <a:rPr b="1" lang="en-US" sz="2800" spc="-1" strike="noStrike">
                <a:solidFill>
                  <a:srgbClr val="cc3300"/>
                </a:solidFill>
                <a:latin typeface="Monotype Corsiva"/>
              </a:rPr>
              <a:t>ЧИК/-ЩИК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. Как бы нам их не перепут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32000" y="5373720"/>
            <a:ext cx="1295280" cy="647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9640" y="692280"/>
            <a:ext cx="7848720" cy="947160"/>
          </a:xfrm>
          <a:prstGeom prst="rect">
            <a:avLst/>
          </a:prstGeom>
          <a:solidFill>
            <a:srgbClr val="ff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Задание: найдите слова, в которых </a:t>
            </a:r>
            <a:r>
              <a:rPr b="1" lang="en-US" sz="2800" spc="-1" strike="noStrike">
                <a:solidFill>
                  <a:srgbClr val="cc3300"/>
                </a:solidFill>
                <a:latin typeface="Monotype Corsiva"/>
              </a:rPr>
              <a:t>есть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суффикс </a:t>
            </a:r>
            <a:r>
              <a:rPr b="1" lang="en-US" sz="2800" spc="-1" strike="noStrike">
                <a:solidFill>
                  <a:srgbClr val="cc3300"/>
                </a:solidFill>
                <a:latin typeface="Monotype Corsiva"/>
              </a:rPr>
              <a:t>-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6560" y="1700280"/>
            <a:ext cx="5691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баклажанч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помидорчик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перч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огурч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2950920" y="-63360"/>
            <a:ext cx="289080" cy="3673440"/>
          </a:xfrm>
          <a:custGeom>
            <a:avLst/>
            <a:gdLst>
              <a:gd name="textAreaLeft" fmla="*/ 84960 w 289080"/>
              <a:gd name="textAreaRight" fmla="*/ 289080 w 289080"/>
              <a:gd name="textAreaTop" fmla="*/ 239040 h 3673440"/>
              <a:gd name="textAreaBottom" fmla="*/ 3434400 h 36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07"/>
                  <a:pt x="0" y="2813"/>
                </a:cubicBezTo>
                <a:lnTo>
                  <a:pt x="0" y="18787"/>
                </a:lnTo>
                <a:cubicBezTo>
                  <a:pt x="0" y="20194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076720" y="1557000"/>
            <a:ext cx="1297080" cy="359280"/>
            <a:chOff x="5076720" y="1557000"/>
            <a:chExt cx="1297080" cy="359280"/>
          </a:xfrm>
        </p:grpSpPr>
        <p:sp>
          <p:nvSpPr>
            <p:cNvPr id="159" name=""/>
            <p:cNvSpPr/>
            <p:nvPr/>
          </p:nvSpPr>
          <p:spPr>
            <a:xfrm flipV="1">
              <a:off x="5076720" y="1557000"/>
              <a:ext cx="649440" cy="3589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26160" y="1557360"/>
              <a:ext cx="647640" cy="3589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 rot="5400000">
            <a:off x="2626920" y="1052280"/>
            <a:ext cx="288720" cy="3457800"/>
          </a:xfrm>
          <a:custGeom>
            <a:avLst/>
            <a:gdLst>
              <a:gd name="textAreaLeft" fmla="*/ 84960 w 288720"/>
              <a:gd name="textAreaRight" fmla="*/ 289080 w 288720"/>
              <a:gd name="textAreaTop" fmla="*/ 225000 h 3457800"/>
              <a:gd name="textAreaBottom" fmla="*/ 3232800 h 34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07"/>
                  <a:pt x="0" y="2813"/>
                </a:cubicBezTo>
                <a:lnTo>
                  <a:pt x="0" y="18787"/>
                </a:lnTo>
                <a:cubicBezTo>
                  <a:pt x="0" y="20194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43280" y="2565000"/>
            <a:ext cx="1297080" cy="359280"/>
            <a:chOff x="4643280" y="2565000"/>
            <a:chExt cx="1297080" cy="359280"/>
          </a:xfrm>
        </p:grpSpPr>
        <p:sp>
          <p:nvSpPr>
            <p:cNvPr id="163" name=""/>
            <p:cNvSpPr/>
            <p:nvPr/>
          </p:nvSpPr>
          <p:spPr>
            <a:xfrm flipV="1">
              <a:off x="4643280" y="2565000"/>
              <a:ext cx="649440" cy="3589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720" y="2565360"/>
              <a:ext cx="647640" cy="3589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 rot="5400000">
            <a:off x="1835640" y="2853360"/>
            <a:ext cx="289080" cy="1728720"/>
          </a:xfrm>
          <a:custGeom>
            <a:avLst/>
            <a:gdLst>
              <a:gd name="textAreaLeft" fmla="*/ 84960 w 289080"/>
              <a:gd name="textAreaRight" fmla="*/ 289080 w 289080"/>
              <a:gd name="textAreaTop" fmla="*/ 112320 h 1728720"/>
              <a:gd name="textAreaBottom" fmla="*/ 161640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07"/>
                  <a:pt x="0" y="2813"/>
                </a:cubicBezTo>
                <a:lnTo>
                  <a:pt x="0" y="18787"/>
                </a:lnTo>
                <a:cubicBezTo>
                  <a:pt x="0" y="20194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987640" y="3573360"/>
            <a:ext cx="864720" cy="287280"/>
            <a:chOff x="2987640" y="3573360"/>
            <a:chExt cx="864720" cy="287280"/>
          </a:xfrm>
        </p:grpSpPr>
        <p:sp>
          <p:nvSpPr>
            <p:cNvPr id="167" name=""/>
            <p:cNvSpPr/>
            <p:nvPr/>
          </p:nvSpPr>
          <p:spPr>
            <a:xfrm flipV="1">
              <a:off x="2987640" y="3573360"/>
              <a:ext cx="433080" cy="287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20720" y="3573360"/>
              <a:ext cx="431640" cy="287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rot="5400000">
            <a:off x="2050560" y="3644640"/>
            <a:ext cx="288720" cy="2016360"/>
          </a:xfrm>
          <a:custGeom>
            <a:avLst/>
            <a:gdLst>
              <a:gd name="textAreaLeft" fmla="*/ 84960 w 288720"/>
              <a:gd name="textAreaRight" fmla="*/ 289080 w 288720"/>
              <a:gd name="textAreaTop" fmla="*/ 131040 h 2016360"/>
              <a:gd name="textAreaBottom" fmla="*/ 188532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07"/>
                  <a:pt x="0" y="2813"/>
                </a:cubicBezTo>
                <a:lnTo>
                  <a:pt x="0" y="18787"/>
                </a:lnTo>
                <a:cubicBezTo>
                  <a:pt x="0" y="20194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348000" y="4437000"/>
            <a:ext cx="864720" cy="287280"/>
            <a:chOff x="3348000" y="4437000"/>
            <a:chExt cx="864720" cy="287280"/>
          </a:xfrm>
        </p:grpSpPr>
        <p:sp>
          <p:nvSpPr>
            <p:cNvPr id="171" name=""/>
            <p:cNvSpPr/>
            <p:nvPr/>
          </p:nvSpPr>
          <p:spPr>
            <a:xfrm flipV="1">
              <a:off x="3348000" y="4437000"/>
              <a:ext cx="433080" cy="287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81080" y="4437000"/>
              <a:ext cx="431640" cy="287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9e9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9e9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9640" y="692280"/>
            <a:ext cx="7848720" cy="947160"/>
          </a:xfrm>
          <a:prstGeom prst="rect">
            <a:avLst/>
          </a:prstGeom>
          <a:solidFill>
            <a:srgbClr val="ff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Задание: найдите слова, в которых </a:t>
            </a:r>
            <a:r>
              <a:rPr b="1" lang="en-US" sz="2800" spc="-1" strike="noStrike">
                <a:solidFill>
                  <a:srgbClr val="cc3300"/>
                </a:solidFill>
                <a:latin typeface="Monotype Corsiva"/>
              </a:rPr>
              <a:t>нет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суффикса </a:t>
            </a:r>
            <a:r>
              <a:rPr b="1" lang="en-US" sz="2800" spc="-1" strike="noStrike">
                <a:solidFill>
                  <a:srgbClr val="cc3300"/>
                </a:solidFill>
                <a:latin typeface="Monotype Corsiva"/>
              </a:rPr>
              <a:t>-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99640" y="1374840"/>
            <a:ext cx="5516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колокольч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мяч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гном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бакенщ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лётч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2699280" y="-241920"/>
            <a:ext cx="289080" cy="3456000"/>
          </a:xfrm>
          <a:custGeom>
            <a:avLst/>
            <a:gdLst>
              <a:gd name="textAreaLeft" fmla="*/ 84960 w 289080"/>
              <a:gd name="textAreaRight" fmla="*/ 289080 w 289080"/>
              <a:gd name="textAreaTop" fmla="*/ 225000 h 3456000"/>
              <a:gd name="textAreaBottom" fmla="*/ 3231000 h 34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07"/>
                  <a:pt x="0" y="2813"/>
                </a:cubicBezTo>
                <a:lnTo>
                  <a:pt x="0" y="18787"/>
                </a:lnTo>
                <a:cubicBezTo>
                  <a:pt x="0" y="20194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859280" y="1341000"/>
            <a:ext cx="1297080" cy="359280"/>
            <a:chOff x="4859280" y="1341000"/>
            <a:chExt cx="1297080" cy="359280"/>
          </a:xfrm>
        </p:grpSpPr>
        <p:sp>
          <p:nvSpPr>
            <p:cNvPr id="177" name=""/>
            <p:cNvSpPr/>
            <p:nvPr/>
          </p:nvSpPr>
          <p:spPr>
            <a:xfrm flipV="1">
              <a:off x="4859280" y="1341000"/>
              <a:ext cx="649440" cy="3589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08720" y="1341360"/>
              <a:ext cx="647640" cy="3589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 rot="5400000">
            <a:off x="1691280" y="1773720"/>
            <a:ext cx="289080" cy="1440000"/>
          </a:xfrm>
          <a:custGeom>
            <a:avLst/>
            <a:gdLst>
              <a:gd name="textAreaLeft" fmla="*/ 84960 w 289080"/>
              <a:gd name="textAreaRight" fmla="*/ 289080 w 289080"/>
              <a:gd name="textAreaTop" fmla="*/ 93600 h 1440000"/>
              <a:gd name="textAreaBottom" fmla="*/ 134640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07"/>
                  <a:pt x="0" y="2813"/>
                </a:cubicBezTo>
                <a:lnTo>
                  <a:pt x="0" y="18787"/>
                </a:lnTo>
                <a:cubicBezTo>
                  <a:pt x="0" y="20194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627280" y="2276640"/>
            <a:ext cx="864720" cy="287280"/>
            <a:chOff x="2627280" y="2276640"/>
            <a:chExt cx="864720" cy="287280"/>
          </a:xfrm>
        </p:grpSpPr>
        <p:sp>
          <p:nvSpPr>
            <p:cNvPr id="181" name=""/>
            <p:cNvSpPr/>
            <p:nvPr/>
          </p:nvSpPr>
          <p:spPr>
            <a:xfrm flipV="1">
              <a:off x="2627280" y="2276640"/>
              <a:ext cx="433080" cy="287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60360" y="2276640"/>
              <a:ext cx="431640" cy="287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 rot="5400000">
            <a:off x="1870560" y="2385000"/>
            <a:ext cx="289080" cy="1944720"/>
          </a:xfrm>
          <a:custGeom>
            <a:avLst/>
            <a:gdLst>
              <a:gd name="textAreaLeft" fmla="*/ 84960 w 289080"/>
              <a:gd name="textAreaRight" fmla="*/ 289080 w 289080"/>
              <a:gd name="textAreaTop" fmla="*/ 126360 h 1944720"/>
              <a:gd name="textAreaBottom" fmla="*/ 181836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07"/>
                  <a:pt x="0" y="2813"/>
                </a:cubicBezTo>
                <a:lnTo>
                  <a:pt x="0" y="18787"/>
                </a:lnTo>
                <a:cubicBezTo>
                  <a:pt x="0" y="20194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132000" y="3141720"/>
            <a:ext cx="865080" cy="287280"/>
            <a:chOff x="3132000" y="3141720"/>
            <a:chExt cx="865080" cy="287280"/>
          </a:xfrm>
        </p:grpSpPr>
        <p:sp>
          <p:nvSpPr>
            <p:cNvPr id="185" name=""/>
            <p:cNvSpPr/>
            <p:nvPr/>
          </p:nvSpPr>
          <p:spPr>
            <a:xfrm flipV="1">
              <a:off x="3132000" y="3141720"/>
              <a:ext cx="433080" cy="287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65080" y="3141720"/>
              <a:ext cx="432000" cy="2872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 rot="5400000">
            <a:off x="2122920" y="3142440"/>
            <a:ext cx="289080" cy="2303640"/>
          </a:xfrm>
          <a:custGeom>
            <a:avLst/>
            <a:gdLst>
              <a:gd name="textAreaLeft" fmla="*/ 84960 w 289080"/>
              <a:gd name="textAreaRight" fmla="*/ 289080 w 289080"/>
              <a:gd name="textAreaTop" fmla="*/ 149760 h 2303640"/>
              <a:gd name="textAreaBottom" fmla="*/ 215388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07"/>
                  <a:pt x="0" y="2813"/>
                </a:cubicBezTo>
                <a:lnTo>
                  <a:pt x="0" y="18787"/>
                </a:lnTo>
                <a:cubicBezTo>
                  <a:pt x="0" y="20194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708360" y="4076280"/>
            <a:ext cx="1297080" cy="359280"/>
            <a:chOff x="3708360" y="4076280"/>
            <a:chExt cx="1297080" cy="359280"/>
          </a:xfrm>
        </p:grpSpPr>
        <p:sp>
          <p:nvSpPr>
            <p:cNvPr id="189" name=""/>
            <p:cNvSpPr/>
            <p:nvPr/>
          </p:nvSpPr>
          <p:spPr>
            <a:xfrm flipV="1">
              <a:off x="3708360" y="4076280"/>
              <a:ext cx="649440" cy="3589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57800" y="4076640"/>
              <a:ext cx="647640" cy="3589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 rot="5400000">
            <a:off x="1654560" y="4617000"/>
            <a:ext cx="289080" cy="1224000"/>
          </a:xfrm>
          <a:custGeom>
            <a:avLst/>
            <a:gdLst>
              <a:gd name="textAreaLeft" fmla="*/ 84960 w 289080"/>
              <a:gd name="textAreaRight" fmla="*/ 289080 w 289080"/>
              <a:gd name="textAreaTop" fmla="*/ 79560 h 1224000"/>
              <a:gd name="textAreaBottom" fmla="*/ 11444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07"/>
                  <a:pt x="0" y="2813"/>
                </a:cubicBezTo>
                <a:lnTo>
                  <a:pt x="0" y="18787"/>
                </a:lnTo>
                <a:cubicBezTo>
                  <a:pt x="0" y="20194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556000" y="4941360"/>
            <a:ext cx="1296360" cy="359280"/>
            <a:chOff x="2556000" y="4941360"/>
            <a:chExt cx="1296360" cy="359280"/>
          </a:xfrm>
        </p:grpSpPr>
        <p:sp>
          <p:nvSpPr>
            <p:cNvPr id="193" name=""/>
            <p:cNvSpPr/>
            <p:nvPr/>
          </p:nvSpPr>
          <p:spPr>
            <a:xfrm flipV="1">
              <a:off x="2556000" y="4941360"/>
              <a:ext cx="649080" cy="3589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05080" y="4941720"/>
              <a:ext cx="647280" cy="35892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468360" y="260280"/>
            <a:ext cx="7199280" cy="5531040"/>
            <a:chOff x="468360" y="260280"/>
            <a:chExt cx="7199280" cy="5531040"/>
          </a:xfrm>
        </p:grpSpPr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7199280" cy="49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187280" y="1125360"/>
              <a:ext cx="5616720" cy="46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Monotype Corsiva"/>
                </a:rPr>
                <a:t>А теперь будем изучать новое правило!!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042920" y="907920"/>
            <a:ext cx="5977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Сначала посмотрим отрывок из мультфильма «В стране невыученных уроков», потом составим опорный конспек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765000"/>
            <a:ext cx="5977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Monotype Corsiva"/>
              </a:rPr>
              <a:t>Правописание суффиксов существительных  -ЕК/-И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570720" y="3645000"/>
            <a:ext cx="25732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7993080" cy="64087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84360" y="620640"/>
            <a:ext cx="7273800" cy="5496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7667640" y="4653000"/>
            <a:ext cx="16714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110040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7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468360" y="260280"/>
            <a:ext cx="7199280" cy="4991040"/>
            <a:chOff x="468360" y="260280"/>
            <a:chExt cx="7199280" cy="4991040"/>
          </a:xfrm>
        </p:grpSpPr>
        <p:pic>
          <p:nvPicPr>
            <p:cNvPr id="205" name="" descr=""/>
            <p:cNvPicPr/>
            <p:nvPr/>
          </p:nvPicPr>
          <p:blipFill>
            <a:blip r:embed="rId2"/>
            <a:stretch/>
          </p:blipFill>
          <p:spPr>
            <a:xfrm>
              <a:off x="468360" y="260280"/>
              <a:ext cx="7199280" cy="49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1187280" y="1125360"/>
              <a:ext cx="56167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Monotype Corsiva"/>
                </a:rPr>
                <a:t>Составим опорный конспект!!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659640" y="3716280"/>
            <a:ext cx="22842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3:54:04Z</dcterms:created>
  <dc:creator>admin</dc:creator>
  <dc:description/>
  <dc:language>en-US</dc:language>
  <cp:lastModifiedBy>Тамара</cp:lastModifiedBy>
  <dcterms:modified xsi:type="dcterms:W3CDTF">2010-10-17T16:58:37Z</dcterms:modified>
  <cp:revision>44</cp:revision>
  <dc:subject/>
  <dc:title>Слайд 1</dc:title>
</cp:coreProperties>
</file>