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13.jpeg" ContentType="image/jpeg"/>
  <Override PartName="/ppt/media/image8.jpeg" ContentType="image/jpeg"/>
  <Override PartName="/ppt/media/image22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FE4-35ED-435D-90EC-5CA4938B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76C-8E5C-438A-8984-868E7EC5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2D5-5E46-4681-B078-28C924B6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039-BF0E-4475-8BD9-250D56F0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565B3-B0B5-4989-B34D-8F37BED6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F08BA-DCA5-4A29-8F8B-47D5A0D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BB0A8-A964-41D9-B1FF-5CF06C9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1B942-788B-4CA7-ABD4-4E4EE8D4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F9636-102D-4063-A5EF-07C3617F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D9E4F-9EAD-46C4-8EA8-7669031B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7B6FA-2685-4CE5-ACB1-E7AC885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F0C-7414-4B42-BF81-27D6686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4BAA4-767B-410A-904C-C577670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1CAA0-7FD0-4509-A03C-A98180C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5C9AD-4D08-4C59-AC03-32410812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A3EBE-C4A3-496B-BA20-E2065DFC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3F6A2-4309-4FED-9F84-520BAA70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FAAC5-236A-4490-BB9B-570ACDC0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2644B-6D5C-4BBA-8A90-DB8CF906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26E74-EA44-4E3E-8A84-A046A197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D9791-3B27-490A-B484-3B457ECE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2A5F4-6B8A-4B61-8F7F-BAD4E1EB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A6B-92C1-4C83-8AC6-730CC3E7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68FD3-996B-4430-AAFB-00D9558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08A987-BA14-4252-A480-E5F4BEF0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CE0E3-3F2E-4594-A64A-4AF418D1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12AE6-3E6E-4CC7-8C93-00E5C7E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CC5E1-FD4B-45D2-9E0B-27CE97FB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EECDF-8DC1-489B-BA28-31AEFDA3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FFB27C-EF8B-4DBF-BEAA-E55804C9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9D6-0218-46F2-94AE-8DDD3DD3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B53-E4FA-4005-BD19-0C597DF2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2E1-137C-42AB-A2DC-8720C445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77F-8323-49D3-9F68-0D316E0F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1F0-2E04-4F4F-8EC3-7CE8AB7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4B0-A6F8-4485-A3E3-604C9FCC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CC0-08AD-4602-916E-B74E4EBDD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2593-C32B-44EE-B646-F1E9126486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1400" y="1370160"/>
            <a:ext cx="5484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B6D-FF25-42DF-BB29-D26F209F5D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youtube.com/watch?v=YF5wIwKSovU" TargetMode="External"/><Relationship Id="rId4" Type="http://schemas.openxmlformats.org/officeDocument/2006/relationships/hyperlink" Target="http://www.bawi.ru/images/bpic_0046245.gif" TargetMode="External"/><Relationship Id="rId5" Type="http://schemas.openxmlformats.org/officeDocument/2006/relationships/hyperlink" Target="http://www.bawi.ru/images/bpic_0046245.gif" TargetMode="External"/><Relationship Id="rId6" Type="http://schemas.openxmlformats.org/officeDocument/2006/relationships/hyperlink" Target="http://www.bawi.ru/images/bpic_0046245.gif" TargetMode="External"/><Relationship Id="rId7" Type="http://schemas.openxmlformats.org/officeDocument/2006/relationships/hyperlink" Target="http://www.bawi.ru/images/bpic_0046245.gif" TargetMode="External"/><Relationship Id="rId8" Type="http://schemas.openxmlformats.org/officeDocument/2006/relationships/hyperlink" Target="http://www.bawi.ru/images/bpic_0046245.gif" TargetMode="External"/><Relationship Id="rId9" Type="http://schemas.openxmlformats.org/officeDocument/2006/relationships/hyperlink" Target="http://www.bawi.ru/images/bpic_0046245.gif" TargetMode="External"/><Relationship Id="rId10" Type="http://schemas.openxmlformats.org/officeDocument/2006/relationships/hyperlink" Target="http://img1.liveinternet.ru/images/foto/b/3/417/2243417/f_14356232.jpg" TargetMode="External"/><Relationship Id="rId11" Type="http://schemas.openxmlformats.org/officeDocument/2006/relationships/hyperlink" Target="http://img1.liveinternet.ru/images/foto/b/3/417/2243417/f_14356232.jpg" TargetMode="External"/><Relationship Id="rId12" Type="http://schemas.openxmlformats.org/officeDocument/2006/relationships/hyperlink" Target="http://img1.liveinternet.ru/images/foto/b/3/417/2243417/f_14356232.jpg" TargetMode="External"/><Relationship Id="rId13" Type="http://schemas.openxmlformats.org/officeDocument/2006/relationships/hyperlink" Target="http://img1.liveinternet.ru/images/foto/b/3/417/2243417/f_14356232.jpg" TargetMode="External"/><Relationship Id="rId14" Type="http://schemas.openxmlformats.org/officeDocument/2006/relationships/hyperlink" Target="http://img1.liveinternet.ru/images/foto/b/3/417/2243417/f_14356232.jpg" TargetMode="External"/><Relationship Id="rId15" Type="http://schemas.openxmlformats.org/officeDocument/2006/relationships/hyperlink" Target="http://img1.liveinternet.ru/images/foto/b/3/417/2243417/f_14356232.jpg" TargetMode="External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98100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Классная работа.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060640"/>
            <a:ext cx="741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Monotype Corsiva"/>
              </a:rPr>
              <a:t>Правописание суффиксов существительных           -ЕК/-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203640" y="3860640"/>
            <a:ext cx="50328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6920" y="3860640"/>
            <a:ext cx="43164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16360" y="3860640"/>
            <a:ext cx="50328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3860640"/>
            <a:ext cx="43200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732720" y="4292640"/>
            <a:ext cx="1938240" cy="2421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03280" y="5300640"/>
            <a:ext cx="5113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нава Тамара Фёдо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39 г.Иркут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9640" y="765000"/>
            <a:ext cx="7920000" cy="5334480"/>
          </a:xfrm>
          <a:prstGeom prst="rect">
            <a:avLst/>
          </a:prstGeom>
          <a:solidFill>
            <a:srgbClr val="f0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писание суффиксов существитель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-ЕК/-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при склонении слова гласная бу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ВЫПАДАЕ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НЕ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3716280"/>
            <a:ext cx="0" cy="30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0720" y="3716280"/>
            <a:ext cx="0" cy="30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771280" y="2781360"/>
            <a:ext cx="45252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2781360"/>
            <a:ext cx="45252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195640" y="4076640"/>
            <a:ext cx="718920" cy="593640"/>
            <a:chOff x="2195640" y="4076640"/>
            <a:chExt cx="718920" cy="593640"/>
          </a:xfrm>
        </p:grpSpPr>
        <p:sp>
          <p:nvSpPr>
            <p:cNvPr id="215" name=""/>
            <p:cNvSpPr/>
            <p:nvPr/>
          </p:nvSpPr>
          <p:spPr>
            <a:xfrm>
              <a:off x="2195640" y="41497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Е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338560" y="4076640"/>
              <a:ext cx="19368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56000" y="4076640"/>
              <a:ext cx="21564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258920" y="479736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моч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Tahoma"/>
              </a:rPr>
              <a:t>Е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– замо</a:t>
            </a:r>
            <a:r>
              <a:rPr b="1" lang="ru-RU" sz="2000" spc="-1" strike="noStrike" u="sng">
                <a:solidFill>
                  <a:srgbClr val="003399"/>
                </a:solidFill>
                <a:uFillTx/>
                <a:latin typeface="Tahoma"/>
              </a:rPr>
              <a:t>ч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ыноч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Tahoma"/>
              </a:rPr>
              <a:t>Е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- сыно</a:t>
            </a:r>
            <a:r>
              <a:rPr b="1" lang="ru-RU" sz="2000" spc="-1" strike="noStrike" u="sng">
                <a:solidFill>
                  <a:srgbClr val="003399"/>
                </a:solidFill>
                <a:uFillTx/>
                <a:latin typeface="Tahoma"/>
              </a:rPr>
              <a:t>ч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940360" y="4076640"/>
            <a:ext cx="718920" cy="593640"/>
            <a:chOff x="5940360" y="4076640"/>
            <a:chExt cx="718920" cy="593640"/>
          </a:xfrm>
        </p:grpSpPr>
        <p:sp>
          <p:nvSpPr>
            <p:cNvPr id="220" name=""/>
            <p:cNvSpPr/>
            <p:nvPr/>
          </p:nvSpPr>
          <p:spPr>
            <a:xfrm>
              <a:off x="5940360" y="41497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083280" y="4076640"/>
              <a:ext cx="19368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00720" y="4076640"/>
              <a:ext cx="21564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859280" y="486900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юч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– ключ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алаш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- шалаш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9440" y="4005360"/>
            <a:ext cx="2284560" cy="28526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395280" y="620640"/>
            <a:ext cx="7272360" cy="4390920"/>
            <a:chOff x="395280" y="620640"/>
            <a:chExt cx="7272360" cy="4390920"/>
          </a:xfrm>
        </p:grpSpPr>
        <p:sp>
          <p:nvSpPr>
            <p:cNvPr id="226" name=""/>
            <p:cNvSpPr/>
            <p:nvPr/>
          </p:nvSpPr>
          <p:spPr>
            <a:xfrm>
              <a:off x="395280" y="620640"/>
              <a:ext cx="7272360" cy="4390920"/>
            </a:xfrm>
            <a:prstGeom prst="cloudCallout">
              <a:avLst>
                <a:gd name="adj1" fmla="val 47796"/>
                <a:gd name="adj2" fmla="val 54050"/>
              </a:avLst>
            </a:prstGeom>
            <a:solidFill>
              <a:srgbClr val="ffff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1192000">
              <a:off x="1102320" y="1912680"/>
              <a:ext cx="59770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Потренируемся?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598920" cy="280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92360" y="1268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бараш…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429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Р.п.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бараш  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59280" y="3357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867280" y="1125000"/>
            <a:ext cx="865080" cy="288000"/>
            <a:chOff x="5867280" y="1125000"/>
            <a:chExt cx="865080" cy="288000"/>
          </a:xfrm>
        </p:grpSpPr>
        <p:sp>
          <p:nvSpPr>
            <p:cNvPr id="233" name=""/>
            <p:cNvSpPr/>
            <p:nvPr/>
          </p:nvSpPr>
          <p:spPr>
            <a:xfrm flipV="1">
              <a:off x="5867280" y="1125000"/>
              <a:ext cx="433080" cy="287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0360" y="1125360"/>
              <a:ext cx="432000" cy="287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859440" y="4005360"/>
            <a:ext cx="2284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8776E-006 L -0.35035 -0.30418 E">
                                      <p:cBhvr>
                                        <p:cTn id="367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0418 L 0.09861 -0.31483 E">
                                      <p:cBhvr>
                                        <p:cTn id="37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2897280" cy="3600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067280" y="162864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т   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31417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Р.п.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кот  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314172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162864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508720" y="1557360"/>
            <a:ext cx="864720" cy="287280"/>
            <a:chOff x="5508720" y="1557360"/>
            <a:chExt cx="864720" cy="287280"/>
          </a:xfrm>
        </p:grpSpPr>
        <p:sp>
          <p:nvSpPr>
            <p:cNvPr id="242" name=""/>
            <p:cNvSpPr/>
            <p:nvPr/>
          </p:nvSpPr>
          <p:spPr>
            <a:xfrm flipV="1">
              <a:off x="5508720" y="155736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1800" y="155736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859440" y="4005360"/>
            <a:ext cx="2284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244000" y="620640"/>
            <a:ext cx="503280" cy="504720"/>
          </a:xfrm>
          <a:prstGeom prst="rect">
            <a:avLst/>
          </a:prstGeom>
          <a:solidFill>
            <a:srgbClr val="fef8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528480"/>
            <a:ext cx="2521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нт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ыноч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точ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соч.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ч.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5440" y="528480"/>
            <a:ext cx="16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нт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18520" y="21844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то</a:t>
            </a:r>
            <a:r>
              <a:rPr b="1" lang="en-US" sz="3600" spc="-1" strike="noStrike">
                <a:solidFill>
                  <a:srgbClr val="89e9ff"/>
                </a:solidFill>
                <a:latin typeface="Times New Roman"/>
                <a:ea typeface="Times New Roman"/>
              </a:rPr>
              <a:t>ч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60720" y="2976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61440" y="3840120"/>
            <a:ext cx="18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5080" y="470520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со</a:t>
            </a:r>
            <a:r>
              <a:rPr b="1" lang="en-US" sz="3600" spc="-1" strike="noStrike">
                <a:solidFill>
                  <a:srgbClr val="89e9ff"/>
                </a:solidFill>
                <a:latin typeface="Times New Roman"/>
                <a:ea typeface="Times New Roman"/>
              </a:rPr>
              <a:t>ч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8160" y="549756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</a:t>
            </a:r>
            <a:r>
              <a:rPr b="1" lang="en-US" sz="3600" spc="-1" strike="noStrike">
                <a:solidFill>
                  <a:srgbClr val="89e9ff"/>
                </a:solidFill>
                <a:latin typeface="Times New Roman"/>
                <a:ea typeface="Times New Roman"/>
              </a:rPr>
              <a:t>ч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6520" y="146520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ын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4160" y="218448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т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7800" y="297648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8160" y="3840120"/>
            <a:ext cx="16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7800" y="470520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с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9080" y="549756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11764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1968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416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00720" y="52815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95640" y="528480"/>
            <a:ext cx="2736720" cy="642600"/>
            <a:chOff x="2195640" y="528480"/>
            <a:chExt cx="2736720" cy="642600"/>
          </a:xfrm>
        </p:grpSpPr>
        <p:sp>
          <p:nvSpPr>
            <p:cNvPr id="264" name=""/>
            <p:cNvSpPr/>
            <p:nvPr/>
          </p:nvSpPr>
          <p:spPr>
            <a:xfrm>
              <a:off x="2987640" y="52848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онт</a:t>
              </a:r>
              <a:r>
                <a:rPr b="1" lang="en-US" sz="3600" spc="-1" strike="noStrike">
                  <a:solidFill>
                    <a:srgbClr val="f87d46"/>
                  </a:solidFill>
                  <a:latin typeface="Times New Roman"/>
                  <a:ea typeface="Times New Roman"/>
                </a:rPr>
                <a:t>ик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5640" y="888840"/>
              <a:ext cx="57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76720" y="88884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56000" y="1392120"/>
            <a:ext cx="2344320" cy="642600"/>
            <a:chOff x="2556000" y="1392120"/>
            <a:chExt cx="2344320" cy="642600"/>
          </a:xfrm>
        </p:grpSpPr>
        <p:sp>
          <p:nvSpPr>
            <p:cNvPr id="268" name=""/>
            <p:cNvSpPr/>
            <p:nvPr/>
          </p:nvSpPr>
          <p:spPr>
            <a:xfrm>
              <a:off x="2918160" y="1392120"/>
              <a:ext cx="198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ыно</a:t>
              </a:r>
              <a:r>
                <a:rPr b="1" lang="en-US" sz="3600" spc="-1" strike="noStrike">
                  <a:solidFill>
                    <a:srgbClr val="89e9ff"/>
                  </a:solidFill>
                  <a:latin typeface="Times New Roman"/>
                  <a:ea typeface="Times New Roman"/>
                </a:rPr>
                <a:t>чк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56000" y="175248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076720" y="1752480"/>
            <a:ext cx="57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254484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254484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95640" y="340848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333684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1280" y="420048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8360" y="420048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506412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506412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5929200"/>
            <a:ext cx="505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92720" y="585612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360" y="0"/>
            <a:ext cx="3024000" cy="459720"/>
          </a:xfrm>
          <a:prstGeom prst="rect">
            <a:avLst/>
          </a:prstGeom>
          <a:solidFill>
            <a:srgbClr val="f0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.п. (кого? чег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38889E-006 2.59259E-006 L 0.44896 -0.09167 E">
                                      <p:cBhvr>
                                        <p:cTn id="43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43316 -0.20718 E">
                                      <p:cBhvr>
                                        <p:cTn id="467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3889 L 0.43316 -0.56412 E">
                                      <p:cBhvr>
                                        <p:cTn id="543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8403 L 0.40938 -0.69028 E">
                                      <p:cBhvr>
                                        <p:cTn id="57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8000" y="476280"/>
            <a:ext cx="7272360" cy="4390920"/>
          </a:xfrm>
          <a:prstGeom prst="cloudCallout">
            <a:avLst>
              <a:gd name="adj1" fmla="val 47796"/>
              <a:gd name="adj2" fmla="val 54050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21192000">
            <a:off x="1258560" y="1125000"/>
            <a:ext cx="491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оработаем с учебником!                      стр. ___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§ ____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1192000">
            <a:off x="997560" y="1262160"/>
            <a:ext cx="59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Задание: запишите слова, вставьте пропущенные букв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2284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4000" y="476280"/>
            <a:ext cx="8569080" cy="63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...к, носоч...к, зайч...к,  мяч...к, замоч....к, глоточ..к, фонар..к, ломт...к, лист..к, дожд..к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54936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24360" y="1628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4720" y="3860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4940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53080" y="4940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8360" y="1628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47628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16360" y="2637000"/>
            <a:ext cx="9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270828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5080" y="3860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195640" y="620640"/>
            <a:ext cx="936000" cy="216000"/>
            <a:chOff x="2195640" y="620640"/>
            <a:chExt cx="936000" cy="216000"/>
          </a:xfrm>
        </p:grpSpPr>
        <p:sp>
          <p:nvSpPr>
            <p:cNvPr id="298" name=""/>
            <p:cNvSpPr/>
            <p:nvPr/>
          </p:nvSpPr>
          <p:spPr>
            <a:xfrm flipV="1">
              <a:off x="2195640" y="620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64000" y="620640"/>
              <a:ext cx="46764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084720" y="620640"/>
            <a:ext cx="936360" cy="216000"/>
            <a:chOff x="6084720" y="620640"/>
            <a:chExt cx="936360" cy="216000"/>
          </a:xfrm>
        </p:grpSpPr>
        <p:sp>
          <p:nvSpPr>
            <p:cNvPr id="301" name=""/>
            <p:cNvSpPr/>
            <p:nvPr/>
          </p:nvSpPr>
          <p:spPr>
            <a:xfrm flipV="1">
              <a:off x="6084720" y="620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53080" y="62064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411280" y="1700280"/>
            <a:ext cx="936360" cy="216000"/>
            <a:chOff x="2411280" y="1700280"/>
            <a:chExt cx="936360" cy="216000"/>
          </a:xfrm>
        </p:grpSpPr>
        <p:sp>
          <p:nvSpPr>
            <p:cNvPr id="304" name=""/>
            <p:cNvSpPr/>
            <p:nvPr/>
          </p:nvSpPr>
          <p:spPr>
            <a:xfrm flipV="1">
              <a:off x="2411280" y="170028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79640" y="170028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940360" y="1700280"/>
            <a:ext cx="936360" cy="216000"/>
            <a:chOff x="5940360" y="1700280"/>
            <a:chExt cx="936360" cy="216000"/>
          </a:xfrm>
        </p:grpSpPr>
        <p:sp>
          <p:nvSpPr>
            <p:cNvPr id="307" name=""/>
            <p:cNvSpPr/>
            <p:nvPr/>
          </p:nvSpPr>
          <p:spPr>
            <a:xfrm flipV="1">
              <a:off x="5940360" y="170028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8720" y="170028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132000" y="2781360"/>
            <a:ext cx="936360" cy="216000"/>
            <a:chOff x="3132000" y="2781360"/>
            <a:chExt cx="936360" cy="216000"/>
          </a:xfrm>
        </p:grpSpPr>
        <p:sp>
          <p:nvSpPr>
            <p:cNvPr id="310" name=""/>
            <p:cNvSpPr/>
            <p:nvPr/>
          </p:nvSpPr>
          <p:spPr>
            <a:xfrm flipV="1">
              <a:off x="3132000" y="278136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0360" y="278136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524720" y="2852640"/>
            <a:ext cx="936360" cy="216000"/>
            <a:chOff x="7524720" y="2852640"/>
            <a:chExt cx="936360" cy="216000"/>
          </a:xfrm>
        </p:grpSpPr>
        <p:sp>
          <p:nvSpPr>
            <p:cNvPr id="313" name=""/>
            <p:cNvSpPr/>
            <p:nvPr/>
          </p:nvSpPr>
          <p:spPr>
            <a:xfrm flipV="1">
              <a:off x="7524720" y="2852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93080" y="285264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16360" y="3860640"/>
            <a:ext cx="936000" cy="216000"/>
            <a:chOff x="2916360" y="3860640"/>
            <a:chExt cx="936000" cy="216000"/>
          </a:xfrm>
        </p:grpSpPr>
        <p:sp>
          <p:nvSpPr>
            <p:cNvPr id="316" name=""/>
            <p:cNvSpPr/>
            <p:nvPr/>
          </p:nvSpPr>
          <p:spPr>
            <a:xfrm flipV="1">
              <a:off x="2916360" y="3860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84720" y="3860640"/>
              <a:ext cx="46764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588000" y="3933720"/>
            <a:ext cx="936360" cy="216000"/>
            <a:chOff x="6588000" y="3933720"/>
            <a:chExt cx="936360" cy="216000"/>
          </a:xfrm>
        </p:grpSpPr>
        <p:sp>
          <p:nvSpPr>
            <p:cNvPr id="319" name=""/>
            <p:cNvSpPr/>
            <p:nvPr/>
          </p:nvSpPr>
          <p:spPr>
            <a:xfrm flipV="1">
              <a:off x="6588000" y="393372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56360" y="393372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268360" y="5013360"/>
            <a:ext cx="936360" cy="216000"/>
            <a:chOff x="2268360" y="5013360"/>
            <a:chExt cx="936360" cy="216000"/>
          </a:xfrm>
        </p:grpSpPr>
        <p:sp>
          <p:nvSpPr>
            <p:cNvPr id="322" name=""/>
            <p:cNvSpPr/>
            <p:nvPr/>
          </p:nvSpPr>
          <p:spPr>
            <a:xfrm flipV="1">
              <a:off x="2268360" y="501336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36720" y="501336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4360" y="5013360"/>
            <a:ext cx="936360" cy="216000"/>
            <a:chOff x="5724360" y="5013360"/>
            <a:chExt cx="936360" cy="216000"/>
          </a:xfrm>
        </p:grpSpPr>
        <p:sp>
          <p:nvSpPr>
            <p:cNvPr id="325" name=""/>
            <p:cNvSpPr/>
            <p:nvPr/>
          </p:nvSpPr>
          <p:spPr>
            <a:xfrm flipV="1">
              <a:off x="5724360" y="501336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92720" y="501336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2284560" cy="285264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324000" y="333360"/>
            <a:ext cx="7272360" cy="5738760"/>
            <a:chOff x="324000" y="333360"/>
            <a:chExt cx="7272360" cy="5738760"/>
          </a:xfrm>
        </p:grpSpPr>
        <p:sp>
          <p:nvSpPr>
            <p:cNvPr id="329" name=""/>
            <p:cNvSpPr/>
            <p:nvPr/>
          </p:nvSpPr>
          <p:spPr>
            <a:xfrm>
              <a:off x="324000" y="333360"/>
              <a:ext cx="7272360" cy="4390920"/>
            </a:xfrm>
            <a:prstGeom prst="cloudCallout">
              <a:avLst>
                <a:gd name="adj1" fmla="val 47796"/>
                <a:gd name="adj2" fmla="val 54050"/>
              </a:avLst>
            </a:prstGeom>
            <a:solidFill>
              <a:srgbClr val="ffff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1192000">
              <a:off x="1149120" y="1616400"/>
              <a:ext cx="5977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Задание: найдите ошибки в словах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-316080"/>
            <a:ext cx="9144000" cy="67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ек, коврек, мешочик, кузнечек, желудочек, бубличик, цветочик, телёночик, корешочик, шовчек, домик, зайчик, рисуночик, песочик, овражик, порожик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834920" y="736560"/>
            <a:ext cx="21564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419280" y="1600200"/>
            <a:ext cx="21564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524720" y="73656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356000" y="73656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380360" y="325764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92360" y="318456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877080" y="23922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635280" y="23922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627280" y="404964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995640" y="48420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877080" y="48420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564000" y="56340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732360" y="5634000"/>
            <a:ext cx="21564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84360" y="37609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12412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11640" y="3049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2332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2825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03640" y="28972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59640" y="2033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203364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80360" y="3049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80000" y="4481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481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48000" y="527364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16720" y="527364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627960" y="3716280"/>
            <a:ext cx="2516040" cy="3141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24000" y="333360"/>
            <a:ext cx="7272360" cy="4390920"/>
          </a:xfrm>
          <a:prstGeom prst="cloudCallout">
            <a:avLst>
              <a:gd name="adj1" fmla="val 47796"/>
              <a:gd name="adj2" fmla="val 54050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1192000">
            <a:off x="1089720" y="1620000"/>
            <a:ext cx="5977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А теперь фотодиктант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258920" y="1341360"/>
            <a:ext cx="5689440" cy="2775240"/>
            <a:chOff x="1258920" y="1341360"/>
            <a:chExt cx="5689440" cy="2775240"/>
          </a:xfrm>
        </p:grpSpPr>
        <p:sp>
          <p:nvSpPr>
            <p:cNvPr id="362" name=""/>
            <p:cNvSpPr/>
            <p:nvPr/>
          </p:nvSpPr>
          <p:spPr>
            <a:xfrm>
              <a:off x="1258920" y="1341360"/>
              <a:ext cx="5689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Monotype Corsiva"/>
                </a:rPr>
                <a:t>Задание: распределите слова в три столбика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403280" y="2997000"/>
              <a:ext cx="5113080" cy="649080"/>
              <a:chOff x="1403280" y="2997000"/>
              <a:chExt cx="5113080" cy="649080"/>
            </a:xfrm>
          </p:grpSpPr>
          <p:sp>
            <p:nvSpPr>
              <p:cNvPr id="364" name=""/>
              <p:cNvSpPr/>
              <p:nvPr/>
            </p:nvSpPr>
            <p:spPr>
              <a:xfrm>
                <a:off x="1403280" y="2997000"/>
                <a:ext cx="1704600" cy="649080"/>
              </a:xfrm>
              <a:prstGeom prst="rect">
                <a:avLst/>
              </a:prstGeom>
              <a:solidFill>
                <a:srgbClr val="33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ffffff"/>
                    </a:solidFill>
                    <a:latin typeface="Arial"/>
                  </a:rPr>
                  <a:t>-чик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07880" y="2997000"/>
                <a:ext cx="1704240" cy="649080"/>
              </a:xfrm>
              <a:prstGeom prst="rect">
                <a:avLst/>
              </a:prstGeom>
              <a:solidFill>
                <a:srgbClr val="33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900" spc="-1" strike="noStrike">
                    <a:solidFill>
                      <a:srgbClr val="ffffff"/>
                    </a:solidFill>
                    <a:latin typeface="Arial"/>
                  </a:rPr>
                  <a:t>-ик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12120" y="2997000"/>
                <a:ext cx="1704240" cy="649080"/>
              </a:xfrm>
              <a:prstGeom prst="rect">
                <a:avLst/>
              </a:prstGeom>
              <a:solidFill>
                <a:srgbClr val="33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900" spc="-1" strike="noStrike">
                    <a:solidFill>
                      <a:srgbClr val="ffffff"/>
                    </a:solidFill>
                    <a:latin typeface="Arial"/>
                  </a:rPr>
                  <a:t>-ек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981000"/>
            <a:ext cx="7345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Monotype Corsiva"/>
              </a:rPr>
              <a:t>Сегодня на уроке нам предстоит: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133720"/>
            <a:ext cx="7345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Monotype Corsiva"/>
              </a:rPr>
              <a:t>1. поработать по карте Русского языка;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068640"/>
            <a:ext cx="73454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Monotype Corsiva"/>
              </a:rPr>
              <a:t>2.  изучить правило правописания суффиксов –ЕК/-ИК;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4437000"/>
            <a:ext cx="7345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Monotype Corsiva"/>
              </a:rPr>
              <a:t>3. учиться применять новое правило 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19382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6265800" cy="4174920"/>
          </a:xfrm>
          <a:prstGeom prst="rect">
            <a:avLst/>
          </a:prstGeom>
          <a:ln w="76320">
            <a:solidFill>
              <a:srgbClr val="99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476360" y="692280"/>
            <a:ext cx="5184720" cy="419400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1332000" y="692280"/>
            <a:ext cx="5400720" cy="42130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908000" y="692280"/>
            <a:ext cx="4218120" cy="424800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1547640" y="692280"/>
            <a:ext cx="4753080" cy="42274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1547640" y="692280"/>
            <a:ext cx="5040360" cy="4265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1258920" y="765000"/>
            <a:ext cx="5473800" cy="41068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258920" y="692280"/>
            <a:ext cx="5543640" cy="416556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10"/>
          <a:stretch/>
        </p:blipFill>
        <p:spPr>
          <a:xfrm>
            <a:off x="1258920" y="692280"/>
            <a:ext cx="5616720" cy="4211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11"/>
          <a:stretch/>
        </p:blipFill>
        <p:spPr>
          <a:xfrm>
            <a:off x="6627960" y="3716280"/>
            <a:ext cx="25160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5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76360" y="476280"/>
            <a:ext cx="568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вер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1125360"/>
            <a:ext cx="2657520" cy="1036800"/>
          </a:xfrm>
          <a:prstGeom prst="rect">
            <a:avLst/>
          </a:prstGeom>
          <a:solidFill>
            <a:srgbClr val="33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-чи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03640" y="1149480"/>
            <a:ext cx="2657520" cy="965160"/>
          </a:xfrm>
          <a:prstGeom prst="rect">
            <a:avLst/>
          </a:prstGeom>
          <a:solidFill>
            <a:srgbClr val="33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-и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61160" y="1149480"/>
            <a:ext cx="2657520" cy="965160"/>
          </a:xfrm>
          <a:prstGeom prst="rect">
            <a:avLst/>
          </a:prstGeom>
          <a:solidFill>
            <a:srgbClr val="33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-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4581360"/>
            <a:ext cx="2657520" cy="1368720"/>
          </a:xfrm>
          <a:prstGeom prst="rect">
            <a:avLst/>
          </a:prstGeom>
          <a:solidFill>
            <a:srgbClr val="ffffe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ь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03640" y="4581360"/>
            <a:ext cx="2657520" cy="1368720"/>
          </a:xfrm>
          <a:prstGeom prst="rect">
            <a:avLst/>
          </a:prstGeom>
          <a:solidFill>
            <a:srgbClr val="f0ff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1160" y="2114640"/>
            <a:ext cx="2657520" cy="1268280"/>
          </a:xfrm>
          <a:prstGeom prst="rect">
            <a:avLst/>
          </a:prstGeom>
          <a:solidFill>
            <a:srgbClr val="fef8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ёноч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2133720"/>
            <a:ext cx="2657520" cy="1269720"/>
          </a:xfrm>
          <a:prstGeom prst="rect">
            <a:avLst/>
          </a:prstGeom>
          <a:solidFill>
            <a:srgbClr val="ffffe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3640" y="2133720"/>
            <a:ext cx="2657520" cy="1269720"/>
          </a:xfrm>
          <a:prstGeom prst="rect">
            <a:avLst/>
          </a:prstGeom>
          <a:solidFill>
            <a:srgbClr val="f0ff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емот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1160" y="3382920"/>
            <a:ext cx="2657520" cy="1270080"/>
          </a:xfrm>
          <a:prstGeom prst="rect">
            <a:avLst/>
          </a:prstGeom>
          <a:solidFill>
            <a:srgbClr val="fef8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грёноч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9640" y="3357720"/>
            <a:ext cx="2657520" cy="1268280"/>
          </a:xfrm>
          <a:prstGeom prst="rect">
            <a:avLst/>
          </a:prstGeom>
          <a:solidFill>
            <a:srgbClr val="ffffe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гай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3640" y="3357720"/>
            <a:ext cx="2657520" cy="1268280"/>
          </a:xfrm>
          <a:prstGeom prst="rect">
            <a:avLst/>
          </a:prstGeom>
          <a:solidFill>
            <a:srgbClr val="f0ff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61160" y="4653000"/>
            <a:ext cx="2657520" cy="1268280"/>
          </a:xfrm>
          <a:prstGeom prst="rect">
            <a:avLst/>
          </a:prstGeom>
          <a:solidFill>
            <a:srgbClr val="fef8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оноч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1149480"/>
            <a:ext cx="0" cy="477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61160" y="1149480"/>
            <a:ext cx="0" cy="477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6120" y="2114640"/>
            <a:ext cx="7972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518680" y="1149480"/>
            <a:ext cx="0" cy="477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84720" y="5229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ч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8360" y="765000"/>
            <a:ext cx="8675640" cy="6093000"/>
            <a:chOff x="468360" y="765000"/>
            <a:chExt cx="8675640" cy="6093000"/>
          </a:xfrm>
        </p:grpSpPr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7262640" y="4508640"/>
              <a:ext cx="18813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68360" y="765000"/>
              <a:ext cx="7272360" cy="4391280"/>
            </a:xfrm>
            <a:prstGeom prst="cloudCallout">
              <a:avLst>
                <a:gd name="adj1" fmla="val 47796"/>
                <a:gd name="adj2" fmla="val 54050"/>
              </a:avLst>
            </a:prstGeom>
            <a:solidFill>
              <a:srgbClr val="ffff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1192000">
              <a:off x="1234080" y="2052000"/>
              <a:ext cx="597708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Проверим фотодиктант!!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167 -0.00046 L -0.28594 -0.00046 E">
                                      <p:cBhvr>
                                        <p:cTn id="924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4360" y="1700280"/>
            <a:ext cx="734508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Подведём итоги уро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Что нового вы сегодня узнали?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732720" y="400536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4360" y="1700280"/>
            <a:ext cx="73450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99"/>
                </a:solidFill>
                <a:uFillTx/>
                <a:latin typeface="Monotype Corsiva"/>
              </a:rPr>
              <a:t>Домашнее задание</a:t>
            </a: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ыучить правило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ыполнить упр.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__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732720" y="400536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rot="21447600">
            <a:off x="483120" y="1773000"/>
            <a:ext cx="4249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Спасибо за урок!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284720" y="981000"/>
            <a:ext cx="38955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0" dur="29650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39640" y="1052640"/>
            <a:ext cx="784872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пользованные ресур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льтфильм «В стране невыученных уроков» -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3"/>
              </a:rPr>
              <a:t>http://www.youtube.com/watch?v=YF5wIwKSov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-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4"/>
              </a:rPr>
              <a:t>http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5"/>
              </a:rPr>
              <a:t>:/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6"/>
              </a:rPr>
              <a:t>www.bawi.ru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7"/>
              </a:rPr>
              <a:t>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8"/>
              </a:rPr>
              <a:t>images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9"/>
              </a:rPr>
              <a:t>/bpic_0046245.gif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ьвёнок -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0"/>
              </a:rPr>
              <a:t>http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1"/>
              </a:rPr>
              <a:t>://img1.liveinternet.ru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2"/>
              </a:rPr>
              <a:t>images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3"/>
              </a:rPr>
              <a:t>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4"/>
              </a:rPr>
              <a:t>foto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5"/>
              </a:rPr>
              <a:t>/b/3/417/2243417/f_1435623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ингвин-  http://takeprideinutah.org/wp-content/uploads/2009/01/pengui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пугай - http://www.b177.ru/uploads/posts/2009-08/1249631103_exotic-birds-27589238.ep_0395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яц - http://saper.ru/images/060420_bunn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ж - http://www.1zoom.ru/big2/10/107950-melisent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гемот - day.sib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н – http://zooclub.ru/photo/wild/13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- http://cryazone.com/uploads/posts/2009-08/1251040857_miguel-a.-leyva-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ны - forum.materinstvo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29650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4437000"/>
            <a:ext cx="1835280" cy="2421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рта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620640"/>
            <a:ext cx="8064720" cy="4175280"/>
          </a:xfrm>
          <a:prstGeom prst="cloudCallout">
            <a:avLst>
              <a:gd name="adj1" fmla="val 35925"/>
              <a:gd name="adj2" fmla="val 63157"/>
            </a:avLst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1125360"/>
            <a:ext cx="69260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Задание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Опираясь на карту, расскажи о любой стране Русского языка и её жителях (почему страна так называется, какая в ней столица, кто в ней живет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620640"/>
            <a:ext cx="8064720" cy="4175280"/>
          </a:xfrm>
          <a:prstGeom prst="cloudCallout">
            <a:avLst>
              <a:gd name="adj1" fmla="val 36041"/>
              <a:gd name="adj2" fmla="val 63384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268280"/>
            <a:ext cx="6408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Задание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Monotype Corsiva"/>
              </a:rPr>
              <a:t>Ребята, а может, найдётся среди вас смельчак, который не побоится сдать экзамен по карте Русского язы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08720" y="4437000"/>
            <a:ext cx="1835280" cy="2421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8264" t="46853" r="61809" b="17452"/>
          <a:stretch/>
        </p:blipFill>
        <p:spPr>
          <a:xfrm>
            <a:off x="755640" y="3213000"/>
            <a:ext cx="2736720" cy="244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5280" y="4292640"/>
            <a:ext cx="100800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33360"/>
            <a:ext cx="4174920" cy="5040360"/>
          </a:xfrm>
          <a:prstGeom prst="cloudCallout">
            <a:avLst>
              <a:gd name="adj1" fmla="val 32203"/>
              <a:gd name="adj2" fmla="val 50851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1052640"/>
            <a:ext cx="3168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кажите, друзья,  где же живут суффиксы            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ЕК и ИК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,                 с которыми нам предстоит сегодня познаком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781360"/>
            <a:ext cx="3313080" cy="718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709800">
            <a:off x="4774320" y="212472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Молодцы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197000"/>
            <a:ext cx="331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смотрите на карту Русского языка, ребята. По соседству с суффиксами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–ЕК/-ИК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живут суффиксы –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ЧИК/-ЩИК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. Как бы нам их не перепу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5373720"/>
            <a:ext cx="129528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692280"/>
            <a:ext cx="7848720" cy="94716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Задание: найдите слова, в которых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есть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уффикс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-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1700280"/>
            <a:ext cx="569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баклажан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помидорч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пер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огур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2950920" y="-63360"/>
            <a:ext cx="289080" cy="3673440"/>
          </a:xfrm>
          <a:custGeom>
            <a:avLst/>
            <a:gdLst>
              <a:gd name="textAreaLeft" fmla="*/ 84960 w 289080"/>
              <a:gd name="textAreaRight" fmla="*/ 289080 w 289080"/>
              <a:gd name="textAreaTop" fmla="*/ 239040 h 3673440"/>
              <a:gd name="textAreaBottom" fmla="*/ 34344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076720" y="1557000"/>
            <a:ext cx="1297080" cy="359280"/>
            <a:chOff x="5076720" y="1557000"/>
            <a:chExt cx="1297080" cy="359280"/>
          </a:xfrm>
        </p:grpSpPr>
        <p:sp>
          <p:nvSpPr>
            <p:cNvPr id="159" name=""/>
            <p:cNvSpPr/>
            <p:nvPr/>
          </p:nvSpPr>
          <p:spPr>
            <a:xfrm flipV="1">
              <a:off x="5076720" y="155700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6160" y="155736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5400000">
            <a:off x="2626920" y="1052280"/>
            <a:ext cx="288720" cy="3457800"/>
          </a:xfrm>
          <a:custGeom>
            <a:avLst/>
            <a:gdLst>
              <a:gd name="textAreaLeft" fmla="*/ 84960 w 288720"/>
              <a:gd name="textAreaRight" fmla="*/ 289080 w 288720"/>
              <a:gd name="textAreaTop" fmla="*/ 225000 h 3457800"/>
              <a:gd name="textAreaBottom" fmla="*/ 3232800 h 34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2565000"/>
            <a:ext cx="1297080" cy="359280"/>
            <a:chOff x="4643280" y="2565000"/>
            <a:chExt cx="1297080" cy="359280"/>
          </a:xfrm>
        </p:grpSpPr>
        <p:sp>
          <p:nvSpPr>
            <p:cNvPr id="163" name=""/>
            <p:cNvSpPr/>
            <p:nvPr/>
          </p:nvSpPr>
          <p:spPr>
            <a:xfrm flipV="1">
              <a:off x="4643280" y="256500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720" y="256536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5400000">
            <a:off x="1835640" y="2853360"/>
            <a:ext cx="289080" cy="1728720"/>
          </a:xfrm>
          <a:custGeom>
            <a:avLst/>
            <a:gdLst>
              <a:gd name="textAreaLeft" fmla="*/ 84960 w 289080"/>
              <a:gd name="textAreaRight" fmla="*/ 289080 w 289080"/>
              <a:gd name="textAreaTop" fmla="*/ 112320 h 1728720"/>
              <a:gd name="textAreaBottom" fmla="*/ 161640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987640" y="3573360"/>
            <a:ext cx="864720" cy="287280"/>
            <a:chOff x="2987640" y="3573360"/>
            <a:chExt cx="864720" cy="287280"/>
          </a:xfrm>
        </p:grpSpPr>
        <p:sp>
          <p:nvSpPr>
            <p:cNvPr id="167" name=""/>
            <p:cNvSpPr/>
            <p:nvPr/>
          </p:nvSpPr>
          <p:spPr>
            <a:xfrm flipV="1">
              <a:off x="2987640" y="357336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0720" y="357336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2050560" y="3644640"/>
            <a:ext cx="288720" cy="2016360"/>
          </a:xfrm>
          <a:custGeom>
            <a:avLst/>
            <a:gdLst>
              <a:gd name="textAreaLeft" fmla="*/ 84960 w 288720"/>
              <a:gd name="textAreaRight" fmla="*/ 289080 w 288720"/>
              <a:gd name="textAreaTop" fmla="*/ 131040 h 2016360"/>
              <a:gd name="textAreaBottom" fmla="*/ 188532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348000" y="4437000"/>
            <a:ext cx="864720" cy="287280"/>
            <a:chOff x="3348000" y="4437000"/>
            <a:chExt cx="864720" cy="287280"/>
          </a:xfrm>
        </p:grpSpPr>
        <p:sp>
          <p:nvSpPr>
            <p:cNvPr id="171" name=""/>
            <p:cNvSpPr/>
            <p:nvPr/>
          </p:nvSpPr>
          <p:spPr>
            <a:xfrm flipV="1">
              <a:off x="3348000" y="443700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81080" y="443700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9e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9e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692280"/>
            <a:ext cx="7848720" cy="94716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Задание: найдите слова, в которых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нет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суффикса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-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99640" y="1374840"/>
            <a:ext cx="5516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локоль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мя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гном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бакенщ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лёт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99280" y="-241920"/>
            <a:ext cx="289080" cy="3456000"/>
          </a:xfrm>
          <a:custGeom>
            <a:avLst/>
            <a:gdLst>
              <a:gd name="textAreaLeft" fmla="*/ 84960 w 289080"/>
              <a:gd name="textAreaRight" fmla="*/ 289080 w 289080"/>
              <a:gd name="textAreaTop" fmla="*/ 225000 h 3456000"/>
              <a:gd name="textAreaBottom" fmla="*/ 3231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59280" y="1341000"/>
            <a:ext cx="1297080" cy="359280"/>
            <a:chOff x="4859280" y="1341000"/>
            <a:chExt cx="1297080" cy="359280"/>
          </a:xfrm>
        </p:grpSpPr>
        <p:sp>
          <p:nvSpPr>
            <p:cNvPr id="177" name=""/>
            <p:cNvSpPr/>
            <p:nvPr/>
          </p:nvSpPr>
          <p:spPr>
            <a:xfrm flipV="1">
              <a:off x="4859280" y="134100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134136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1691280" y="1773720"/>
            <a:ext cx="289080" cy="1440000"/>
          </a:xfrm>
          <a:custGeom>
            <a:avLst/>
            <a:gdLst>
              <a:gd name="textAreaLeft" fmla="*/ 84960 w 289080"/>
              <a:gd name="textAreaRight" fmla="*/ 289080 w 289080"/>
              <a:gd name="textAreaTop" fmla="*/ 93600 h 1440000"/>
              <a:gd name="textAreaBottom" fmla="*/ 13464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627280" y="2276640"/>
            <a:ext cx="864720" cy="287280"/>
            <a:chOff x="2627280" y="2276640"/>
            <a:chExt cx="864720" cy="287280"/>
          </a:xfrm>
        </p:grpSpPr>
        <p:sp>
          <p:nvSpPr>
            <p:cNvPr id="181" name=""/>
            <p:cNvSpPr/>
            <p:nvPr/>
          </p:nvSpPr>
          <p:spPr>
            <a:xfrm flipV="1">
              <a:off x="2627280" y="227664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60360" y="227664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rot="5400000">
            <a:off x="1870560" y="2385000"/>
            <a:ext cx="289080" cy="1944720"/>
          </a:xfrm>
          <a:custGeom>
            <a:avLst/>
            <a:gdLst>
              <a:gd name="textAreaLeft" fmla="*/ 84960 w 289080"/>
              <a:gd name="textAreaRight" fmla="*/ 289080 w 289080"/>
              <a:gd name="textAreaTop" fmla="*/ 126360 h 1944720"/>
              <a:gd name="textAreaBottom" fmla="*/ 1818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132000" y="3141720"/>
            <a:ext cx="865080" cy="287280"/>
            <a:chOff x="3132000" y="3141720"/>
            <a:chExt cx="865080" cy="287280"/>
          </a:xfrm>
        </p:grpSpPr>
        <p:sp>
          <p:nvSpPr>
            <p:cNvPr id="185" name=""/>
            <p:cNvSpPr/>
            <p:nvPr/>
          </p:nvSpPr>
          <p:spPr>
            <a:xfrm flipV="1">
              <a:off x="3132000" y="314172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5080" y="3141720"/>
              <a:ext cx="43200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5400000">
            <a:off x="2122920" y="3142440"/>
            <a:ext cx="289080" cy="2303640"/>
          </a:xfrm>
          <a:custGeom>
            <a:avLst/>
            <a:gdLst>
              <a:gd name="textAreaLeft" fmla="*/ 84960 w 289080"/>
              <a:gd name="textAreaRight" fmla="*/ 289080 w 289080"/>
              <a:gd name="textAreaTop" fmla="*/ 149760 h 2303640"/>
              <a:gd name="textAreaBottom" fmla="*/ 215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708360" y="4076280"/>
            <a:ext cx="1297080" cy="359280"/>
            <a:chOff x="3708360" y="4076280"/>
            <a:chExt cx="1297080" cy="359280"/>
          </a:xfrm>
        </p:grpSpPr>
        <p:sp>
          <p:nvSpPr>
            <p:cNvPr id="189" name=""/>
            <p:cNvSpPr/>
            <p:nvPr/>
          </p:nvSpPr>
          <p:spPr>
            <a:xfrm flipV="1">
              <a:off x="3708360" y="407628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57800" y="407664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5400000">
            <a:off x="1654560" y="4617000"/>
            <a:ext cx="289080" cy="1224000"/>
          </a:xfrm>
          <a:custGeom>
            <a:avLst/>
            <a:gdLst>
              <a:gd name="textAreaLeft" fmla="*/ 84960 w 289080"/>
              <a:gd name="textAreaRight" fmla="*/ 289080 w 289080"/>
              <a:gd name="textAreaTop" fmla="*/ 79560 h 1224000"/>
              <a:gd name="textAreaBottom" fmla="*/ 11444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56000" y="4941360"/>
            <a:ext cx="1296360" cy="359280"/>
            <a:chOff x="2556000" y="4941360"/>
            <a:chExt cx="1296360" cy="359280"/>
          </a:xfrm>
        </p:grpSpPr>
        <p:sp>
          <p:nvSpPr>
            <p:cNvPr id="193" name=""/>
            <p:cNvSpPr/>
            <p:nvPr/>
          </p:nvSpPr>
          <p:spPr>
            <a:xfrm flipV="1">
              <a:off x="2556000" y="4941360"/>
              <a:ext cx="64908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05080" y="4941720"/>
              <a:ext cx="64728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468360" y="260280"/>
            <a:ext cx="7199280" cy="5531040"/>
            <a:chOff x="468360" y="260280"/>
            <a:chExt cx="7199280" cy="553104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71992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187280" y="1125360"/>
              <a:ext cx="5616720" cy="46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Monotype Corsiva"/>
                </a:rPr>
                <a:t>А теперь будем изучать новое правило!!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042920" y="907920"/>
            <a:ext cx="5977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Сначала посмотрим отрывок из мультфильма «В стране невыученных уроков», потом составим опорный конспек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765000"/>
            <a:ext cx="5977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Правописание суффиксов существительных  -ЕК/-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70720" y="3645000"/>
            <a:ext cx="2573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7993080" cy="6408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7273800" cy="5496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667640" y="4653000"/>
            <a:ext cx="1671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1004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7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8360" y="260280"/>
            <a:ext cx="7199280" cy="4991040"/>
            <a:chOff x="468360" y="260280"/>
            <a:chExt cx="7199280" cy="499104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71992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87280" y="1125360"/>
              <a:ext cx="5616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Monotype Corsiva"/>
                </a:rPr>
                <a:t>Составим опорный конспект!!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59640" y="371628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4:04Z</dcterms:created>
  <dc:creator>admin</dc:creator>
  <dc:description/>
  <dc:language>en-US</dc:language>
  <cp:lastModifiedBy>Тамара</cp:lastModifiedBy>
  <dcterms:modified xsi:type="dcterms:W3CDTF">2010-10-17T16:58:37Z</dcterms:modified>
  <cp:revision>44</cp:revision>
  <dc:subject/>
  <dc:title>Слайд 1</dc:title>
</cp:coreProperties>
</file>