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D78-7734-4398-A9A6-49500B7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1FB-9772-4E97-9F02-8A514AD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9A6-D70B-4928-B40B-6BEEBF42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EE3-142D-48A6-A961-44337B6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1D02C-6713-4334-AD9C-D1EAEA78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585CF-7AE6-46AC-8F45-35F2C22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96AF2-B518-40D8-AF76-F294F64B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23A34-7528-4F2E-8CD3-AB75875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8294-4B5E-449E-9964-EBA7CDF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8C080-D987-4C0D-B297-56036B8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02927-708D-424C-8F68-2A5BA79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63C-604F-4643-A629-5D42F4AA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983C0-A706-4618-B32E-A01000A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D413C-F7D3-4C5C-9367-F859102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9B002-CFB9-440F-A622-6D1DAD9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52A3-82CA-422F-A34D-B34D560C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F7E61-C3A7-42DE-BB72-E7B97C6A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BFE-C6EB-4B1A-8649-FD57D64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FF2-8F0B-4A6F-943C-72C9F77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852-20C4-4300-934C-DE866D0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EAD-E87B-446A-869E-DC456A6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592-FACB-4A06-A42C-7713F5A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CEF-7D55-40D5-82B9-DBA8363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9EB-3910-4140-80A1-19048DF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DFCF-0729-49AB-9B43-277067D95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3507-D0E0-4EF0-AA09-9667E92927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35280" y="1197000"/>
            <a:ext cx="475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Г. Санкт-Петербург, Кронштадтский район, ГБОУ СОШ  №42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39640" y="333360"/>
            <a:ext cx="7344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узей " Остров Котлин"</a:t>
            </a:r>
            <a:endParaRPr b="1" i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C8A5-36D3-441D-8AB5-42ECD0C8D8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Бык 047"/>
          <p:cNvPicPr/>
          <p:nvPr/>
        </p:nvPicPr>
        <p:blipFill>
          <a:blip r:embed="rId1"/>
          <a:stretch/>
        </p:blipFill>
        <p:spPr>
          <a:xfrm>
            <a:off x="1619280" y="2924280"/>
            <a:ext cx="2232000" cy="1806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Святой 188"/>
          <p:cNvPicPr/>
          <p:nvPr/>
        </p:nvPicPr>
        <p:blipFill>
          <a:blip r:embed="rId2"/>
          <a:stretch/>
        </p:blipFill>
        <p:spPr>
          <a:xfrm>
            <a:off x="5292720" y="2997360"/>
            <a:ext cx="2016000" cy="1574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324000" y="4869000"/>
            <a:ext cx="8424720" cy="1067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바탕"/>
                <a:ea typeface="바탕"/>
              </a:rPr>
              <a:t>Школьный музей начал создаваться в 2002 г.  по инициативе учителя истории Шлендовой М.А. при активной поддержке директора школы  Л.А. Кирейшиной и её заместителей Агафоновой Г.М., Аницевой М.Ю., а также учащихся старших классо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496360" cy="2448000"/>
          </a:xfrm>
          <a:prstGeom prst="rect">
            <a:avLst/>
          </a:prstGeom>
          <a:solidFill>
            <a:srgbClr val="66ccff"/>
          </a:solidFill>
          <a:ln w="19080">
            <a:solidFill>
              <a:srgbClr val="0101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частие в районных и городских конкурсах, играх и викторинах принесло в копилку школы:</a:t>
            </a:r>
            <a:br>
              <a:rPr sz="2800"/>
            </a:b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26 грамот , 18 дипломов и 22 сертификата. В 2013 году наш музей стал лауреатом  городского смотра  школьных музеев  г. С-Петербу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E36-28F6-471D-82A7-1712E8085A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D:\ДОКУМЕНТЫ\Desktop\История музея\КАБИНЕТ ИСТОРИИ 422 009.JPG"/>
          <p:cNvPicPr/>
          <p:nvPr/>
        </p:nvPicPr>
        <p:blipFill>
          <a:blip r:embed="rId1"/>
          <a:srcRect l="0" t="11683" r="14180" b="7743"/>
          <a:stretch/>
        </p:blipFill>
        <p:spPr>
          <a:xfrm>
            <a:off x="4859280" y="3500280"/>
            <a:ext cx="3422880" cy="2305080"/>
          </a:xfrm>
          <a:prstGeom prst="rect">
            <a:avLst/>
          </a:prstGeom>
          <a:ln cap="sq" w="38160">
            <a:solidFill>
              <a:srgbClr val="2929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Рисунок 5" descr="F:\Кюм-6-б 2012 г\P1013885.JPG"/>
          <p:cNvPicPr/>
          <p:nvPr/>
        </p:nvPicPr>
        <p:blipFill>
          <a:blip r:embed="rId2"/>
          <a:stretch/>
        </p:blipFill>
        <p:spPr>
          <a:xfrm>
            <a:off x="611280" y="3284640"/>
            <a:ext cx="3673440" cy="2382840"/>
          </a:xfrm>
          <a:prstGeom prst="rect">
            <a:avLst/>
          </a:prstGeom>
          <a:ln w="19080">
            <a:solidFill>
              <a:srgbClr val="2b2bfe"/>
            </a:solidFill>
            <a:miter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76360" y="476280"/>
            <a:ext cx="597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Виды деятельности: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435640" y="1268280"/>
            <a:ext cx="3384360" cy="865440"/>
          </a:xfrm>
          <a:prstGeom prst="cube">
            <a:avLst>
              <a:gd name="adj" fmla="val 15833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Краевед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экскурс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68360" y="1268280"/>
            <a:ext cx="3311640" cy="936720"/>
          </a:xfrm>
          <a:prstGeom prst="cube">
            <a:avLst>
              <a:gd name="adj" fmla="val 17435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Исследователь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поиск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FF29-887E-4E7C-A7CE-217E70F190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5" descr="D:\ДОКУМЕНТЫ\Desktop\История музея\IMG_0612.JPG"/>
          <p:cNvPicPr/>
          <p:nvPr/>
        </p:nvPicPr>
        <p:blipFill>
          <a:blip r:embed="rId3"/>
          <a:srcRect l="0" t="0" r="5639" b="13441"/>
          <a:stretch/>
        </p:blipFill>
        <p:spPr>
          <a:xfrm>
            <a:off x="900000" y="429264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D:\ДОКУМЕНТЫ\Desktop\Гости  музея 2013г\IMG_1275.JPG"/>
          <p:cNvPicPr/>
          <p:nvPr/>
        </p:nvPicPr>
        <p:blipFill>
          <a:blip r:embed="rId4"/>
          <a:stretch/>
        </p:blipFill>
        <p:spPr>
          <a:xfrm>
            <a:off x="5076720" y="429264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99" name="Выгнутая влево стрелка 21"/>
          <p:cNvSpPr/>
          <p:nvPr/>
        </p:nvSpPr>
        <p:spPr>
          <a:xfrm>
            <a:off x="6300720" y="2133720"/>
            <a:ext cx="1079640" cy="2303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72680 h 2303280"/>
              <a:gd name="textAreaBottom" fmla="*/ 170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65" stAng="-5400000" swAng="-5400000"/>
                <a:lnTo>
                  <a:pt x="0" y="11542"/>
                </a:lnTo>
                <a:arcTo wR="21600" hR="8865" stAng="10800000" swAng="-3469526"/>
                <a:lnTo>
                  <a:pt x="16200" y="21318"/>
                </a:lnTo>
                <a:lnTo>
                  <a:pt x="21600" y="19069"/>
                </a:lnTo>
                <a:lnTo>
                  <a:pt x="16200" y="16255"/>
                </a:lnTo>
                <a:lnTo>
                  <a:pt x="16200" y="17448"/>
                </a:lnTo>
                <a:arcTo wR="21600" hR="8865" stAng="7330474" swAng="3254308"/>
                <a:lnTo>
                  <a:pt x="248" y="10203"/>
                </a:lnTo>
                <a:arcTo wR="21600" hR="8865" stAng="-10584782" swAng="5184782"/>
                <a:close/>
              </a:path>
              <a:path fill="darkenLess" w="21600" h="21600">
                <a:moveTo>
                  <a:pt x="21600" y="0"/>
                </a:moveTo>
                <a:arcTo wR="21600" hR="8865" stAng="-5400000" swAng="-5400000"/>
                <a:lnTo>
                  <a:pt x="0" y="8865"/>
                </a:lnTo>
                <a:arcTo wR="21600" hR="8865" stAng="10800000" swAng="-215218"/>
                <a:lnTo>
                  <a:pt x="248" y="10203"/>
                </a:lnTo>
                <a:arcTo wR="21600" hR="8865" stAng="-10584782" swAng="5184782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Выгнутая вправо стрелка 22"/>
          <p:cNvSpPr/>
          <p:nvPr/>
        </p:nvSpPr>
        <p:spPr>
          <a:xfrm>
            <a:off x="2916360" y="2060640"/>
            <a:ext cx="863640" cy="2305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495000 h 2305080"/>
              <a:gd name="textAreaBottom" fmla="*/ 1702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81" stAng="-5400000" swAng="5400000"/>
                <a:lnTo>
                  <a:pt x="21600" y="11307"/>
                </a:lnTo>
                <a:arcTo wR="21600" hR="9281" stAng="0" swAng="3539862"/>
                <a:lnTo>
                  <a:pt x="5400" y="21305"/>
                </a:lnTo>
                <a:lnTo>
                  <a:pt x="0" y="19575"/>
                </a:lnTo>
                <a:lnTo>
                  <a:pt x="5400" y="17255"/>
                </a:lnTo>
                <a:lnTo>
                  <a:pt x="5400" y="18267"/>
                </a:lnTo>
                <a:arcTo wR="21600" hR="9281" stAng="3539862" swAng="-3377789"/>
                <a:lnTo>
                  <a:pt x="21471" y="10294"/>
                </a:lnTo>
                <a:arcTo wR="21600" hR="9281" stAng="-162073" swAng="-5237927"/>
                <a:close/>
              </a:path>
              <a:path fill="darkenLess" w="21600" h="21600">
                <a:moveTo>
                  <a:pt x="0" y="0"/>
                </a:moveTo>
                <a:arcTo wR="21600" hR="9281" stAng="-5400000" swAng="5400000"/>
                <a:lnTo>
                  <a:pt x="21600" y="11307"/>
                </a:lnTo>
                <a:arcTo wR="21600" hR="9281" stAng="0" swAng="-162073"/>
                <a:lnTo>
                  <a:pt x="21471" y="10294"/>
                </a:lnTo>
                <a:arcTo wR="21600" hR="9281" stAng="-162073" swAng="-5237927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8:08:13Z</dcterms:created>
  <dc:creator>маш-7</dc:creator>
  <dc:description/>
  <dc:language>en-US</dc:language>
  <cp:lastModifiedBy>майя</cp:lastModifiedBy>
  <dcterms:modified xsi:type="dcterms:W3CDTF">2013-05-04T11:38:59Z</dcterms:modified>
  <cp:revision>219</cp:revision>
  <dc:subject/>
  <dc:title>Слайд 1</dc:title>
</cp:coreProperties>
</file>