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94F-D661-4EB0-9611-6E080FE4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956C-34F4-4D7B-BF4A-859AD55E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05E-D6DE-4AE6-BC5B-13CC9C8F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9C9-7708-4C2B-A3EE-4A791E15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7654E-B1D1-409E-8205-695FD45C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B2153-956F-42EE-B955-1C4B4F4B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622FE-4945-4AC0-A753-49CECF0B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9B41E-89FE-4E98-A58A-13E2EFB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1AD0-C5E4-436E-B686-8CFCC950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F1CB5-F45F-4B78-93FD-94B34B2A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F54F1-A8CE-4E7B-9B43-F5F1005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F67-AFDC-4B27-A285-5D6AC9C0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65FC0-863C-473E-BE87-E370C868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4A986-4A1B-4243-830E-C7C7DE6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09E1D-38E0-4E25-84DC-110DE6F8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EE1A6-800C-487C-A1B1-C06797DA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36F8-A585-437D-8393-B837B6B9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C9A-841C-4BF5-83E6-5A515726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A0F-E54B-4584-AEF7-12BAD365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A88-1A16-451F-9217-14769E36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22A-6AC4-41E0-99A1-5CAF920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9AF-8EE5-4E09-88A9-CCFD4C5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917-7AB8-4743-AB04-09C381D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434-8870-493B-9B85-55F18D6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1E55-A7D1-4FDC-AB46-6CF9FF5F69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C97A-9902-47C0-851F-FD02EF03F1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835280" y="1197000"/>
            <a:ext cx="475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Г. Санкт-Петербург, Кронштадтский район, ГБОУ СОШ  №422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539640" y="333360"/>
            <a:ext cx="7344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Музей " Остров Котлин"</a:t>
            </a:r>
            <a:endParaRPr b="1" i="1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077-89AE-46B0-A9ED-A7447BDB7EE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Бык 047"/>
          <p:cNvPicPr/>
          <p:nvPr/>
        </p:nvPicPr>
        <p:blipFill>
          <a:blip r:embed="rId1"/>
          <a:stretch/>
        </p:blipFill>
        <p:spPr>
          <a:xfrm>
            <a:off x="1619280" y="2924280"/>
            <a:ext cx="2232000" cy="1806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Святой 188"/>
          <p:cNvPicPr/>
          <p:nvPr/>
        </p:nvPicPr>
        <p:blipFill>
          <a:blip r:embed="rId2"/>
          <a:stretch/>
        </p:blipFill>
        <p:spPr>
          <a:xfrm>
            <a:off x="5292720" y="2997360"/>
            <a:ext cx="2016000" cy="1574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324000" y="4869000"/>
            <a:ext cx="8424720" cy="10674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199"/>
                </a:solidFill>
                <a:latin typeface="바탕"/>
                <a:ea typeface="바탕"/>
              </a:rPr>
              <a:t>Школьный музей начал создаваться в 2002 г.  по инициативе учителя истории Шлендовой М.А. при активной поддержке директора школы  Л.А. Кирейшиной и её заместителей Агафоновой Г.М., Аницевой М.Ю., а также учащихся старших классов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496360" cy="2448000"/>
          </a:xfrm>
          <a:prstGeom prst="rect">
            <a:avLst/>
          </a:prstGeom>
          <a:solidFill>
            <a:srgbClr val="66ccff"/>
          </a:solidFill>
          <a:ln w="19080">
            <a:solidFill>
              <a:srgbClr val="0101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Участие в районных и городских конкурсах, играх и викторинах принесло в копилку школы:</a:t>
            </a:r>
            <a:br>
              <a:rPr sz="2800"/>
            </a:br>
            <a:r>
              <a:rPr b="1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26 грамот , 18 дипломов и 22 сертификата. В 2013 году наш музей стал лауреатом  городского смотра  школьных музеев  г. С-Петербур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F83D-E44C-48BA-8AD4-17EAFCD602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D:\ДОКУМЕНТЫ\Desktop\История музея\КАБИНЕТ ИСТОРИИ 422 009.JPG"/>
          <p:cNvPicPr/>
          <p:nvPr/>
        </p:nvPicPr>
        <p:blipFill>
          <a:blip r:embed="rId1"/>
          <a:srcRect l="0" t="11683" r="14180" b="7743"/>
          <a:stretch/>
        </p:blipFill>
        <p:spPr>
          <a:xfrm>
            <a:off x="4859280" y="3500280"/>
            <a:ext cx="3422880" cy="2305080"/>
          </a:xfrm>
          <a:prstGeom prst="rect">
            <a:avLst/>
          </a:prstGeom>
          <a:ln cap="sq" w="38160">
            <a:solidFill>
              <a:srgbClr val="2929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Рисунок 5" descr="F:\Кюм-6-б 2012 г\P1013885.JPG"/>
          <p:cNvPicPr/>
          <p:nvPr/>
        </p:nvPicPr>
        <p:blipFill>
          <a:blip r:embed="rId2"/>
          <a:stretch/>
        </p:blipFill>
        <p:spPr>
          <a:xfrm>
            <a:off x="611280" y="3284640"/>
            <a:ext cx="3673440" cy="2382840"/>
          </a:xfrm>
          <a:prstGeom prst="rect">
            <a:avLst/>
          </a:prstGeom>
          <a:ln w="19080">
            <a:solidFill>
              <a:srgbClr val="2b2bfe"/>
            </a:solidFill>
            <a:miter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476360" y="476280"/>
            <a:ext cx="597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Виды деятельности: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5435640" y="1268280"/>
            <a:ext cx="3384360" cy="865440"/>
          </a:xfrm>
          <a:prstGeom prst="cube">
            <a:avLst>
              <a:gd name="adj" fmla="val 15833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Краеведче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экскурсио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68360" y="1268280"/>
            <a:ext cx="3311640" cy="936720"/>
          </a:xfrm>
          <a:prstGeom prst="cube">
            <a:avLst>
              <a:gd name="adj" fmla="val 17435"/>
            </a:avLst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Исследователь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0199"/>
                </a:solidFill>
                <a:latin typeface="Arial"/>
              </a:rPr>
              <a:t>поиск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Номер слайда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A12C-2C30-4FE5-B6A1-588390C55A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Рисунок 5" descr="D:\ДОКУМЕНТЫ\Desktop\История музея\IMG_0612.JPG"/>
          <p:cNvPicPr/>
          <p:nvPr/>
        </p:nvPicPr>
        <p:blipFill>
          <a:blip r:embed="rId3"/>
          <a:srcRect l="0" t="0" r="5639" b="13441"/>
          <a:stretch/>
        </p:blipFill>
        <p:spPr>
          <a:xfrm>
            <a:off x="900000" y="429264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D:\ДОКУМЕНТЫ\Desktop\Гости  музея 2013г\IMG_1275.JPG"/>
          <p:cNvPicPr/>
          <p:nvPr/>
        </p:nvPicPr>
        <p:blipFill>
          <a:blip r:embed="rId4"/>
          <a:stretch/>
        </p:blipFill>
        <p:spPr>
          <a:xfrm>
            <a:off x="5076720" y="4292640"/>
            <a:ext cx="3095640" cy="1944720"/>
          </a:xfrm>
          <a:prstGeom prst="rect">
            <a:avLst/>
          </a:prstGeom>
          <a:ln w="0">
            <a:noFill/>
          </a:ln>
        </p:spPr>
      </p:pic>
      <p:sp>
        <p:nvSpPr>
          <p:cNvPr id="99" name="Выгнутая влево стрелка 21"/>
          <p:cNvSpPr/>
          <p:nvPr/>
        </p:nvSpPr>
        <p:spPr>
          <a:xfrm>
            <a:off x="6300720" y="2133720"/>
            <a:ext cx="1079640" cy="230328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472680 h 2303280"/>
              <a:gd name="textAreaBottom" fmla="*/ 170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65" stAng="-5400000" swAng="-5400000"/>
                <a:lnTo>
                  <a:pt x="0" y="11542"/>
                </a:lnTo>
                <a:arcTo wR="21600" hR="8865" stAng="10800000" swAng="-3469526"/>
                <a:lnTo>
                  <a:pt x="16200" y="21318"/>
                </a:lnTo>
                <a:lnTo>
                  <a:pt x="21600" y="19069"/>
                </a:lnTo>
                <a:lnTo>
                  <a:pt x="16200" y="16255"/>
                </a:lnTo>
                <a:lnTo>
                  <a:pt x="16200" y="17448"/>
                </a:lnTo>
                <a:arcTo wR="21600" hR="8865" stAng="7330474" swAng="3254308"/>
                <a:lnTo>
                  <a:pt x="248" y="10203"/>
                </a:lnTo>
                <a:arcTo wR="21600" hR="8865" stAng="-10584782" swAng="5184782"/>
                <a:close/>
              </a:path>
              <a:path fill="darkenLess" w="21600" h="21600">
                <a:moveTo>
                  <a:pt x="21600" y="0"/>
                </a:moveTo>
                <a:arcTo wR="21600" hR="8865" stAng="-5400000" swAng="-5400000"/>
                <a:lnTo>
                  <a:pt x="0" y="8865"/>
                </a:lnTo>
                <a:arcTo wR="21600" hR="8865" stAng="10800000" swAng="-215218"/>
                <a:lnTo>
                  <a:pt x="248" y="10203"/>
                </a:lnTo>
                <a:arcTo wR="21600" hR="8865" stAng="-10584782" swAng="5184782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Выгнутая вправо стрелка 22"/>
          <p:cNvSpPr/>
          <p:nvPr/>
        </p:nvSpPr>
        <p:spPr>
          <a:xfrm>
            <a:off x="2916360" y="2060640"/>
            <a:ext cx="863640" cy="2305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495000 h 2305080"/>
              <a:gd name="textAreaBottom" fmla="*/ 1702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81" stAng="-5400000" swAng="5400000"/>
                <a:lnTo>
                  <a:pt x="21600" y="11307"/>
                </a:lnTo>
                <a:arcTo wR="21600" hR="9281" stAng="0" swAng="3539862"/>
                <a:lnTo>
                  <a:pt x="5400" y="21305"/>
                </a:lnTo>
                <a:lnTo>
                  <a:pt x="0" y="19575"/>
                </a:lnTo>
                <a:lnTo>
                  <a:pt x="5400" y="17255"/>
                </a:lnTo>
                <a:lnTo>
                  <a:pt x="5400" y="18267"/>
                </a:lnTo>
                <a:arcTo wR="21600" hR="9281" stAng="3539862" swAng="-3377789"/>
                <a:lnTo>
                  <a:pt x="21471" y="10294"/>
                </a:lnTo>
                <a:arcTo wR="21600" hR="9281" stAng="-162073" swAng="-5237927"/>
                <a:close/>
              </a:path>
              <a:path fill="darkenLess" w="21600" h="21600">
                <a:moveTo>
                  <a:pt x="0" y="0"/>
                </a:moveTo>
                <a:arcTo wR="21600" hR="9281" stAng="-5400000" swAng="5400000"/>
                <a:lnTo>
                  <a:pt x="21600" y="11307"/>
                </a:lnTo>
                <a:arcTo wR="21600" hR="9281" stAng="0" swAng="-162073"/>
                <a:lnTo>
                  <a:pt x="21471" y="10294"/>
                </a:lnTo>
                <a:arcTo wR="21600" hR="9281" stAng="-162073" swAng="-5237927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8:08:13Z</dcterms:created>
  <dc:creator>маш-7</dc:creator>
  <dc:description/>
  <dc:language>en-US</dc:language>
  <cp:lastModifiedBy>майя</cp:lastModifiedBy>
  <dcterms:modified xsi:type="dcterms:W3CDTF">2013-05-04T11:38:59Z</dcterms:modified>
  <cp:revision>219</cp:revision>
  <dc:subject/>
  <dc:title>Слайд 1</dc:title>
</cp:coreProperties>
</file>