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A79F-0A0B-435F-AD85-19FAACC7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9F2-963A-4DD7-A405-C094C2BC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B00-5DF7-465D-ADF5-5E18827D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4E29-6A09-479C-A16A-2E45280D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7DC4E-70C8-4544-B78E-CF1F79EA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24BD8-7BA6-4DFE-B7A6-45FE57FF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8B5D4-C13A-40AF-A25D-FE4F7E3A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26606-F823-4EC5-95F8-0A97E378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F6661-72A4-4C4F-B0CC-4B1C2A91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A4C15-DDF1-478D-AD46-FBF92BA2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F4520-431D-4C4C-94B9-55442E11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22B4-BF31-4C2D-A95C-A5D48591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8C51A-D87F-4E22-8653-1D9DD396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31135-0669-4389-8874-618A02F6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81517-C628-45C5-B537-CD346732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1AB13-DE37-48B3-A59D-3DD0E514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01AB9-7B4D-49F6-A6FB-9A0B8002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A92-4DE9-41BC-8BE9-28796606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E72-C63F-4D2A-B29F-BF49527A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97A-753C-4ECC-8895-D5E9246D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B70-B871-46EE-9223-69CB9CB2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EB4-A16A-4660-8EA3-6CA724BE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D79-A6F0-45AA-886B-9012EC21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64D-5745-4646-934C-920F4BD4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AEDE-5EE2-4989-8A74-EC0AF2794E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0E90-5BA3-4BA6-8C00-9B40E82201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Blackadder ITC"/>
              </a:rPr>
              <a:t>Parade of cloud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48360" y="4437000"/>
            <a:ext cx="3519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lackadder ITC"/>
              </a:rPr>
              <a:t>By the pupil of the 10 th form</a:t>
            </a:r>
            <a:r>
              <a:rPr b="0" lang="ru-RU" sz="2000" spc="-1" strike="noStrike">
                <a:solidFill>
                  <a:srgbClr val="ffffff"/>
                </a:solidFill>
                <a:latin typeface="Blackadder ITC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Blackadder ITC"/>
              </a:rPr>
              <a:t> gymnazium  </a:t>
            </a:r>
            <a:r>
              <a:rPr b="0" lang="ru-RU" sz="2000" spc="-1" strike="noStrike">
                <a:solidFill>
                  <a:srgbClr val="ffffff"/>
                </a:solidFill>
                <a:latin typeface="Blackadder ITC"/>
              </a:rPr>
              <a:t>№1</a:t>
            </a:r>
            <a:r>
              <a:rPr b="0" lang="en-US" sz="2000" spc="-1" strike="noStrike">
                <a:solidFill>
                  <a:srgbClr val="ffffff"/>
                </a:solidFill>
                <a:latin typeface="Blackadder ITC"/>
              </a:rPr>
              <a:t>55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lackadder ITC"/>
              </a:rPr>
              <a:t>City Mosc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lackadder ITC"/>
              </a:rPr>
              <a:t>Larionova Poli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lackadder ITC"/>
              </a:rPr>
              <a:t>Teacher-Sabaeva S</a:t>
            </a:r>
            <a:r>
              <a:rPr b="0" lang="ru-RU" sz="2000" spc="-1" strike="noStrike">
                <a:solidFill>
                  <a:srgbClr val="ffffff"/>
                </a:solidFill>
                <a:latin typeface="Blackadder ITC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Blackadder ITC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Blackadder IT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1323125651_x_434dc48f"/>
          <p:cNvPicPr/>
          <p:nvPr/>
        </p:nvPicPr>
        <p:blipFill>
          <a:blip r:embed="rId1"/>
          <a:stretch/>
        </p:blipFill>
        <p:spPr>
          <a:xfrm>
            <a:off x="0" y="0"/>
            <a:ext cx="5292720" cy="3584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1313587210_clouds"/>
          <p:cNvPicPr/>
          <p:nvPr/>
        </p:nvPicPr>
        <p:blipFill>
          <a:blip r:embed="rId2"/>
          <a:stretch/>
        </p:blipFill>
        <p:spPr>
          <a:xfrm rot="567600">
            <a:off x="4572000" y="62064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oblaka"/>
          <p:cNvPicPr/>
          <p:nvPr/>
        </p:nvPicPr>
        <p:blipFill>
          <a:blip r:embed="rId3"/>
          <a:stretch/>
        </p:blipFill>
        <p:spPr>
          <a:xfrm rot="21103800">
            <a:off x="331560" y="2906280"/>
            <a:ext cx="4464000" cy="355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1319713522_1"/>
          <p:cNvPicPr/>
          <p:nvPr/>
        </p:nvPicPr>
        <p:blipFill>
          <a:blip r:embed="rId4"/>
          <a:stretch/>
        </p:blipFill>
        <p:spPr>
          <a:xfrm rot="1119600">
            <a:off x="4716000" y="3500280"/>
            <a:ext cx="4105440" cy="2725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3"/>
          <p:cNvSpPr/>
          <p:nvPr/>
        </p:nvSpPr>
        <p:spPr>
          <a:xfrm>
            <a:off x="1042920" y="2708280"/>
            <a:ext cx="69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9ff"/>
                </a:solidFill>
                <a:latin typeface="Blackadder ITC"/>
              </a:rPr>
              <a:t>Thank you for your attention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_"/>
          <p:cNvPicPr/>
          <p:nvPr/>
        </p:nvPicPr>
        <p:blipFill>
          <a:blip r:embed="rId1"/>
          <a:stretch/>
        </p:blipFill>
        <p:spPr>
          <a:xfrm rot="21266400">
            <a:off x="179280" y="188640"/>
            <a:ext cx="381636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cloud_xiiv_wp_by_akito666z"/>
          <p:cNvPicPr/>
          <p:nvPr/>
        </p:nvPicPr>
        <p:blipFill>
          <a:blip r:embed="rId2"/>
          <a:stretch/>
        </p:blipFill>
        <p:spPr>
          <a:xfrm rot="286800">
            <a:off x="3995280" y="188640"/>
            <a:ext cx="4969080" cy="460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Girls_Girl_in_a_field_028806_"/>
          <p:cNvPicPr/>
          <p:nvPr/>
        </p:nvPicPr>
        <p:blipFill>
          <a:blip r:embed="rId3"/>
          <a:stretch/>
        </p:blipFill>
        <p:spPr>
          <a:xfrm rot="21400200">
            <a:off x="915840" y="2707920"/>
            <a:ext cx="69692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78789316"/>
          <p:cNvPicPr/>
          <p:nvPr/>
        </p:nvPicPr>
        <p:blipFill>
          <a:blip r:embed="rId1"/>
          <a:stretch/>
        </p:blipFill>
        <p:spPr>
          <a:xfrm rot="247800">
            <a:off x="3995640" y="188640"/>
            <a:ext cx="4969080" cy="369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1262648429_702lambs"/>
          <p:cNvPicPr/>
          <p:nvPr/>
        </p:nvPicPr>
        <p:blipFill>
          <a:blip r:embed="rId2"/>
          <a:stretch/>
        </p:blipFill>
        <p:spPr>
          <a:xfrm rot="187200">
            <a:off x="4932000" y="3933720"/>
            <a:ext cx="4032360" cy="2735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lambs"/>
          <p:cNvPicPr/>
          <p:nvPr/>
        </p:nvPicPr>
        <p:blipFill>
          <a:blip r:embed="rId3"/>
          <a:stretch/>
        </p:blipFill>
        <p:spPr>
          <a:xfrm rot="21384600">
            <a:off x="250560" y="3933360"/>
            <a:ext cx="4537080" cy="2735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904_14_2047---Lambs_web"/>
          <p:cNvPicPr/>
          <p:nvPr/>
        </p:nvPicPr>
        <p:blipFill>
          <a:blip r:embed="rId4"/>
          <a:stretch/>
        </p:blipFill>
        <p:spPr>
          <a:xfrm rot="21450600">
            <a:off x="250560" y="188640"/>
            <a:ext cx="4968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02-apple_thumb"/>
          <p:cNvPicPr/>
          <p:nvPr/>
        </p:nvPicPr>
        <p:blipFill>
          <a:blip r:embed="rId1"/>
          <a:stretch/>
        </p:blipFill>
        <p:spPr>
          <a:xfrm rot="21436800">
            <a:off x="250560" y="188640"/>
            <a:ext cx="4249800" cy="381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Bankoboev"/>
          <p:cNvPicPr/>
          <p:nvPr/>
        </p:nvPicPr>
        <p:blipFill>
          <a:blip r:embed="rId2"/>
          <a:stretch/>
        </p:blipFill>
        <p:spPr>
          <a:xfrm rot="21123000">
            <a:off x="684000" y="3573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wbear2"/>
          <p:cNvPicPr/>
          <p:nvPr/>
        </p:nvPicPr>
        <p:blipFill>
          <a:blip r:embed="rId3"/>
          <a:stretch/>
        </p:blipFill>
        <p:spPr>
          <a:xfrm rot="281400">
            <a:off x="4355640" y="3284280"/>
            <a:ext cx="4537080" cy="334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Polar_bears_15"/>
          <p:cNvPicPr/>
          <p:nvPr/>
        </p:nvPicPr>
        <p:blipFill>
          <a:blip r:embed="rId4"/>
          <a:stretch/>
        </p:blipFill>
        <p:spPr>
          <a:xfrm rot="850800">
            <a:off x="4427280" y="475920"/>
            <a:ext cx="4321080" cy="348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y_5ae5e8a6"/>
          <p:cNvPicPr/>
          <p:nvPr/>
        </p:nvPicPr>
        <p:blipFill>
          <a:blip r:embed="rId5"/>
          <a:stretch/>
        </p:blipFill>
        <p:spPr>
          <a:xfrm rot="21368400">
            <a:off x="2555640" y="2133720"/>
            <a:ext cx="338436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white_dragon_by_gloriusdragonlover-d3fpc2i"/>
          <p:cNvPicPr/>
          <p:nvPr/>
        </p:nvPicPr>
        <p:blipFill>
          <a:blip r:embed="rId1"/>
          <a:stretch/>
        </p:blipFill>
        <p:spPr>
          <a:xfrm rot="21265200">
            <a:off x="262080" y="244440"/>
            <a:ext cx="4392360" cy="387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WhiteDragon-1"/>
          <p:cNvPicPr/>
          <p:nvPr/>
        </p:nvPicPr>
        <p:blipFill>
          <a:blip r:embed="rId2"/>
          <a:stretch/>
        </p:blipFill>
        <p:spPr>
          <a:xfrm rot="478200">
            <a:off x="4908240" y="547560"/>
            <a:ext cx="3960720" cy="352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Дракон"/>
          <p:cNvPicPr/>
          <p:nvPr/>
        </p:nvPicPr>
        <p:blipFill>
          <a:blip r:embed="rId3"/>
          <a:stretch/>
        </p:blipFill>
        <p:spPr>
          <a:xfrm rot="20604600">
            <a:off x="1217160" y="3650760"/>
            <a:ext cx="2706840" cy="2822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0_8e36e_5e1b310a_orig"/>
          <p:cNvPicPr/>
          <p:nvPr/>
        </p:nvPicPr>
        <p:blipFill>
          <a:blip r:embed="rId4"/>
          <a:stretch/>
        </p:blipFill>
        <p:spPr>
          <a:xfrm rot="672000">
            <a:off x="4284720" y="3499920"/>
            <a:ext cx="439272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1319713522_1"/>
          <p:cNvPicPr/>
          <p:nvPr/>
        </p:nvPicPr>
        <p:blipFill>
          <a:blip r:embed="rId1"/>
          <a:stretch/>
        </p:blipFill>
        <p:spPr>
          <a:xfrm rot="21319200">
            <a:off x="178920" y="259920"/>
            <a:ext cx="5040360" cy="3697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iridescent_allen"/>
          <p:cNvPicPr/>
          <p:nvPr/>
        </p:nvPicPr>
        <p:blipFill>
          <a:blip r:embed="rId2"/>
          <a:stretch/>
        </p:blipFill>
        <p:spPr>
          <a:xfrm rot="1080600">
            <a:off x="4716000" y="62028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43_3"/>
          <p:cNvPicPr/>
          <p:nvPr/>
        </p:nvPicPr>
        <p:blipFill>
          <a:blip r:embed="rId3"/>
          <a:stretch/>
        </p:blipFill>
        <p:spPr>
          <a:xfrm rot="20983200">
            <a:off x="324000" y="3860640"/>
            <a:ext cx="3744720" cy="2581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18"/>
          <p:cNvPicPr/>
          <p:nvPr/>
        </p:nvPicPr>
        <p:blipFill>
          <a:blip r:embed="rId4"/>
          <a:stretch/>
        </p:blipFill>
        <p:spPr>
          <a:xfrm rot="583200">
            <a:off x="4648320" y="3500280"/>
            <a:ext cx="4100400" cy="3024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images (4)"/>
          <p:cNvPicPr/>
          <p:nvPr/>
        </p:nvPicPr>
        <p:blipFill>
          <a:blip r:embed="rId5"/>
          <a:stretch/>
        </p:blipFill>
        <p:spPr>
          <a:xfrm rot="20799600">
            <a:off x="2700360" y="2205000"/>
            <a:ext cx="3384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1" descr="images (5)"/>
          <p:cNvPicPr/>
          <p:nvPr/>
        </p:nvPicPr>
        <p:blipFill>
          <a:blip r:embed="rId1"/>
          <a:stretch/>
        </p:blipFill>
        <p:spPr>
          <a:xfrm rot="20801400">
            <a:off x="755640" y="3284640"/>
            <a:ext cx="3745080" cy="3176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22735472396016"/>
          <p:cNvPicPr/>
          <p:nvPr/>
        </p:nvPicPr>
        <p:blipFill>
          <a:blip r:embed="rId2"/>
          <a:stretch/>
        </p:blipFill>
        <p:spPr>
          <a:xfrm rot="373200">
            <a:off x="5363640" y="4076640"/>
            <a:ext cx="3403800" cy="2549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39355243_03_02_2009_0871696001233688687_ceslovas_cesnakevicius"/>
          <p:cNvPicPr/>
          <p:nvPr/>
        </p:nvPicPr>
        <p:blipFill>
          <a:blip r:embed="rId3"/>
          <a:stretch/>
        </p:blipFill>
        <p:spPr>
          <a:xfrm rot="20983200">
            <a:off x="317520" y="339840"/>
            <a:ext cx="4176720" cy="360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original"/>
          <p:cNvPicPr/>
          <p:nvPr/>
        </p:nvPicPr>
        <p:blipFill>
          <a:blip r:embed="rId4"/>
          <a:stretch/>
        </p:blipFill>
        <p:spPr>
          <a:xfrm rot="952200">
            <a:off x="4716000" y="475920"/>
            <a:ext cx="388008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0_661d7_1466d225_L"/>
          <p:cNvPicPr/>
          <p:nvPr/>
        </p:nvPicPr>
        <p:blipFill>
          <a:blip r:embed="rId1"/>
          <a:stretch/>
        </p:blipFill>
        <p:spPr>
          <a:xfrm>
            <a:off x="0" y="0"/>
            <a:ext cx="6192720" cy="504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1294671269_2"/>
          <p:cNvPicPr/>
          <p:nvPr/>
        </p:nvPicPr>
        <p:blipFill>
          <a:blip r:embed="rId2"/>
          <a:stretch/>
        </p:blipFill>
        <p:spPr>
          <a:xfrm rot="751200">
            <a:off x="5796000" y="476280"/>
            <a:ext cx="3071880" cy="2617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images (6)"/>
          <p:cNvPicPr/>
          <p:nvPr/>
        </p:nvPicPr>
        <p:blipFill>
          <a:blip r:embed="rId3"/>
          <a:stretch/>
        </p:blipFill>
        <p:spPr>
          <a:xfrm rot="1029000">
            <a:off x="5292360" y="3716280"/>
            <a:ext cx="3456000" cy="2509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28814_58659097_big"/>
          <p:cNvPicPr/>
          <p:nvPr/>
        </p:nvPicPr>
        <p:blipFill>
          <a:blip r:embed="rId4"/>
          <a:stretch/>
        </p:blipFill>
        <p:spPr>
          <a:xfrm rot="21325200">
            <a:off x="971280" y="4365720"/>
            <a:ext cx="3044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4" descr="1202187316_img_4256645_119_0"/>
          <p:cNvPicPr/>
          <p:nvPr/>
        </p:nvPicPr>
        <p:blipFill>
          <a:blip r:embed="rId1"/>
          <a:stretch/>
        </p:blipFill>
        <p:spPr>
          <a:xfrm>
            <a:off x="4032360" y="0"/>
            <a:ext cx="5111640" cy="3827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371_nebo_oblaka_vstrecha_goluboj_2560x1600_(www"/>
          <p:cNvPicPr/>
          <p:nvPr/>
        </p:nvPicPr>
        <p:blipFill>
          <a:blip r:embed="rId2"/>
          <a:stretch/>
        </p:blipFill>
        <p:spPr>
          <a:xfrm rot="20881800">
            <a:off x="324000" y="333000"/>
            <a:ext cx="3457440" cy="2557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1235651691_cloud_001"/>
          <p:cNvPicPr/>
          <p:nvPr/>
        </p:nvPicPr>
        <p:blipFill>
          <a:blip r:embed="rId3"/>
          <a:stretch/>
        </p:blipFill>
        <p:spPr>
          <a:xfrm rot="317400">
            <a:off x="5579640" y="4149360"/>
            <a:ext cx="3336840" cy="248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5018688-n---n--------n--n---n-n--------n-n----n"/>
          <p:cNvPicPr/>
          <p:nvPr/>
        </p:nvPicPr>
        <p:blipFill>
          <a:blip r:embed="rId4"/>
          <a:stretch/>
        </p:blipFill>
        <p:spPr>
          <a:xfrm rot="21282000">
            <a:off x="158400" y="3584520"/>
            <a:ext cx="3240000" cy="300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6972"/>
          <p:cNvPicPr/>
          <p:nvPr/>
        </p:nvPicPr>
        <p:blipFill>
          <a:blip r:embed="rId5"/>
          <a:stretch/>
        </p:blipFill>
        <p:spPr>
          <a:xfrm rot="21071400">
            <a:off x="1619280" y="1844280"/>
            <a:ext cx="3173400" cy="2379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x_a28757ad"/>
          <p:cNvPicPr/>
          <p:nvPr/>
        </p:nvPicPr>
        <p:blipFill>
          <a:blip r:embed="rId6"/>
          <a:stretch/>
        </p:blipFill>
        <p:spPr>
          <a:xfrm rot="286800">
            <a:off x="3121200" y="3787560"/>
            <a:ext cx="2808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1:47:07Z</dcterms:created>
  <dc:creator>миха</dc:creator>
  <dc:description/>
  <dc:language>en-US</dc:language>
  <cp:lastModifiedBy>Антон</cp:lastModifiedBy>
  <dcterms:modified xsi:type="dcterms:W3CDTF">2013-05-04T18:05:46Z</dcterms:modified>
  <cp:revision>5</cp:revision>
  <dc:subject/>
  <dc:title>Parade of clouds</dc:title>
</cp:coreProperties>
</file>