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F96-8BB6-403E-BBEC-04F35E07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A49-A281-45F1-B3BF-FBB7F08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F8F-2103-4277-AB53-41AF87DC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121-9C74-4E40-9C54-C3C8DA5B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B9030-89C8-4235-9CEC-EAE64548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18EE-2380-4540-8346-4AC2558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50EBA-8EFE-465B-9A8F-1C714991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3664A-6309-41F1-8A0E-F427959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EB20D-12B4-4D95-A794-00F2F83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CC91D-507F-4BEF-BDFD-D09186DA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35CD-DE5A-4260-B2F8-3DAE0751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A07-BCBD-41A4-8D8B-14DE4F3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3DA4C-42F8-497D-9ABA-3FBBAF4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7B1D-792E-411A-8B12-950B4BA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CFE9-63B5-4D0F-AF13-8AC832A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6F4B-70ED-49D6-AF0D-A88ADF2D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CFF5C-8ABF-4AAC-8E29-D2C3A9F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E22-4588-49B7-967F-2237A72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907-426C-40E8-B030-14D2522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372-303E-48DA-AFF2-8EAECC7A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BBA-4DA5-4F3E-9629-FCFAC71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4F2-E197-4864-96B0-98D3DF1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466-311F-4B04-988B-9D737D1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66A-09DF-46E1-9BCA-C02ED17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1FB-2BC1-47FB-AAB3-12C94817F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A85-0669-4140-8F43-9E2A1FDF11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lackadder ITC"/>
              </a:rPr>
              <a:t>Parade of cloud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48360" y="4437000"/>
            <a:ext cx="3519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By the pupil of the 10 th form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 gymnazium  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№1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55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City Mosc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Larionova Pol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Teacher-Sabaeva S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1323125651_x_434dc48f"/>
          <p:cNvPicPr/>
          <p:nvPr/>
        </p:nvPicPr>
        <p:blipFill>
          <a:blip r:embed="rId1"/>
          <a:stretch/>
        </p:blipFill>
        <p:spPr>
          <a:xfrm>
            <a:off x="0" y="0"/>
            <a:ext cx="5292720" cy="3584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1313587210_clouds"/>
          <p:cNvPicPr/>
          <p:nvPr/>
        </p:nvPicPr>
        <p:blipFill>
          <a:blip r:embed="rId2"/>
          <a:stretch/>
        </p:blipFill>
        <p:spPr>
          <a:xfrm rot="567600">
            <a:off x="4572000" y="62064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oblaka"/>
          <p:cNvPicPr/>
          <p:nvPr/>
        </p:nvPicPr>
        <p:blipFill>
          <a:blip r:embed="rId3"/>
          <a:stretch/>
        </p:blipFill>
        <p:spPr>
          <a:xfrm rot="21103800">
            <a:off x="331560" y="2906280"/>
            <a:ext cx="4464000" cy="355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319713522_1"/>
          <p:cNvPicPr/>
          <p:nvPr/>
        </p:nvPicPr>
        <p:blipFill>
          <a:blip r:embed="rId4"/>
          <a:stretch/>
        </p:blipFill>
        <p:spPr>
          <a:xfrm rot="1119600">
            <a:off x="4716000" y="3500280"/>
            <a:ext cx="4105440" cy="2725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1042920" y="270828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9ff"/>
                </a:solidFill>
                <a:latin typeface="Blackadder ITC"/>
              </a:rPr>
              <a:t>Thank you for your attention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_"/>
          <p:cNvPicPr/>
          <p:nvPr/>
        </p:nvPicPr>
        <p:blipFill>
          <a:blip r:embed="rId1"/>
          <a:stretch/>
        </p:blipFill>
        <p:spPr>
          <a:xfrm rot="21266400">
            <a:off x="179280" y="188640"/>
            <a:ext cx="381636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loud_xiiv_wp_by_akito666z"/>
          <p:cNvPicPr/>
          <p:nvPr/>
        </p:nvPicPr>
        <p:blipFill>
          <a:blip r:embed="rId2"/>
          <a:stretch/>
        </p:blipFill>
        <p:spPr>
          <a:xfrm rot="286800">
            <a:off x="3995280" y="188640"/>
            <a:ext cx="4969080" cy="46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Girls_Girl_in_a_field_028806_"/>
          <p:cNvPicPr/>
          <p:nvPr/>
        </p:nvPicPr>
        <p:blipFill>
          <a:blip r:embed="rId3"/>
          <a:stretch/>
        </p:blipFill>
        <p:spPr>
          <a:xfrm rot="21400200">
            <a:off x="915840" y="2707920"/>
            <a:ext cx="6969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78789316"/>
          <p:cNvPicPr/>
          <p:nvPr/>
        </p:nvPicPr>
        <p:blipFill>
          <a:blip r:embed="rId1"/>
          <a:stretch/>
        </p:blipFill>
        <p:spPr>
          <a:xfrm rot="247800">
            <a:off x="3995640" y="188640"/>
            <a:ext cx="4969080" cy="369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262648429_702lambs"/>
          <p:cNvPicPr/>
          <p:nvPr/>
        </p:nvPicPr>
        <p:blipFill>
          <a:blip r:embed="rId2"/>
          <a:stretch/>
        </p:blipFill>
        <p:spPr>
          <a:xfrm rot="187200">
            <a:off x="4932000" y="3933720"/>
            <a:ext cx="403236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lambs"/>
          <p:cNvPicPr/>
          <p:nvPr/>
        </p:nvPicPr>
        <p:blipFill>
          <a:blip r:embed="rId3"/>
          <a:stretch/>
        </p:blipFill>
        <p:spPr>
          <a:xfrm rot="21384600">
            <a:off x="250560" y="3933360"/>
            <a:ext cx="453708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904_14_2047---Lambs_web"/>
          <p:cNvPicPr/>
          <p:nvPr/>
        </p:nvPicPr>
        <p:blipFill>
          <a:blip r:embed="rId4"/>
          <a:stretch/>
        </p:blipFill>
        <p:spPr>
          <a:xfrm rot="21450600">
            <a:off x="250560" y="188640"/>
            <a:ext cx="4968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02-apple_thumb"/>
          <p:cNvPicPr/>
          <p:nvPr/>
        </p:nvPicPr>
        <p:blipFill>
          <a:blip r:embed="rId1"/>
          <a:stretch/>
        </p:blipFill>
        <p:spPr>
          <a:xfrm rot="21436800">
            <a:off x="250560" y="188640"/>
            <a:ext cx="4249800" cy="38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Bankoboev"/>
          <p:cNvPicPr/>
          <p:nvPr/>
        </p:nvPicPr>
        <p:blipFill>
          <a:blip r:embed="rId2"/>
          <a:stretch/>
        </p:blipFill>
        <p:spPr>
          <a:xfrm rot="21123000">
            <a:off x="684000" y="3573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wbear2"/>
          <p:cNvPicPr/>
          <p:nvPr/>
        </p:nvPicPr>
        <p:blipFill>
          <a:blip r:embed="rId3"/>
          <a:stretch/>
        </p:blipFill>
        <p:spPr>
          <a:xfrm rot="281400">
            <a:off x="4355640" y="3284280"/>
            <a:ext cx="4537080" cy="33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Polar_bears_15"/>
          <p:cNvPicPr/>
          <p:nvPr/>
        </p:nvPicPr>
        <p:blipFill>
          <a:blip r:embed="rId4"/>
          <a:stretch/>
        </p:blipFill>
        <p:spPr>
          <a:xfrm rot="850800">
            <a:off x="4427280" y="475920"/>
            <a:ext cx="4321080" cy="348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y_5ae5e8a6"/>
          <p:cNvPicPr/>
          <p:nvPr/>
        </p:nvPicPr>
        <p:blipFill>
          <a:blip r:embed="rId5"/>
          <a:stretch/>
        </p:blipFill>
        <p:spPr>
          <a:xfrm rot="21368400">
            <a:off x="2555640" y="2133720"/>
            <a:ext cx="33843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white_dragon_by_gloriusdragonlover-d3fpc2i"/>
          <p:cNvPicPr/>
          <p:nvPr/>
        </p:nvPicPr>
        <p:blipFill>
          <a:blip r:embed="rId1"/>
          <a:stretch/>
        </p:blipFill>
        <p:spPr>
          <a:xfrm rot="21265200">
            <a:off x="262080" y="244440"/>
            <a:ext cx="4392360" cy="387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WhiteDragon-1"/>
          <p:cNvPicPr/>
          <p:nvPr/>
        </p:nvPicPr>
        <p:blipFill>
          <a:blip r:embed="rId2"/>
          <a:stretch/>
        </p:blipFill>
        <p:spPr>
          <a:xfrm rot="478200">
            <a:off x="4908240" y="547560"/>
            <a:ext cx="3960720" cy="352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Дракон"/>
          <p:cNvPicPr/>
          <p:nvPr/>
        </p:nvPicPr>
        <p:blipFill>
          <a:blip r:embed="rId3"/>
          <a:stretch/>
        </p:blipFill>
        <p:spPr>
          <a:xfrm rot="20604600">
            <a:off x="1217160" y="3650760"/>
            <a:ext cx="2706840" cy="282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0_8e36e_5e1b310a_orig"/>
          <p:cNvPicPr/>
          <p:nvPr/>
        </p:nvPicPr>
        <p:blipFill>
          <a:blip r:embed="rId4"/>
          <a:stretch/>
        </p:blipFill>
        <p:spPr>
          <a:xfrm rot="672000">
            <a:off x="4284720" y="3499920"/>
            <a:ext cx="43927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1319713522_1"/>
          <p:cNvPicPr/>
          <p:nvPr/>
        </p:nvPicPr>
        <p:blipFill>
          <a:blip r:embed="rId1"/>
          <a:stretch/>
        </p:blipFill>
        <p:spPr>
          <a:xfrm rot="21319200">
            <a:off x="178920" y="259920"/>
            <a:ext cx="5040360" cy="369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iridescent_allen"/>
          <p:cNvPicPr/>
          <p:nvPr/>
        </p:nvPicPr>
        <p:blipFill>
          <a:blip r:embed="rId2"/>
          <a:stretch/>
        </p:blipFill>
        <p:spPr>
          <a:xfrm rot="1080600">
            <a:off x="4716000" y="62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43_3"/>
          <p:cNvPicPr/>
          <p:nvPr/>
        </p:nvPicPr>
        <p:blipFill>
          <a:blip r:embed="rId3"/>
          <a:stretch/>
        </p:blipFill>
        <p:spPr>
          <a:xfrm rot="20983200">
            <a:off x="324000" y="3860640"/>
            <a:ext cx="3744720" cy="258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18"/>
          <p:cNvPicPr/>
          <p:nvPr/>
        </p:nvPicPr>
        <p:blipFill>
          <a:blip r:embed="rId4"/>
          <a:stretch/>
        </p:blipFill>
        <p:spPr>
          <a:xfrm rot="583200">
            <a:off x="4648320" y="3500280"/>
            <a:ext cx="410040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images (4)"/>
          <p:cNvPicPr/>
          <p:nvPr/>
        </p:nvPicPr>
        <p:blipFill>
          <a:blip r:embed="rId5"/>
          <a:stretch/>
        </p:blipFill>
        <p:spPr>
          <a:xfrm rot="20799600">
            <a:off x="2700360" y="2205000"/>
            <a:ext cx="3384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images (5)"/>
          <p:cNvPicPr/>
          <p:nvPr/>
        </p:nvPicPr>
        <p:blipFill>
          <a:blip r:embed="rId1"/>
          <a:stretch/>
        </p:blipFill>
        <p:spPr>
          <a:xfrm rot="20801400">
            <a:off x="755640" y="3284640"/>
            <a:ext cx="3745080" cy="317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22735472396016"/>
          <p:cNvPicPr/>
          <p:nvPr/>
        </p:nvPicPr>
        <p:blipFill>
          <a:blip r:embed="rId2"/>
          <a:stretch/>
        </p:blipFill>
        <p:spPr>
          <a:xfrm rot="373200">
            <a:off x="5363640" y="4076640"/>
            <a:ext cx="3403800" cy="25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9355243_03_02_2009_0871696001233688687_ceslovas_cesnakevicius"/>
          <p:cNvPicPr/>
          <p:nvPr/>
        </p:nvPicPr>
        <p:blipFill>
          <a:blip r:embed="rId3"/>
          <a:stretch/>
        </p:blipFill>
        <p:spPr>
          <a:xfrm rot="20983200">
            <a:off x="317520" y="33984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original"/>
          <p:cNvPicPr/>
          <p:nvPr/>
        </p:nvPicPr>
        <p:blipFill>
          <a:blip r:embed="rId4"/>
          <a:stretch/>
        </p:blipFill>
        <p:spPr>
          <a:xfrm rot="952200">
            <a:off x="4716000" y="475920"/>
            <a:ext cx="388008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0_661d7_1466d225_L"/>
          <p:cNvPicPr/>
          <p:nvPr/>
        </p:nvPicPr>
        <p:blipFill>
          <a:blip r:embed="rId1"/>
          <a:stretch/>
        </p:blipFill>
        <p:spPr>
          <a:xfrm>
            <a:off x="0" y="0"/>
            <a:ext cx="6192720" cy="504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294671269_2"/>
          <p:cNvPicPr/>
          <p:nvPr/>
        </p:nvPicPr>
        <p:blipFill>
          <a:blip r:embed="rId2"/>
          <a:stretch/>
        </p:blipFill>
        <p:spPr>
          <a:xfrm rot="751200">
            <a:off x="5796000" y="47628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ages (6)"/>
          <p:cNvPicPr/>
          <p:nvPr/>
        </p:nvPicPr>
        <p:blipFill>
          <a:blip r:embed="rId3"/>
          <a:stretch/>
        </p:blipFill>
        <p:spPr>
          <a:xfrm rot="1029000">
            <a:off x="5292360" y="3716280"/>
            <a:ext cx="3456000" cy="250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28814_58659097_big"/>
          <p:cNvPicPr/>
          <p:nvPr/>
        </p:nvPicPr>
        <p:blipFill>
          <a:blip r:embed="rId4"/>
          <a:stretch/>
        </p:blipFill>
        <p:spPr>
          <a:xfrm rot="21325200">
            <a:off x="971280" y="4365720"/>
            <a:ext cx="3044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4" descr="1202187316_img_4256645_119_0"/>
          <p:cNvPicPr/>
          <p:nvPr/>
        </p:nvPicPr>
        <p:blipFill>
          <a:blip r:embed="rId1"/>
          <a:stretch/>
        </p:blipFill>
        <p:spPr>
          <a:xfrm>
            <a:off x="4032360" y="0"/>
            <a:ext cx="5111640" cy="382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371_nebo_oblaka_vstrecha_goluboj_2560x1600_(www"/>
          <p:cNvPicPr/>
          <p:nvPr/>
        </p:nvPicPr>
        <p:blipFill>
          <a:blip r:embed="rId2"/>
          <a:stretch/>
        </p:blipFill>
        <p:spPr>
          <a:xfrm rot="20881800">
            <a:off x="324000" y="333000"/>
            <a:ext cx="3457440" cy="25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1235651691_cloud_001"/>
          <p:cNvPicPr/>
          <p:nvPr/>
        </p:nvPicPr>
        <p:blipFill>
          <a:blip r:embed="rId3"/>
          <a:stretch/>
        </p:blipFill>
        <p:spPr>
          <a:xfrm rot="317400">
            <a:off x="5579640" y="4149360"/>
            <a:ext cx="3336840" cy="248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5018688-n---n--------n--n---n-n--------n-n----n"/>
          <p:cNvPicPr/>
          <p:nvPr/>
        </p:nvPicPr>
        <p:blipFill>
          <a:blip r:embed="rId4"/>
          <a:stretch/>
        </p:blipFill>
        <p:spPr>
          <a:xfrm rot="21282000">
            <a:off x="158400" y="3584520"/>
            <a:ext cx="3240000" cy="300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6972"/>
          <p:cNvPicPr/>
          <p:nvPr/>
        </p:nvPicPr>
        <p:blipFill>
          <a:blip r:embed="rId5"/>
          <a:stretch/>
        </p:blipFill>
        <p:spPr>
          <a:xfrm rot="21071400">
            <a:off x="1619280" y="184428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x_a28757ad"/>
          <p:cNvPicPr/>
          <p:nvPr/>
        </p:nvPicPr>
        <p:blipFill>
          <a:blip r:embed="rId6"/>
          <a:stretch/>
        </p:blipFill>
        <p:spPr>
          <a:xfrm rot="286800">
            <a:off x="3121200" y="3787560"/>
            <a:ext cx="280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1:47:07Z</dcterms:created>
  <dc:creator>миха</dc:creator>
  <dc:description/>
  <dc:language>en-US</dc:language>
  <cp:lastModifiedBy>Антон</cp:lastModifiedBy>
  <dcterms:modified xsi:type="dcterms:W3CDTF">2013-05-04T18:05:46Z</dcterms:modified>
  <cp:revision>5</cp:revision>
  <dc:subject/>
  <dc:title>Parade of clouds</dc:title>
</cp:coreProperties>
</file>