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4C2D-84B6-4467-990B-290C8F33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3FF7-BC2C-44D8-A0CD-B97D790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0F1D-578D-47C9-B615-9035CA6E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D0E3-211A-4638-B59A-E43FCFE4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30E4-CDF0-4969-9888-ACAF500F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D270-5EF2-4F1A-9952-F53DED61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C948-E608-404D-9285-9CD0C0EC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31C7-1625-406E-9279-6E57FEBE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B00-DFAE-4E2F-996D-C2BBBB1E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250A-E7D4-49F4-88D9-088EC48F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387D-2EA1-4C29-B163-3730398E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E969-6FEA-478B-ABA9-070860B5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58A5-91EE-4C6B-8975-59A6CC73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4BB2-BC92-4631-B779-A5B68C31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51C9-71B6-40C2-9B3A-FB7FD100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D2EE-9E4B-40B6-80C4-B4A4234E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A9A6-74B5-4B62-9924-2AA85293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E791-06AF-4E17-8939-B4175AF3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0520-6123-4CEC-8020-C585EBC7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0136-2111-4E09-8269-91C8A3D5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DCB3-8CCF-4BC8-8983-26EC1A6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7AD2-B6B3-4B65-ADEF-18E6B93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6774-2CC2-426B-9543-E9D3909F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BEF3-DCCE-466E-939A-EA37DF6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686C-DDA7-4D15-ACAC-DE1BECEC9F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d6e03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d6e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d541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d6e0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d541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d6e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d6e03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d6e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d6e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d5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d6e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d5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d6e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d5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d5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d541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d6e0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d541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d6e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A736-CF88-408D-820A-F523BE4335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9807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РТФОЛИ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ботова Наталия Валентинов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85800" y="380880"/>
            <a:ext cx="792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«Детский сад  № 9 комбинированного вида» г.Сосно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193920" y="6272280"/>
            <a:ext cx="23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осногорск , 201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Герб.jpg"/>
          <p:cNvPicPr/>
          <p:nvPr/>
        </p:nvPicPr>
        <p:blipFill>
          <a:blip r:embed="rId1"/>
          <a:stretch/>
        </p:blipFill>
        <p:spPr>
          <a:xfrm>
            <a:off x="4267080" y="304920"/>
            <a:ext cx="6858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001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Применение информационных компьютерных технологи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бразовательном проце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1. В своей логопедической практике учитель-логопед активно использует информационные компьютерные технологии, которые позволяют оптимизировать педагогический процесс, индивидуализировать обучение детей и значительно повысить эффективность логопедического воздействия, так как они позволяют  привнести эффект наглядности в занятие, повысить мотивационную активность, способствуют более тесной взаимосвязи учителя-логопеда и дет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изированная компьютерная техноло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Игры для Тигры» (г.Пермь: ПОИПКР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нное издание «Дидактический материал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С Руслановой по развитию лексико-граммат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я речи по темам  «Посуда», «Игрушки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ежда, обув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нные издания «Обучение грамоте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усский язык» В.П.Канакина, В.Г.Горец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удиозапиь динамических разми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сять мышек» Е.Железн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5791320" y="3057480"/>
            <a:ext cx="30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2. Учитель-логопед Хоботова Н.В. создаёт практические пособия в программе PowerPoint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235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«Артикуляционная гимнастик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«Коррекция звукопроизношени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«Лексические тем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298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Результативность коррекционно-логопедической работ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я-логопе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1.  Анализ результатов педагогической деятельности Хоботовой Н.В. показал, что дети, выпущенные из логопункта за период 2009 – 2012 гг. на  88 % с чистой речью, с улучшением в речи – 12 %.  Высокий уровень исправления звукопроизношения в условиях логопункта достигается учителем-логопедом благодаря индивидуализации и дифференциации педагогического воздействия, использованию на занятиях здоровьесберегающих технологий в сочетании с гуманно-личностным подходом, применения в работе современных образовательных технологий. Положительные результаты обучения достигаются и благодаря грамотному использованию в своей работе разнообразных методов, способов и приемов обучения, а также привлечение к коррекционной работе воспитателей и родителей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5" descr="DSC02554.JPG"/>
          <p:cNvPicPr/>
          <p:nvPr/>
        </p:nvPicPr>
        <p:blipFill>
          <a:blip r:embed="rId1"/>
          <a:stretch/>
        </p:blipFill>
        <p:spPr>
          <a:xfrm>
            <a:off x="2971800" y="41911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Методические работа учителя-логопед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1 Учитель-логопед обобщает и активно распространяет коррекционно-логопедический опыт через открытые занятия, мастер-классы, семинары на уровне дошкольного образовательного учреждения, а также на муниципальном городском и районном уровнях. Наталья Валентиновна проводит занятия на высоком профессиональном уровне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2. Имеются собственные методические разрабо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овая игра для учителей-логопедов «Развитие речи в онтогенезе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пекты родительских собра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пекты занят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ская программа «Коррекционно-развивающая работа логопеда с детьми с общим недоразвитием речи (от 5 до 7 лет)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ская программа «Коррекция звукопроизношения у детей дошкольного возраст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ено положение «Об организации работы учителя-логопеда в условиях логопункта ДОУ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ация для учителя-логоп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чевые кар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ическое пособие «Логопедический массаж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Взаимодействие со спец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1. Взаимодействие по вопросам преемственности со школой проходит через открытые занятия в ДОУ, открытые уроки в школах, беседы с учителями начальных кла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2. Взаимодействие с учреждениями здравоохранения: по результатам речевого обследования учитель-логопед направляет детей  на приём к невропатоло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3. Взаимодействие с учителями-логопедами города и района – открытые занятия в ДОУ, проведение семинаров-практикумов, деловых игр, школа «Молодого специали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DSC01918.JPG"/>
          <p:cNvPicPr/>
          <p:nvPr/>
        </p:nvPicPr>
        <p:blipFill>
          <a:blip r:embed="rId1"/>
          <a:stretch/>
        </p:blipFill>
        <p:spPr>
          <a:xfrm>
            <a:off x="4419720" y="34290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DSC01921.JPG"/>
          <p:cNvPicPr/>
          <p:nvPr/>
        </p:nvPicPr>
        <p:blipFill>
          <a:blip r:embed="rId2"/>
          <a:stretch/>
        </p:blipFill>
        <p:spPr>
          <a:xfrm>
            <a:off x="304920" y="37339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Коррекционно-развивающ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опедический кабинет оснащён методическими пособиями, дидактическими играми, литературой, папками-передвижками, информационным стен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DSC02313.JPG"/>
          <p:cNvPicPr/>
          <p:nvPr/>
        </p:nvPicPr>
        <p:blipFill>
          <a:blip r:embed="rId1"/>
          <a:stretch/>
        </p:blipFill>
        <p:spPr>
          <a:xfrm>
            <a:off x="1523880" y="22096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Профессиональные умения учителя-логопеда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9.1.  Результаты анкетирования воспит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езультатам анкеты все воспитатели оценили высокую степень выраженности профессиональных умений и навыков учителя-логопеда. Отметили профессионализм, мастерство, грамотность, работоспособность, высокий уровень исправления дефектов речи. В характеристике указали, что Наталия Валентиновна  коммуникабельная, инициативная, доброжелательная, справедливая,  отзывчивая, креативная и внимательная к детям, к родителям, к коллег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9.2. Результаты анкетирования родителей, отзыв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Очень довольны и благодарны за постановку речи, развитие мышления нашего ребёнка. Научился последовательно пересказывать рассказы, читать. У ребёнка только восторг от занятий с логопедом. Спасибо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равится индивидуальный подход к детям. Наталья Валентиновна внимательная, добрая, отзывчива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огопе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 у кого сомнений н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 жизни важен логоп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эти годы так трудили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 дети наши научил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звуки чётко говори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пехов этих не забы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это вас благодар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руд ваш мы, конечно, чти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" descr="DSC01919.JPG"/>
          <p:cNvPicPr/>
          <p:nvPr/>
        </p:nvPicPr>
        <p:blipFill>
          <a:blip r:embed="rId1"/>
          <a:stretch/>
        </p:blipFill>
        <p:spPr>
          <a:xfrm>
            <a:off x="4191120" y="3809880"/>
            <a:ext cx="3860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ботова Наталия Валентиновна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 рождения: 17 сентября 1974 г.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91г. - Сосногорский межшкольный учебно-производственный комбинат, квалификация «Воспитатель детского сада»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92г.-1997г. - КГПИ, квалификация «Преподаватель дошкольной педагогики и психологии в педучилищ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ист по специальности «Дошкольная педагогика и психология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97г. – КРИРОиПК, курсы повышения квалификации по тем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сихолого-педагогические основы коррекции речи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12.1997г. назначена на должность «Учитель-логопед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0г.- 2002 г. – КРИРОиПК, квалификация «Учитель-логопед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.11.2001 г. присвое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валификационная категория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DSC01497.JPG"/>
          <p:cNvPicPr/>
          <p:nvPr/>
        </p:nvPicPr>
        <p:blipFill>
          <a:blip r:embed="rId1"/>
          <a:stretch/>
        </p:blipFill>
        <p:spPr>
          <a:xfrm>
            <a:off x="6629400" y="3352680"/>
            <a:ext cx="23036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г. – АПКиПРО, курсы по теме «Инновационные формы работы с семьёй в ДОУ на современном этапе развития образования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11.2006г. присвоена высшая квалификационная категор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7 г.- КРИРОиПК, курсы по повышению квалификации по программ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ехнология разработки рабочих учебных программ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9г. – КРИРОиПК, курсы по повышению квалификации по теме «Система коррекционно-развивающей работы логопеда ДОУ» по авторской программе Н.В. Нищевой (г.Санкт-Петербург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9г. назначена руководителем РМО учителей-логопедов г.Сосногорс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1 г. – индивидуальный предприниматель - открыла в городе центр речевого развития детей «Речецветик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.11.2011г. присвоена высшая квалификационная категор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трудовой стаж – 21 го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ж в должности логопеда: 16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467120" y="2286000"/>
            <a:ext cx="1219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огопед. Есть ли повод для гордост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Логопед. Есть ли повод для гордости?»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ут спросить меня некоторые, но ведь именно речь человека - основное средство выражения мыслей, характера, души. И развивая речь, мы развиваем личность. Не зря Л.С. Выготский писал, что «Развитие речи перестраивает мышление, переводит его в новые форм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рой даже не замечаем, какова роль Слова в нашей жизни. А ведь её и представить невозможно без звуков речи, она была бы такой тусклой! Смех детей, их весёлый лепет наполняет нас радостью. Слова и песни о любви дают силы жить. Стихи и проза возвышают и воспитывают. Лозунги и слоганы вдохновляют на новые достижения. Так пусть же эти слова звучат правильно и чётк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чь – царица всех наук, так считал мудрец Еврипид. Человек способен словом влиять на других, убеждать, спорить, производить впечатление, достигать успеха, управлять, получать удовольствие от спектакля или фильма, понимать юмор и шутить, создавать стихотворения, поэмы и песни и даже спасти Словом. Это ли не чуд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гоп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волшебник, создающий то самое чуд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610120" y="1905120"/>
            <a:ext cx="1600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143000" y="1905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 algn="ctr">
              <a:spcBef>
                <a:spcPts val="451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иагностическое сопрово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логопед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1. В детском саду функционируют 11 возрастных групп и 1 логопункт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2. Дети из старших и подготовительных к школе групп охвачены диагностическими процедурами по развитию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3. Результаты диагностики используются при проведении коррекционно-логопедической работы – составление индивидуальных планов с учётом речевого дефекта, нейропсихологического подхода и отражаются в речевой ка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DSC02551.JPG"/>
          <p:cNvPicPr/>
          <p:nvPr/>
        </p:nvPicPr>
        <p:blipFill>
          <a:blip r:embed="rId1"/>
          <a:stretch/>
        </p:blipFill>
        <p:spPr>
          <a:xfrm>
            <a:off x="2590920" y="38098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оррекционно-логопедическая деятельност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7617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. На логопункт принимаются дети, имеющие нарушения в произношении отдельных звуков (НПО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2. В случае выявления детей с тяжёлой речевой патологией, логопед направляет детей на ПМПК для зачисления в ДОУ, где функционируют логопедические группы. При отказе родителей от перевода ребёнка учитель-логопед не несёт ответственности за полное устранение деф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3. На логопункт зачисляются воспитанники ДОУ старшего дошкольного возраста, так как показателем работы учителя-логопеда является состояние звукопроизношения детей, выпускаемых в 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4. Количество детей, занимающихся на логопункте составляет 25 человек. В случае зачисления детей со сложными речевыми нарушениями количество детей уменьшается в соответствии с численными нормативами, установленными для зачисления детей в логопедические группы в соответствии с  постановлением Правительства РФ от 12.09.2008г. № 666 г.Москва «Об утверждении Типового положения о дошкольном образовательном учрежден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5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числение детей на коррекционные занятия производит сам логоп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6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Зачисление   и   выпуск   воспитанников   на   логопункте   осуществляется   на основе обследования речи дошкольников учителем-логопедом  с 1 – 15.09 и с 15 – 30.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7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новными формами организации работы с детьми, имеющими нарушения речи, на логопункте являются индивидуальные и подгрупповые занятия (в   соответствии с сеткой занятий специали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8.  Занятия с детьми на логопункте проводятся ежедневно как в часы, свободные от занятий в режиме дня, так и во время их проведения (учитель-логопед берёт детей с любых  занятий воспитател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9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ые, подгрупповые занятия для детей по коррекции звукопроизношения проводятся не реже 2-х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тование подгрупп производится с учётом характера, степени выраженности у детей речевых нару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и логопедической работы находятся в прямой зависимости от степени выраженности у детей речевых нарушений, их индивидуально-личностных особенностей, условий воспитания  в ДОУ и в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4568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о прекращении систематических занятий с ребёнком логопед принимает, руководствуясь степенью приближения уровня его речевого развития к возрастным норм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3. На занятиях используется коррекционно-логопедическая технология «Логопедический массаж», так как он представляет собой одну из логопедических техник, способствующих нормализации произносительной стороны речи и эмоционального состояния лиц, страдающих речевыми наруш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4. В младших группах  ДОУ проводится профилактическая работа: обследование предметно-развивающей среды и контроль по воспитанию звуковой культуры речи у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DSC02552.JPG"/>
          <p:cNvPicPr/>
          <p:nvPr/>
        </p:nvPicPr>
        <p:blipFill>
          <a:blip r:embed="rId1"/>
          <a:stretch/>
        </p:blipFill>
        <p:spPr>
          <a:xfrm>
            <a:off x="2971800" y="3733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ррекционно-развивающие сопровожд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1. В условиях логопункта проводятся логопедические занятия по коррекции звукопроизношения, наблюдается вариативность коррекционно-развивающей деятельности – проведение артикуляционной, дыхательной гимнастик, логопедического массажа, постановка звуков, обогащение словарного запаса, работа над грамматическим строем речи, развитие связной речи, применение здоровьесберегающих технологий, развитие психических процессов, фонематического восприятия, мелкой и общей мотор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2. Консультативно-просветительская 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едагогическим коллект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3. Консультативно-просветительская 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родител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DSC02707.JPG"/>
          <p:cNvPicPr/>
          <p:nvPr/>
        </p:nvPicPr>
        <p:blipFill>
          <a:blip r:embed="rId1"/>
          <a:stretch/>
        </p:blipFill>
        <p:spPr>
          <a:xfrm>
            <a:off x="6324480" y="342900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04T18:37:30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