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81F9F-F951-42E2-93D3-8366D6FE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D959-40E7-41E3-A068-6821BE48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47353-2205-43F6-A3B5-3FA3BCF8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A7C8-3E58-4382-ABAE-10842E49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21DC-2FEF-4E4E-8518-D88CD5D7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4957-3C1A-4933-BF6E-64600062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8438-14CB-4F81-9D37-B110BC9C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B75B-AA9D-4F05-AB51-6EE7FA6A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B755-3BC1-47E5-B844-184E9806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F7DF-9DE4-4A30-9390-FFBF21CA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3AB9-BC4C-400B-A9A7-DF55E843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3DCE-C50C-4B34-A366-0A561321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3E01-986C-4312-97BD-FCC9FFB7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A49A-8746-4153-A52E-4B1BF6CC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F70C-084F-4194-8D27-DA947EDE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999B-44ED-42E1-A5EC-DAEFCD6B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295F-27DF-43C3-9FE8-270B2DBC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B6CC-3770-4CFF-AAA4-465E0A5D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2D344-4F96-4752-8B2E-195C78D9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DB4E-27A2-44F4-AA71-5FE91E33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CAFB-F34B-4576-8248-15BD484D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5547A-E97C-4723-A6D0-4B264225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13E23-6CAF-49F8-9603-3C0A2CB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D689-2AA5-41D6-9925-7C2F0BFC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f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0480-ECFF-48E6-BECE-D5508F9F34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d1ff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d6e03"/>
                </a:gs>
                <a:gs pos="100000">
                  <a:srgbClr val="d1ff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d5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d6e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d5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d5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d541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d6e0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d541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d6e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f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d1ff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d6e03"/>
                </a:gs>
                <a:gs pos="100000">
                  <a:srgbClr val="d1ff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d5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d6e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d5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d54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d1ff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d6e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d5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d6e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d5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d6e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d5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d5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d541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d6e0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d541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d6e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D9B9-F141-47AF-B3A4-B39243CF81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9807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РТФОЛИО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828800" y="42667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читель-логопе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ботова Наталия Валентиновн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85800" y="380880"/>
            <a:ext cx="7924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«Детский сад  № 9 комбинированного вида» г.Сосногор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193920" y="6272280"/>
            <a:ext cx="236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Сосногорск , 201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6" descr="Герб.jpg"/>
          <p:cNvPicPr/>
          <p:nvPr/>
        </p:nvPicPr>
        <p:blipFill>
          <a:blip r:embed="rId1"/>
          <a:stretch/>
        </p:blipFill>
        <p:spPr>
          <a:xfrm>
            <a:off x="4267080" y="304920"/>
            <a:ext cx="68580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001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 Применение информационных компьютерных технологи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бразовательном процесс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1. В своей логопедической практике учитель-логопед активно использует информационные компьютерные технологии, которые позволяют оптимизировать педагогический процесс, индивидуализировать обучение детей и значительно повысить эффективность логопедического воздействия, так как они позволяют  привнести эффект наглядности в занятие, повысить мотивационную активность, способствуют более тесной взаимосвязи учителя-логопеда и детей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ециализированная компьютерная технолог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Игры для Тигры» (г.Пермь: ПОИПКР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ктронное издание «Дидактический материал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.С Руслановой по развитию лексико-грамматиче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я речи по темам  «Посуда», «Игрушки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дежда, обув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ктронные издания «Обучение грамоте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усский язык» В.П.Канакина, В.Г.Горец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удиозапиь динамических размин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есять мышек» Е.Железн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1" descr=""/>
          <p:cNvPicPr/>
          <p:nvPr/>
        </p:nvPicPr>
        <p:blipFill>
          <a:blip r:embed="rId1"/>
          <a:stretch/>
        </p:blipFill>
        <p:spPr>
          <a:xfrm>
            <a:off x="5791320" y="3057480"/>
            <a:ext cx="3047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2. Учитель-логопед Хоботова Н.В. создаёт практические пособия в программе PowerPoint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5235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«Артикуляционная гимнастик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«Коррекция звукопроизношения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«Лексические тем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298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Результативность коррекционно-логопедической работы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я-логопе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1.  Анализ результатов педагогической деятельности Хоботовой Н.В. показал, что дети, выпущенные из логопункта за период 2009 – 2012 гг. на  88 % с чистой речью, с улучшением в речи – 12 %.  Высокий уровень исправления звукопроизношения в условиях логопункта достигается учителем-логопедом благодаря индивидуализации и дифференциации педагогического воздействия, использованию на занятиях здоровьесберегающих технологий в сочетании с гуманно-личностным подходом, применения в работе современных образовательных технологий. Положительные результаты обучения достигаются и благодаря грамотному использованию в своей работе разнообразных методов, способов и приемов обучения, а также привлечение к коррекционной работе воспитателей и родителей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5" descr="DSC02554.JPG"/>
          <p:cNvPicPr/>
          <p:nvPr/>
        </p:nvPicPr>
        <p:blipFill>
          <a:blip r:embed="rId1"/>
          <a:stretch/>
        </p:blipFill>
        <p:spPr>
          <a:xfrm>
            <a:off x="2971800" y="41911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Методические работа учителя-логопед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1 Учитель-логопед обобщает и активно распространяет коррекционно-логопедический опыт через открытые занятия, мастер-классы, семинары на уровне дошкольного образовательного учреждения, а также на муниципальном городском и районном уровнях. Наталья Валентиновна проводит занятия на высоком профессиональном уровне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2. Имеются собственные методические разработ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овая игра для учителей-логопедов «Развитие речи в онтогенезе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пекты родительских собран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пекты заняти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ская программа «Коррекционно-развивающая работа логопеда с детьми с общим недоразвитием речи (от 5 до 7 лет)»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ская программа «Коррекция звукопроизношения у детей дошкольного возраст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лено положение «Об организации работы учителя-логопеда в условиях логопункта ДОУ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ументация для учителя-логоп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чевые кар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одическое пособие «Логопедический массаж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d6e03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Взаимодействие со специалист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1. Взаимодействие по вопросам преемственности со школой проходит через открытые занятия в ДОУ, открытые уроки в школах, беседы с учителями начальных клас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2. Взаимодействие с учреждениями здравоохранения: по результатам речевого обследования учитель-логопед направляет детей  на приём к невропатоло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3. Взаимодействие с учителями-логопедами города и района – открытые занятия в ДОУ, проведение семинаров-практикумов, деловых игр, школа «Молодого специали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3" descr="DSC01918.JPG"/>
          <p:cNvPicPr/>
          <p:nvPr/>
        </p:nvPicPr>
        <p:blipFill>
          <a:blip r:embed="rId1"/>
          <a:stretch/>
        </p:blipFill>
        <p:spPr>
          <a:xfrm>
            <a:off x="4419720" y="34290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7" descr="DSC01921.JPG"/>
          <p:cNvPicPr/>
          <p:nvPr/>
        </p:nvPicPr>
        <p:blipFill>
          <a:blip r:embed="rId2"/>
          <a:stretch/>
        </p:blipFill>
        <p:spPr>
          <a:xfrm>
            <a:off x="304920" y="373392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Коррекционно-развивающая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опедический кабинет оснащён методическими пособиями, дидактическими играми, литературой, папками-передвижками, информационным стен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DSC02313.JPG"/>
          <p:cNvPicPr/>
          <p:nvPr/>
        </p:nvPicPr>
        <p:blipFill>
          <a:blip r:embed="rId1"/>
          <a:stretch/>
        </p:blipFill>
        <p:spPr>
          <a:xfrm>
            <a:off x="1523880" y="220968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Профессиональные умения учителя-логопеда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9.1.  Результаты анкетирования воспит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езультатам анкеты все воспитатели оценили высокую степень выраженности профессиональных умений и навыков учителя-логопеда. Отметили профессионализм, мастерство, грамотность, работоспособность, высокий уровень исправления дефектов речи. В характеристике указали, что Наталия Валентиновна  коммуникабельная, инициативная, доброжелательная, справедливая,  отзывчивая, креативная и внимательная к детям, к родителям, к коллег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9.2. Результаты анкетирования родителей, отзыв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Очень довольны и благодарны за постановку речи, развитие мышления нашего ребёнка. Научился последовательно пересказывать рассказы, читать. У ребёнка только восторг от занятий с логопедом. Спасибо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Нравится индивидуальный подход к детям. Наталья Валентиновна внимательная, добрая, отзывчива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Логопе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 у кого сомнений н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 жизни важен логоп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 эти годы так трудилис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б дети наши научил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звуки чётко говори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пехов этих не забы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это вас благодар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руд ваш мы, конечно, чти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3" descr="DSC01919.JPG"/>
          <p:cNvPicPr/>
          <p:nvPr/>
        </p:nvPicPr>
        <p:blipFill>
          <a:blip r:embed="rId1"/>
          <a:stretch/>
        </p:blipFill>
        <p:spPr>
          <a:xfrm>
            <a:off x="4191120" y="3809880"/>
            <a:ext cx="38606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ботова Наталия Валентиновна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а рождения: 17 сентября 1974 г.</a:t>
            </a:r>
            <a:br>
              <a:rPr sz="1800"/>
            </a:b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91г. - Сосногорский межшкольный учебно-производственный комбинат, квалификация «Воспитатель детского сада»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92г.-1997г. - КГПИ, квалификация «Преподаватель дошкольной педагогики и психологии в педучилищ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одист по специальности «Дошкольная педагогика и психология»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997г. – КРИРОиПК, курсы повышения квалификации по тем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сихолого-педагогические основы коррекции речи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12.1997г. назначена на должность «Учитель-логопед»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0г.- 2002 г. – КРИРОиПК, квалификация «Учитель-логопед»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6.11.2001 г. присвое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валификационная категория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4" descr="DSC01497.JPG"/>
          <p:cNvPicPr/>
          <p:nvPr/>
        </p:nvPicPr>
        <p:blipFill>
          <a:blip r:embed="rId1"/>
          <a:stretch/>
        </p:blipFill>
        <p:spPr>
          <a:xfrm>
            <a:off x="6629400" y="3352680"/>
            <a:ext cx="23036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г. – АПКиПРО, курсы по теме «Инновационные формы работы с семьёй в ДОУ на современном этапе развития образования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11.2006г. присвоена высшая квалификационная категор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7 г.- КРИРОиПК, курсы по повышению квалификации по программ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Технология разработки рабочих учебных программ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9г. – КРИРОиПК, курсы по повышению квалификации по теме «Система коррекционно-развивающей работы логопеда ДОУ» по авторской программе Н.В. Нищевой (г.Санкт-Петербург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9г. назначена руководителем РМО учителей-логопедов г.Сосногорск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1 г. – индивидуальный предприниматель - открыла в городе центр речевого развития детей «Речецветик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4.11.2011г. присвоена высшая квалификационная категория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трудовой стаж – 21 год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ж в должности логопеда: 16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467120" y="2286000"/>
            <a:ext cx="1219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Логопед. Есть ли повод для гордости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Логопед. Есть ли повод для гордости?»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ут спросить меня некоторые, но ведь именно речь человека - основное средство выражения мыслей, характера, души. И развивая речь, мы развиваем личность. Не зря Л.С. Выготский писал, что «Развитие речи перестраивает мышление, переводит его в новые форм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порой даже не замечаем, какова роль Слова в нашей жизни. А ведь её и представить невозможно без звуков речи, она была бы такой тусклой! Смех детей, их весёлый лепет наполняет нас радостью. Слова и песни о любви дают силы жить. Стихи и проза возвышают и воспитывают. Лозунги и слоганы вдохновляют на новые достижения. Так пусть же эти слова звучат правильно и чётк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чь – царица всех наук, так считал мудрец Еврипид. Человек способен словом влиять на других, убеждать, спорить, производить впечатление, достигать успеха, управлять, получать удовольствие от спектакля или фильма, понимать юмор и шутить, создавать стихотворения, поэмы и песни и даже спасти Словом. Это ли не чуд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огоп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это волшебник, создающий то самое чуд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610120" y="1905120"/>
            <a:ext cx="1600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1143000" y="1905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-85680" algn="ctr">
              <a:spcBef>
                <a:spcPts val="451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иагностическое сопрово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онно-логопед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1. В детском саду функционируют 11 возрастных групп и 1 логопункт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2. Дети из старших и подготовительных к школе групп охвачены диагностическими процедурами по развитию реч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3. Результаты диагностики используются при проведении коррекционно-логопедической работы – составление индивидуальных планов с учётом речевого дефекта, нейропсихологического подхода и отражаются в речевой кар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DSC02551.JPG"/>
          <p:cNvPicPr/>
          <p:nvPr/>
        </p:nvPicPr>
        <p:blipFill>
          <a:blip r:embed="rId1"/>
          <a:stretch/>
        </p:blipFill>
        <p:spPr>
          <a:xfrm>
            <a:off x="2590920" y="38098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Коррекционно-логопедическая деятельность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9480" y="7617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1. На логопункт принимаются дети, имеющие нарушения в произношении отдельных звуков (НПОЗ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2. В случае выявления детей с тяжёлой речевой патологией, логопед направляет детей на ПМПК для зачисления в ДОУ, где функционируют логопедические группы. При отказе родителей от перевода ребёнка учитель-логопед не несёт ответственности за полное устранение деф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3. На логопункт зачисляются воспитанники ДОУ старшего дошкольного возраста, так как показателем работы учителя-логопеда является состояние звукопроизношения детей, выпускаемых в шко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4. Количество детей, занимающихся на логопункте составляет 25 человек. В случае зачисления детей со сложными речевыми нарушениями количество детей уменьшается в соответствии с численными нормативами, установленными для зачисления детей в логопедические группы в соответствии с  постановлением Правительства РФ от 12.09.2008г. № 666 г.Москва «Об утверждении Типового положения о дошкольном образовательном учрежден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5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Зачисление детей на коррекционные занятия производит сам логоп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282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6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Зачисление   и   выпуск   воспитанников   на   логопункте   осуществляется   на основе обследования речи дошкольников учителем-логопедом  с 1 – 15.09 и с 15 – 30.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7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сновными формами организации работы с детьми, имеющими нарушения речи, на логопункте являются индивидуальные и подгрупповые занятия (в   соответствии с сеткой занятий специалис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8.  Занятия с детьми на логопункте проводятся ежедневно как в часы, свободные от занятий в режиме дня, так и во время их проведения (учитель-логопед берёт детей с любых  занятий воспитател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9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дивидуальные, подгрупповые занятия для детей по коррекции звукопроизношения проводятся не реже 2-х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1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тование подгрупп производится с учётом характера, степени выраженности у детей речевых нару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11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и логопедической работы находятся в прямой зависимости от степени выраженности у детей речевых нарушений, их индивидуально-личностных особенностей, условий воспитания  в ДОУ и в сем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45684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1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о прекращении систематических занятий с ребёнком логопед принимает, руководствуясь степенью приближения уровня его речевого развития к возрастным норм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13. На занятиях используется коррекционно-логопедическая технология «Логопедический массаж», так как он представляет собой одну из логопедических техник, способствующих нормализации произносительной стороны речи и эмоционального состояния лиц, страдающих речевыми нарушен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14. В младших группах  ДОУ проводится профилактическая работа: обследование предметно-развивающей среды и контроль по воспитанию звуковой культуры речи у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3" descr="DSC02552.JPG"/>
          <p:cNvPicPr/>
          <p:nvPr/>
        </p:nvPicPr>
        <p:blipFill>
          <a:blip r:embed="rId1"/>
          <a:stretch/>
        </p:blipFill>
        <p:spPr>
          <a:xfrm>
            <a:off x="2971800" y="37339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ррекционно-развивающие сопровожден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ого процесс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1. В условиях логопункта проводятся логопедические занятия по коррекции звукопроизношения, наблюдается вариативность коррекционно-развивающей деятельности – проведение артикуляционной, дыхательной гимнастик, логопедического массажа, постановка звуков, обогащение словарного запаса, работа над грамматическим строем речи, развитие связной речи, применение здоровьесберегающих технологий, развитие психических процессов, фонематического восприятия, мелкой и общей мотор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2. Консультативно-просветительская 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педагогическим коллекти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d6e0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3. Консультативно-просветительская 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родител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3" descr="DSC02707.JPG"/>
          <p:cNvPicPr/>
          <p:nvPr/>
        </p:nvPicPr>
        <p:blipFill>
          <a:blip r:embed="rId1"/>
          <a:stretch/>
        </p:blipFill>
        <p:spPr>
          <a:xfrm>
            <a:off x="6324480" y="3429000"/>
            <a:ext cx="2000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5-04T18:37:30Z</dcterms:modified>
  <cp:revision>1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