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3BE2-1570-406E-A078-AA7E8A3AB0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7955-4779-4D29-A4A3-F75C9D4CDF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E4EB-A58A-449D-8858-24A76B77B5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D32-6F55-4097-B0FA-8C5317F51F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7F06-9F04-4815-B544-05B8F8FE26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EE1A-4C48-439B-9307-7B59DE174B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1791-4EE1-43AA-8D0D-96B7AC0FD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03E-427A-41FB-9ADD-F44FF7C02B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2F2-7057-472B-82FA-BD223AEE2EB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0714-E432-4AEA-814C-95D07D9A92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7BC-3BE5-4554-B30C-41DD0D4272E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7E9-20F6-48BE-A569-C0013D64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E0CC-6D07-46BB-B2DE-D589015D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B5E8-A7BC-4A8E-BF9E-9F2E8554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26C-882C-4025-B2F4-B5D56F6E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D949-09FE-41A5-BFCA-36011E50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EF03-EB30-40C8-ACC5-4113C3C1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7DE7-F083-41C0-8187-6D334DF5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2798-86E3-4DF8-B1C6-9A47DDD2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4A4D4-F776-4F03-B450-225FD06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7D457-92E8-4B22-AAA3-709F5538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1866-53E3-4F76-8FA0-4BE3F148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E88-C425-4F2D-BA11-4D692C53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5A57D-1693-4150-9FE5-D920608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D53D5-FA9C-40D1-A532-C6EAECF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CA35D-9A41-4BB5-9B8F-8A8B5ED0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CF80C-BF77-4603-A3FC-72B7FBAE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55103-427D-4EE7-82E3-EC576C2A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9A3-0FFA-4675-8F6D-EA4304B1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F1F-A468-4A0C-B7D7-7FD082B7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05B-E6E4-4058-902E-517FA3BA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B0A-06DD-4F75-A3B9-7F359B85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518-13C6-439C-AF4D-A5945C2F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C95-9D9F-42E8-AFEF-69E72DC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342-585B-4B97-A8BE-3198CCE1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E47-6C27-41E3-9FCE-1135BA464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9E14-2DA5-4325-A726-EC0F83C882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зображение 138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333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Движение      воды   в   океан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словарь терминов по теме «Движение воды в океа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90792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55640" y="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Изображение 1334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260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5400" spc="-1" strike="noStrike">
                <a:solidFill>
                  <a:srgbClr val="00c600"/>
                </a:solidFill>
                <a:latin typeface="Times New Roman"/>
              </a:rPr>
              <a:t>Строение  вол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Ветровые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3" descr="рис.4.jpg"/>
          <p:cNvPicPr/>
          <p:nvPr/>
        </p:nvPicPr>
        <p:blipFill>
          <a:blip r:embed="rId1"/>
          <a:stretch/>
        </p:blipFill>
        <p:spPr>
          <a:xfrm>
            <a:off x="193680" y="242892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4" descr="рис.5.jpg"/>
          <p:cNvPicPr/>
          <p:nvPr/>
        </p:nvPicPr>
        <p:blipFill>
          <a:blip r:embed="rId2"/>
          <a:stretch/>
        </p:blipFill>
        <p:spPr>
          <a:xfrm>
            <a:off x="4929120" y="2346480"/>
            <a:ext cx="3757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95280" y="765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Океанические теч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4000" y="2133720"/>
            <a:ext cx="2735280" cy="503280"/>
          </a:xfrm>
          <a:prstGeom prst="rightArrow">
            <a:avLst>
              <a:gd name="adj1" fmla="val 50000"/>
              <a:gd name="adj2" fmla="val 135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92360" y="1989000"/>
            <a:ext cx="2303640" cy="503280"/>
          </a:xfrm>
          <a:prstGeom prst="rightArrow">
            <a:avLst>
              <a:gd name="adj1" fmla="val 50000"/>
              <a:gd name="adj2" fmla="val 1144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84360" y="3933720"/>
            <a:ext cx="3313080" cy="574920"/>
          </a:xfrm>
          <a:prstGeom prst="rightArrow">
            <a:avLst>
              <a:gd name="adj1" fmla="val 38806"/>
              <a:gd name="adj2" fmla="val 1543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572000" y="3789360"/>
            <a:ext cx="2305080" cy="503280"/>
          </a:xfrm>
          <a:prstGeom prst="rightArrow">
            <a:avLst>
              <a:gd name="adj1" fmla="val 50000"/>
              <a:gd name="adj2" fmla="val 11450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7080" y="19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020000" y="378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ло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«Географические исследован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работы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лив и отл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1"/>
          <a:stretch/>
        </p:blipFill>
        <p:spPr>
          <a:xfrm>
            <a:off x="4929120" y="1857240"/>
            <a:ext cx="400068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рис.6.jpg"/>
          <p:cNvPicPr/>
          <p:nvPr/>
        </p:nvPicPr>
        <p:blipFill>
          <a:blip r:embed="rId2"/>
          <a:stretch/>
        </p:blipFill>
        <p:spPr>
          <a:xfrm>
            <a:off x="214200" y="1857240"/>
            <a:ext cx="42800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964720" cy="5815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26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роверим опорный конспек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5-04T10:46:50Z</dcterms:modified>
  <cp:revision>8</cp:revision>
  <dc:subject/>
  <dc:title>PowerPoint Presentation</dc:title>
</cp:coreProperties>
</file>