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B6F1-36A1-459B-90D3-8A5FA55536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70D1-2439-4654-A2AD-7A3B61D317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7B02-699F-4802-89BF-082E04C365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7CAF-8355-432E-AC3B-1DD0C99357B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6955-EC62-470F-895C-DF0B01827C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CAA9-8ED1-4BE8-B766-E0B2B8F325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EF09-2BD6-4DFB-ACAC-7858528F3E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E7BD-9B5E-4CDF-AF60-900602CDB9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5B04-AB6F-4331-86F4-215A8CF7C7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E48A-5C97-4822-9B78-39A338EF4CD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A3C2-89E4-4434-A5CB-628B7EAA71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7A5-C4F9-4792-B625-D2AA3B76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A5E-F847-4AE1-8BB6-528DCA59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0F2-5561-4C9E-A08F-D4D2566E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000-F46C-4F47-89A5-D99447E2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67DC4-2F7C-42A5-B9FC-F3B62DA4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F0445-34FF-43AA-B3B7-BD414DE4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4D73B-2F34-455C-B9D0-8EC5EE59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54DB4-6D87-4E94-A092-B87240AF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407C6-E25E-4BAA-A3EA-18CC83A5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BBFF6-8D81-4550-A52C-25F55D8D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3DE52-4F15-4C02-B1CB-5E85AEBD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D24-7C18-47C0-A650-254FC83A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A7C76-7F26-4BF0-A9AF-CADA8708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13D7C-A288-44B1-96AF-EA11C51A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7FD10-5F49-4B1B-8012-4B197E15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82D80-919D-432A-BE76-1E5E95BE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2844E-61DE-4C2C-B793-7CA72EEA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BB7-777B-4D4A-BC5A-C8B02770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9A7-9380-4799-94CD-9E337F61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CE0-0FD2-4052-BBC3-5DBFFD7D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6E3-023D-4E99-9639-5CD64A9B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84D-A4E2-4D2D-A688-6C390020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16C-4CAD-49B2-ADFC-80ED4EBB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345-F9F8-445E-B847-55A2D9E7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98FB-A6C8-475E-97A9-28CF7C3489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5159-D40C-42BF-BA9F-19A2E559D2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Изображение 1380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0" y="333360"/>
            <a:ext cx="86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4800" spc="-1" strike="noStrike">
                <a:solidFill>
                  <a:srgbClr val="000099"/>
                </a:solidFill>
                <a:latin typeface="Monotype Corsiva"/>
              </a:rPr>
              <a:t>Движение      воды   в   океан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ить словарь терминов по теме «Движение воды в океан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00000" y="90792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755640" y="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Опорный конспек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Изображение 1334"/>
          <p:cNvPicPr/>
          <p:nvPr/>
        </p:nvPicPr>
        <p:blipFill>
          <a:blip r:embed="rId1"/>
          <a:stretch/>
        </p:blipFill>
        <p:spPr>
          <a:xfrm>
            <a:off x="324000" y="260280"/>
            <a:ext cx="84978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71640" y="26028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5400" spc="-1" strike="noStrike">
                <a:solidFill>
                  <a:srgbClr val="00c600"/>
                </a:solidFill>
                <a:latin typeface="Times New Roman"/>
              </a:rPr>
              <a:t>Строение  волн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Ветровые вол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Содержимое 13" descr="рис.4.jpg"/>
          <p:cNvPicPr/>
          <p:nvPr/>
        </p:nvPicPr>
        <p:blipFill>
          <a:blip r:embed="rId1"/>
          <a:stretch/>
        </p:blipFill>
        <p:spPr>
          <a:xfrm>
            <a:off x="193680" y="2428920"/>
            <a:ext cx="4253040" cy="285732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14" descr="рис.5.jpg"/>
          <p:cNvPicPr/>
          <p:nvPr/>
        </p:nvPicPr>
        <p:blipFill>
          <a:blip r:embed="rId2"/>
          <a:stretch/>
        </p:blipFill>
        <p:spPr>
          <a:xfrm>
            <a:off x="4929120" y="2346480"/>
            <a:ext cx="37576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95280" y="7650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Океанические теч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24000" y="2133720"/>
            <a:ext cx="2735280" cy="503280"/>
          </a:xfrm>
          <a:prstGeom prst="rightArrow">
            <a:avLst>
              <a:gd name="adj1" fmla="val 50000"/>
              <a:gd name="adj2" fmla="val 13587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3492360" y="1989000"/>
            <a:ext cx="2303640" cy="503280"/>
          </a:xfrm>
          <a:prstGeom prst="rightArrow">
            <a:avLst>
              <a:gd name="adj1" fmla="val 50000"/>
              <a:gd name="adj2" fmla="val 11443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684360" y="3933720"/>
            <a:ext cx="3313080" cy="574920"/>
          </a:xfrm>
          <a:prstGeom prst="rightArrow">
            <a:avLst>
              <a:gd name="adj1" fmla="val 38806"/>
              <a:gd name="adj2" fmla="val 15436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4572000" y="3789360"/>
            <a:ext cx="2305080" cy="503280"/>
          </a:xfrm>
          <a:prstGeom prst="rightArrow">
            <a:avLst>
              <a:gd name="adj1" fmla="val 50000"/>
              <a:gd name="adj2" fmla="val 11450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77080" y="1989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7020000" y="37893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олод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«Географические исследовани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 в групп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оги работы в групп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Прилив и отли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8" descr="3"/>
          <p:cNvPicPr/>
          <p:nvPr/>
        </p:nvPicPr>
        <p:blipFill>
          <a:blip r:embed="rId1"/>
          <a:stretch/>
        </p:blipFill>
        <p:spPr>
          <a:xfrm>
            <a:off x="4929120" y="1857240"/>
            <a:ext cx="4000680" cy="3970440"/>
          </a:xfrm>
          <a:prstGeom prst="rect">
            <a:avLst/>
          </a:prstGeom>
          <a:ln w="0">
            <a:noFill/>
          </a:ln>
        </p:spPr>
      </p:pic>
      <p:pic>
        <p:nvPicPr>
          <p:cNvPr id="112" name="Содержимое 7" descr="рис.6.jpg"/>
          <p:cNvPicPr/>
          <p:nvPr/>
        </p:nvPicPr>
        <p:blipFill>
          <a:blip r:embed="rId2"/>
          <a:stretch/>
        </p:blipFill>
        <p:spPr>
          <a:xfrm>
            <a:off x="214200" y="1857240"/>
            <a:ext cx="4280040" cy="3929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8964720" cy="5815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826920" y="40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Проверим опорный конспект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3-05-04T10:46:50Z</dcterms:modified>
  <cp:revision>8</cp:revision>
  <dc:subject/>
  <dc:title>PowerPoint Presentation</dc:title>
</cp:coreProperties>
</file>