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A6D6-5139-4E92-8D05-BBB4C5A1C7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A198-EE01-41A2-859D-63D03862798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6537-F380-4E35-8A55-990ABA89E4A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3A5E-086F-4B68-A899-854B6812A26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E997-049D-4ED2-9C13-0847FDB5B9B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43F7-5F65-4218-9696-E50DC3B5FC7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85C1-602F-43AB-89AF-787AE079DCB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4E13-A2E4-48E5-A791-77795737A1D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C659-9EF2-44E6-A6CD-43B9731FCE2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3F0B-4E4E-4339-ACDE-04C9613A325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07D4-1431-4C60-BFDB-86E65A3B755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AE6D-39DB-484C-AC87-64EC1D8D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44CF-8239-43A1-9A56-FE811B15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C6C6-0EC0-4784-AAA1-81AF7366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7884-2AD5-4827-A57F-5FA72163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B5940-D080-4411-BBB1-A941088C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02704-4BD5-4998-BEB8-25AB0FE4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87ED3-3F8A-4618-8D3A-DDCC857E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F7052-B3D4-48F8-A7D8-5BAFBC69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44184-076C-4281-B1B7-EC6B4F5C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5D400-A5F4-437A-8C88-A73173D6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24194-3A33-4DF7-B4FA-F38EA77D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6AD3-D9DE-4803-84C6-005FF031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D44B8-02EF-47D0-83A7-9966915B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E0018-FD7B-47F0-BFB5-0097AC8C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D06B7-1F3F-443C-8D29-DCC91792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FD58A-69B0-4D04-B91E-B77F2C61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12162-EC96-449B-B3FC-8BE605A7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6E3C-36D1-48BD-972C-09C681C3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FB8-E149-4589-AFCC-E5626683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92C8-8371-4CEC-93F0-5DD29B23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7091-E6A2-41A5-B332-8E22E1B7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8E3D-30A0-4E2C-BAD9-9B6140E4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8993-4C2A-4E8C-84E8-185A2276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D3EE-4C34-4266-8B60-180F85B6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1AD0-C234-410C-91B6-90AFD47A12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AD25-6E53-4CF8-843C-61439C072D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Изображение 1380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0" y="333360"/>
            <a:ext cx="86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ru-RU" sz="4800" spc="-1" strike="noStrike">
                <a:solidFill>
                  <a:srgbClr val="000099"/>
                </a:solidFill>
                <a:latin typeface="Monotype Corsiva"/>
              </a:rPr>
              <a:t>Движение      воды   в   океан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ить словарь терминов по теме «Движение воды в океане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900000" y="90792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755640" y="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Опорный конспек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Изображение 1334"/>
          <p:cNvPicPr/>
          <p:nvPr/>
        </p:nvPicPr>
        <p:blipFill>
          <a:blip r:embed="rId1"/>
          <a:stretch/>
        </p:blipFill>
        <p:spPr>
          <a:xfrm>
            <a:off x="324000" y="260280"/>
            <a:ext cx="849780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971640" y="26028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ru-RU" sz="5400" spc="-1" strike="noStrike">
                <a:solidFill>
                  <a:srgbClr val="00c600"/>
                </a:solidFill>
                <a:latin typeface="Times New Roman"/>
              </a:rPr>
              <a:t>Строение  волны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Ветровые вол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Содержимое 13" descr="рис.4.jpg"/>
          <p:cNvPicPr/>
          <p:nvPr/>
        </p:nvPicPr>
        <p:blipFill>
          <a:blip r:embed="rId1"/>
          <a:stretch/>
        </p:blipFill>
        <p:spPr>
          <a:xfrm>
            <a:off x="193680" y="2428920"/>
            <a:ext cx="4253040" cy="285732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14" descr="рис.5.jpg"/>
          <p:cNvPicPr/>
          <p:nvPr/>
        </p:nvPicPr>
        <p:blipFill>
          <a:blip r:embed="rId2"/>
          <a:stretch/>
        </p:blipFill>
        <p:spPr>
          <a:xfrm>
            <a:off x="4929120" y="2346480"/>
            <a:ext cx="375768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95280" y="76500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Океанические теч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324000" y="2133720"/>
            <a:ext cx="2735280" cy="503280"/>
          </a:xfrm>
          <a:prstGeom prst="rightArrow">
            <a:avLst>
              <a:gd name="adj1" fmla="val 50000"/>
              <a:gd name="adj2" fmla="val 13587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3492360" y="1989000"/>
            <a:ext cx="2303640" cy="503280"/>
          </a:xfrm>
          <a:prstGeom prst="rightArrow">
            <a:avLst>
              <a:gd name="adj1" fmla="val 50000"/>
              <a:gd name="adj2" fmla="val 114431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684360" y="3933720"/>
            <a:ext cx="3313080" cy="574920"/>
          </a:xfrm>
          <a:prstGeom prst="rightArrow">
            <a:avLst>
              <a:gd name="adj1" fmla="val 38806"/>
              <a:gd name="adj2" fmla="val 15436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4572000" y="3789360"/>
            <a:ext cx="2305080" cy="503280"/>
          </a:xfrm>
          <a:prstGeom prst="rightArrow">
            <a:avLst>
              <a:gd name="adj1" fmla="val 50000"/>
              <a:gd name="adj2" fmla="val 11450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6877080" y="1989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пл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7020000" y="378936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холод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«Географические исследования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та в групп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тоги работы в групп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ru-RU" sz="4400" spc="-1" strike="noStrike">
                <a:solidFill>
                  <a:srgbClr val="ffff00"/>
                </a:solidFill>
                <a:latin typeface="Tahoma"/>
              </a:rPr>
              <a:t>Прилив и отли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8" descr="3"/>
          <p:cNvPicPr/>
          <p:nvPr/>
        </p:nvPicPr>
        <p:blipFill>
          <a:blip r:embed="rId1"/>
          <a:stretch/>
        </p:blipFill>
        <p:spPr>
          <a:xfrm>
            <a:off x="4929120" y="1857240"/>
            <a:ext cx="4000680" cy="3970440"/>
          </a:xfrm>
          <a:prstGeom prst="rect">
            <a:avLst/>
          </a:prstGeom>
          <a:ln w="0">
            <a:noFill/>
          </a:ln>
        </p:spPr>
      </p:pic>
      <p:pic>
        <p:nvPicPr>
          <p:cNvPr id="112" name="Содержимое 7" descr="рис.6.jpg"/>
          <p:cNvPicPr/>
          <p:nvPr/>
        </p:nvPicPr>
        <p:blipFill>
          <a:blip r:embed="rId2"/>
          <a:stretch/>
        </p:blipFill>
        <p:spPr>
          <a:xfrm>
            <a:off x="214200" y="1857240"/>
            <a:ext cx="4280040" cy="3929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907920"/>
            <a:ext cx="8964720" cy="5815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826920" y="40464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Проверим опорный конспект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3-05-04T10:46:50Z</dcterms:modified>
  <cp:revision>8</cp:revision>
  <dc:subject/>
  <dc:title>PowerPoint Presentation</dc:title>
</cp:coreProperties>
</file>