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309-727C-4802-8D54-34E181E02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F6BD-DBAE-45F3-BC2F-D2300EA13C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BD5-4832-4E6B-A0D6-34FF5EDE08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D34-228F-49FE-BA94-97CC73631A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06F-2E83-4EC7-BD05-05BCDF9608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8E4-F017-4967-B312-35C90361EA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F78-A067-4994-A85C-3D4E6B31D6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8000-042E-4E24-8CB8-0C6E7981F3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6D2-168F-44CE-939A-3DE1B09270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95AE-FAA7-4387-8BE5-C891EBA92D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6B5C-D094-4004-A75D-29119B5C5D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63E-9AA6-4240-BFAA-55ADA1BC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E76-DEDC-4597-8C77-B142ECC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F48-5CA2-400C-B5F8-CBA8DE4D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7D-249F-401B-A7EC-5B7C1AEE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EF43-AED6-4A15-8407-DDC4F19F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83D2-09B8-4F15-A5FA-B9145D31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9C115-9830-45BD-9CD7-98D4F4B3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E6B62-E802-4835-AD4C-4FFDE19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A75A-4D77-495A-B2E2-B715083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1FB45-B9AB-485A-8757-0CC5696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A4FB8-59EE-44EF-AADA-CED1149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D93-44F3-4238-B083-BFCDD68D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D268-FE97-4007-AF25-24DD925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1B5B7-1F7C-488F-BFD3-673266B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5EBD6-6929-4FA6-AF6E-F8E25E2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6533D-E48B-4247-AAE8-28A65F01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ECA9-0C7A-4918-8DB3-DB78EFB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0DB-C88B-458D-AFA4-B5CA3E49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992-EC14-49B1-9AB9-5DF676F2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CD2-AE3F-40E3-BF84-DA94780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DC3-4C82-4CF9-A64D-6ABC46D2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EDE-2E02-482D-84B7-5D32D85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2C9-0BC1-4141-A352-AC4E2B31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9BF-A676-4687-B29F-3BFF647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A1B5-A585-434D-9D34-346C73711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0AA-72A3-4BDE-95BB-F3CEBB47FB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зображение 138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333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Движение      воды   в   океан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словарь терминов по теме «Движение воды в океа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90792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55640" y="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Изображение 1334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260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5400" spc="-1" strike="noStrike">
                <a:solidFill>
                  <a:srgbClr val="00c600"/>
                </a:solidFill>
                <a:latin typeface="Times New Roman"/>
              </a:rPr>
              <a:t>Строение  вол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Ветровые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3" descr="рис.4.jpg"/>
          <p:cNvPicPr/>
          <p:nvPr/>
        </p:nvPicPr>
        <p:blipFill>
          <a:blip r:embed="rId1"/>
          <a:stretch/>
        </p:blipFill>
        <p:spPr>
          <a:xfrm>
            <a:off x="193680" y="242892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4" descr="рис.5.jpg"/>
          <p:cNvPicPr/>
          <p:nvPr/>
        </p:nvPicPr>
        <p:blipFill>
          <a:blip r:embed="rId2"/>
          <a:stretch/>
        </p:blipFill>
        <p:spPr>
          <a:xfrm>
            <a:off x="4929120" y="2346480"/>
            <a:ext cx="3757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95280" y="765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Океанические теч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4000" y="2133720"/>
            <a:ext cx="2735280" cy="503280"/>
          </a:xfrm>
          <a:prstGeom prst="rightArrow">
            <a:avLst>
              <a:gd name="adj1" fmla="val 50000"/>
              <a:gd name="adj2" fmla="val 135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92360" y="1989000"/>
            <a:ext cx="2303640" cy="503280"/>
          </a:xfrm>
          <a:prstGeom prst="rightArrow">
            <a:avLst>
              <a:gd name="adj1" fmla="val 50000"/>
              <a:gd name="adj2" fmla="val 1144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84360" y="3933720"/>
            <a:ext cx="3313080" cy="574920"/>
          </a:xfrm>
          <a:prstGeom prst="rightArrow">
            <a:avLst>
              <a:gd name="adj1" fmla="val 38806"/>
              <a:gd name="adj2" fmla="val 1543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572000" y="3789360"/>
            <a:ext cx="2305080" cy="503280"/>
          </a:xfrm>
          <a:prstGeom prst="rightArrow">
            <a:avLst>
              <a:gd name="adj1" fmla="val 50000"/>
              <a:gd name="adj2" fmla="val 11450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7080" y="19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020000" y="378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ло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«Географические исследован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работы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лив и отл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1"/>
          <a:stretch/>
        </p:blipFill>
        <p:spPr>
          <a:xfrm>
            <a:off x="4929120" y="1857240"/>
            <a:ext cx="400068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рис.6.jpg"/>
          <p:cNvPicPr/>
          <p:nvPr/>
        </p:nvPicPr>
        <p:blipFill>
          <a:blip r:embed="rId2"/>
          <a:stretch/>
        </p:blipFill>
        <p:spPr>
          <a:xfrm>
            <a:off x="214200" y="1857240"/>
            <a:ext cx="42800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964720" cy="5815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26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роверим опорный конспек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5-04T10:46:50Z</dcterms:modified>
  <cp:revision>8</cp:revision>
  <dc:subject/>
  <dc:title>PowerPoint Presentation</dc:title>
</cp:coreProperties>
</file>