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B46-2CC7-4A87-8930-6DBE975D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AC7-4E2A-45A0-AA40-2B676995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49D-D68A-4786-9C69-896A0020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01C-73FF-44C7-AAE5-3DFCD7FD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D13-EDCA-4621-A410-01E03FD6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4E3-1B5D-4BEE-84E2-27C4827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01C-97A0-4241-B887-5946959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2E6-F591-4631-9ECC-A926046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6AA-17CE-4328-9BFD-06676BF6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45E-7EDE-4836-92DA-F5DE117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524-4A91-4DAF-871F-167C2B9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14F-5106-4804-9AD7-3E8353A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0A261-E373-4361-B09F-D9530B1D04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кройте ско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360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) 2(a+b+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) -4(-a-b+c-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) -4+(-a-b+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) -7(-a-b-c-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) 9-(-a+b-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) 6+(-a-b+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) (y-7)(y+2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) (x+10)(x-1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3) (c-6)(c-9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) (b+3)(b+4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ост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56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-16ab+59m+76ab-37m+34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23xy-15x+37xy-19xy-9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) (3x-7xy+5y)+(4x+5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) (4x+7xy-2y)-(7x-4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) (5x-8xy-2y)-(4x+5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) (4x+7xy-2y)+(7x-4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99640" cy="899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720720"/>
            <a:ext cx="496728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Решит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)0,4x+0,3x-0,84x=1,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m-(6n-5m)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-2n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360" y="720720"/>
            <a:ext cx="485928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Решит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)0,7x-0,4x-0,98x=12,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k-(3k-8p),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+4p=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6200" y="2519280"/>
            <a:ext cx="430380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00720" y="2340000"/>
            <a:ext cx="43196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2:11:58Z</dcterms:created>
  <dc:creator/>
  <dc:description/>
  <dc:language>en-US</dc:language>
  <cp:lastModifiedBy/>
  <cp:revision>1</cp:revision>
  <dc:subject/>
  <dc:title/>
</cp:coreProperties>
</file>