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FA7-D6B4-4535-BE4C-168C0267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682D-2D97-43EF-AA06-EAF9A0AF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2E7-2128-4BFA-817D-CFDDBE7A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A6A-374B-4991-8649-2AFD5AA0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875-FA94-4C7E-A613-7E45470D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881-BB63-4029-B28F-FD19B846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37D-8794-459D-883A-EFA6C89C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4A6-4AF1-4E4A-A77E-7F6D8A14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5E0-6F0F-435A-A273-88E8FB2F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EDD-9747-4968-9321-33D95D1C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B45-FB92-45F9-8752-21244344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784-A4F8-4878-AEC5-AC89BD58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FC0DC-2C94-4C37-AC4C-41511DE332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кройте скоб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360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) 2(a+b+c+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) -4(-a-b+c-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) -4+(-a-b+c+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4) -7(-a-b-c-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) 9-(-a+b-c+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6) 6+(-a-b+c+d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ите урав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) (y-7)(y+2)=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) (x+10)(x-1)=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3) (c-6)(c-9)=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) (b+3)(b+4)=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60000" cy="755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ости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567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) -16ab+59m+76ab-37m+34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) 23xy-15x+37xy-19xy-9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) (3x-7xy+5y)+(4x+5xy-3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) (4x+7xy-2y)-(7x-4xy-3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) (5x-8xy-2y)-(4x+5xy-3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) (4x+7xy-2y)+(7x-4xy-3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799640" cy="899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179280"/>
            <a:ext cx="907092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720720"/>
            <a:ext cx="4967280" cy="6840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Решите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)0,4x+0,3x-0,84x=1,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Найдите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m-(6n-5m), 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-2n=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0360" y="720720"/>
            <a:ext cx="4859280" cy="6840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Решите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)0,7x-0,4x-0,98x=12,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Найдите значение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k-(3k-8p),ес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k+4p=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6200" y="2519280"/>
            <a:ext cx="4303800" cy="14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400720" y="2340000"/>
            <a:ext cx="4319640" cy="16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2:11:58Z</dcterms:created>
  <dc:creator/>
  <dc:description/>
  <dc:language>en-US</dc:language>
  <cp:lastModifiedBy/>
  <cp:revision>1</cp:revision>
  <dc:subject/>
  <dc:title/>
</cp:coreProperties>
</file>