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A47D-BB36-45A6-943C-C8262DB5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688E-148A-4E48-9295-00EA33C1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1B62-9275-4C25-9F8C-D130A68B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D8A-E543-4707-8449-A560993F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6C7B-062C-48B2-B80D-E798EC51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6190-AFDC-46FA-90C6-A8A97B49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2915-427B-4E21-B517-789628AA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CB72-57C7-431E-8DAE-FDE465D9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D73F-F4D6-4952-B958-26E88C5C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F888-194C-4C6B-8C93-DC2A86D0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BB53-135A-4310-857D-A5E9EDDE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5D2-171B-48B8-B9E4-D503BDC4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7707E-09F2-4C9D-A7C3-27758AD048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19692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420e"/>
                </a:solidFill>
                <a:latin typeface="Arial"/>
              </a:rPr>
              <a:t>Поделки учащих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420e"/>
                </a:solidFill>
                <a:latin typeface="Arial"/>
              </a:rPr>
              <a:t>2 В клас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 международному женскому дню 8 мар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0280" y="-1634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линина Ма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6360" y="863640"/>
            <a:ext cx="899928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31640" y="431640"/>
            <a:ext cx="9144000" cy="669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6000" y="-216000"/>
            <a:ext cx="9070920" cy="1563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ксимова Алё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6360" y="936720"/>
            <a:ext cx="907236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-287280"/>
            <a:ext cx="907092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ксимова Алё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4720" y="1152360"/>
            <a:ext cx="90709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9:44:49Z</dcterms:created>
  <dc:creator/>
  <dc:description/>
  <dc:language>en-US</dc:language>
  <cp:lastModifiedBy/>
  <dcterms:modified xsi:type="dcterms:W3CDTF">2013-03-06T19:56:52Z</dcterms:modified>
  <cp:revision>2</cp:revision>
  <dc:subject/>
  <dc:title/>
</cp:coreProperties>
</file>