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E96-AE75-429C-A1B4-3F688E4B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17A-FC0D-4E19-BB50-9947A807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C05C-259D-4EBB-840D-5043FCE9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F7C-76A9-4FD1-8D4B-1117F9BB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6EE-AC65-4120-94B8-8E374CF7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345A-8487-477F-8DA4-4A7449BF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247-FDE9-41F9-8FB8-9178B7FD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206-3703-4701-BFDC-F3BDDA3A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721-61AC-4CCA-9B2C-9699930C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3C4-5167-486E-AB22-96D9AF51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A35-4EFA-4D34-9C86-B628D064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68A-009D-405C-BCE3-6FF6CF9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33005-C7ED-4D51-BF9E-DE6B7C4D2B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19692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420e"/>
                </a:solidFill>
                <a:latin typeface="Arial"/>
              </a:rPr>
              <a:t>Поделки учащих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420e"/>
                </a:solidFill>
                <a:latin typeface="Arial"/>
              </a:rPr>
              <a:t>2 В класс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 международному женскому дню 8 мар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0280" y="-163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линина Ма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6360" y="863640"/>
            <a:ext cx="89992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1640" y="431640"/>
            <a:ext cx="9144000" cy="669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-216000"/>
            <a:ext cx="907092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ксимова Алё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6360" y="936720"/>
            <a:ext cx="907236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-287280"/>
            <a:ext cx="907092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ксимова Алё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4720" y="1152360"/>
            <a:ext cx="90709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9:44:49Z</dcterms:created>
  <dc:creator/>
  <dc:description/>
  <dc:language>en-US</dc:language>
  <cp:lastModifiedBy/>
  <dcterms:modified xsi:type="dcterms:W3CDTF">2013-03-06T19:56:52Z</dcterms:modified>
  <cp:revision>2</cp:revision>
  <dc:subject/>
  <dc:title/>
</cp:coreProperties>
</file>