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FDD-29C3-499C-965C-D3898612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350-5184-4748-8A1A-04953590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BD1-4779-4635-8186-52CCE281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211-8327-4AF5-A39E-C5141733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4ED-707E-4BF8-9828-0790B89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606-5383-47FB-92DD-D32259C9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593-607A-46A4-89ED-72F24A40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FE2-3972-4A8C-87C2-A49CD2B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506-0033-4CE2-B262-54DAE2D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37E-9B9C-4298-9600-A9FDCF3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C7B-C9BF-42BD-BC98-E1B8140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E0D-01BB-4108-9234-21AD369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55C1-1892-4BE1-B571-F7DFDEE22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1523520"/>
            <a:ext cx="6095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страхан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95120" y="3657600"/>
            <a:ext cx="44197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ик Любовь Михайловна, МБОУ города Астрахани «Гимназия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360" y="609480"/>
            <a:ext cx="883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раханский кремль был построен с целью предотвращения набегов, кремлевские стены имели специфичную систему организации пушечного огня, которая в те времена ни в каких других кремлях не существовала. Стены крепости были усеяны огромным количеством пушечных бойниц среднего, нижнего и даже навесного боя для ручной стрель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огнестрельного оруж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3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370 лет своего существования кремль в Астрахани неоднократно перестраивался и реставрировался без сохранения своих исконных форм. Поэтому до наших дней кремль уцелел далеко не в своем первоначальном обл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amp;Tcy;&amp;iecy;&amp;rcy;&amp;rcy;&amp;icy;&amp;tcy;&amp;ocy;&amp;rcy;&amp;icy;&amp;yacy; &amp;vcy;&amp;ncy;&amp;ucy;&amp;tcy;&amp;rcy;&amp;icy; &amp;kcy;&amp;rcy;&amp;iecy;&amp;mcy;&amp;lcy;&amp;yacy; &amp;vcy; &amp;Acy;&amp;scy;&amp;tcy;&amp;rcy;&amp;acy;&amp;khcy;&amp;acy;&amp;ncy;&amp;icy;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6"/>
          <p:cNvSpPr/>
          <p:nvPr/>
        </p:nvSpPr>
        <p:spPr>
          <a:xfrm>
            <a:off x="609480" y="14176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яя реставрация Астраханского кремля, приуроченная к 450-летнему юбилею города, прошла в 2008 году. И сейчас кремль Астрахани засверкал новыми красками – белоснежные стены крепости с ярко-зелеными куполами выгодно подчерк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ественность и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м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&amp;Acy;&amp;scy;&amp;tcy;&amp;rcy;&amp;acy;&amp;khcy;&amp;acy;&amp;ncy;&amp;scy;&amp;kcy;&amp;icy;&amp;jcy; &amp;kcy;&amp;rcy;&amp;iecy;&amp;mcy;&amp;lcy;&amp;softcy; &amp;vcy; &amp;ncy;&amp;acy;&amp;scy;&amp;tcy;&amp;ocy;&amp;yacy;&amp;shchcy;&amp;iecy;&amp;iecy; &amp;vcy;&amp;rcy;&amp;iecy;&amp;mcy;&amp;yacy;"/>
          <p:cNvPicPr/>
          <p:nvPr/>
        </p:nvPicPr>
        <p:blipFill>
          <a:blip r:embed="rId1"/>
          <a:stretch/>
        </p:blipFill>
        <p:spPr>
          <a:xfrm>
            <a:off x="544680" y="846000"/>
            <a:ext cx="81453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837720"/>
            <a:ext cx="7238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ейча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мль Астрах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не только уникальное сооружение федерального значения, но и образец русской архитектуры 18 века. Кроме того, Астраханский кремль является одним из претендентов на звание объекта всемирного наследия ЮНЕС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66320" y="6858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узей "Астраханский кремль" был открыт в 1974 году, а в 1980 стал филиалом АГОИАМЗ. Отреставрированные памятники архитектуры астраханского кремля еще в начале 1970-х годов были переданы Астраханскому музею-заповеднику для проведения музеефик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ритория бывшей военной крепости также стала заповед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ы и башни Астраханского Кр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upload.wikimedia.org/wikipedia/commons/thumb/5/5f/Stenyibashni.jpg/120px-Stenyibashni.jpg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6120"/>
            <a:ext cx="788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4880" y="838080"/>
            <a:ext cx="386856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ная Колокольня с Пречистинскими Воро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upload.wikimedia.org/wikipedia/commons/thumb/5/5b/Prechistinskievorota.jpg/120px-Prechistinskievorota.jpg"/>
          <p:cNvPicPr/>
          <p:nvPr/>
        </p:nvPicPr>
        <p:blipFill>
          <a:blip r:embed="rId1"/>
          <a:stretch/>
        </p:blipFill>
        <p:spPr>
          <a:xfrm>
            <a:off x="704880" y="2092320"/>
            <a:ext cx="3868560" cy="4097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847800"/>
            <a:ext cx="38880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шня «Красные Воро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upload.wikimedia.org/wikipedia/commons/thumb/b/b5/Krymskajabashnja.jpg/120px-Krymskajabashnja.jpg"/>
          <p:cNvPicPr/>
          <p:nvPr/>
        </p:nvPicPr>
        <p:blipFill>
          <a:blip r:embed="rId2"/>
          <a:stretch/>
        </p:blipFill>
        <p:spPr>
          <a:xfrm>
            <a:off x="4800600" y="2108160"/>
            <a:ext cx="350532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69608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ицкий Собор с церквями Сретения Господня и Введения во храм Пресвятой Богород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upload.wikimedia.org/wikipedia/commons/thumb/6/66/Troisobor.jpg/120px-Troisobor.jpg"/>
          <p:cNvPicPr/>
          <p:nvPr/>
        </p:nvPicPr>
        <p:blipFill>
          <a:blip r:embed="rId1"/>
          <a:stretch/>
        </p:blipFill>
        <p:spPr>
          <a:xfrm>
            <a:off x="1638360" y="2133720"/>
            <a:ext cx="64008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9400" y="426600"/>
            <a:ext cx="4651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траханский крем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мвол Астрахани. Уникальный ансамбль был построен в 1620 году по проекту зодчего Дорофея Мякишева. Строительство кремля в Астрахани имело свои предпосылки: опасность, грозящая Русскому государство с востока, мешало укреплению и росту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&amp;Acy;&amp;scy;&amp;tcy;&amp;rcy;&amp;acy;&amp;khcy;&amp;acy;&amp;ncy;&amp;scy;&amp;kcy;&amp;icy;&amp;jcy; &amp;kcy;&amp;rcy;&amp;iecy;&amp;mcy;&amp;lcy;&amp;softcy;"/>
          <p:cNvPicPr/>
          <p:nvPr/>
        </p:nvPicPr>
        <p:blipFill>
          <a:blip r:embed="rId1"/>
          <a:stretch/>
        </p:blipFill>
        <p:spPr>
          <a:xfrm>
            <a:off x="2209680" y="85680"/>
            <a:ext cx="38862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рилловская Часо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upload.wikimedia.org/wikipedia/commons/thumb/8/83/Kirillchasovnja.jpg/120px-Kirillchasovnja.jpg"/>
          <p:cNvPicPr/>
          <p:nvPr/>
        </p:nvPicPr>
        <p:blipFill>
          <a:blip r:embed="rId1"/>
          <a:stretch/>
        </p:blipFill>
        <p:spPr>
          <a:xfrm>
            <a:off x="2057400" y="18288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кольская Надвратная 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upload.wikimedia.org/wikipedia/commons/thumb/8/8d/Nadvratnaja.jpg/120px-Nadvratnaja.jpg"/>
          <p:cNvPicPr/>
          <p:nvPr/>
        </p:nvPicPr>
        <p:blipFill>
          <a:blip r:embed="rId1"/>
          <a:stretch/>
        </p:blipFill>
        <p:spPr>
          <a:xfrm>
            <a:off x="1434960" y="1417680"/>
            <a:ext cx="62740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ллерийская (Пыточная) Башня и Артиллерийский Д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upload.wikimedia.org/wikipedia/commons/thumb/f/f0/Artdvor.jpg/120px-Artdvor.jpg"/>
          <p:cNvPicPr/>
          <p:nvPr/>
        </p:nvPicPr>
        <p:blipFill>
          <a:blip r:embed="rId1"/>
          <a:stretch/>
        </p:blipFill>
        <p:spPr>
          <a:xfrm>
            <a:off x="1295280" y="141768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шабл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арина Вера Алексеевна, учитель-дефектолог ГС(К)ОУ С(К)ОШ №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.Балашов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vetert.ru/rossiya/astrakhan/sights/136-astrakhanskijj-kreml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нский кафедральный 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а Астраханского кремля на портале «Культура.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ов А. С., Львов С. Астрахань на старинных открытках.- Астрахань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ловский А. Я. По историческим местам Астрахани. Волгоград, 1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водитель по Астрахани (под редакцией Девочкина Н. И.) — Волгоград, 19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водитель по Астрахани и области (под редакцией Смирнова Ю. С.) — Волгоград, 197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14400" y="228600"/>
            <a:ext cx="7315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ому же в результате присоединения к Руси Казани и Астрахани, а также получения выхода к Каспийскому морю, над государством нависла еще большая угроза набегов. Первая деревянная крепость, построенная в Астрахани, не выдерж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ления со стороны турец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тарских вой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762120"/>
            <a:ext cx="74674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Агрессивных действий Турции и Крымского ханства в сторону Астрахани требовалась более мощная и крепкая защита: в связи с тем, что Астрахань являлась важнейшим форпостом на юго-востоке государства, было принято решение о строительстве новой крепости из кам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&amp;Gcy;&amp;iecy;&amp;rcy;&amp;bcy; &amp;Acy;&amp;scy;&amp;tcy;&amp;rcy;&amp;acy;&amp;khcy;&amp;acy;&amp;ncy;&amp;icy;"/>
          <p:cNvPicPr/>
          <p:nvPr/>
        </p:nvPicPr>
        <p:blipFill>
          <a:blip r:embed="rId1"/>
          <a:stretch/>
        </p:blipFill>
        <p:spPr>
          <a:xfrm>
            <a:off x="6767640" y="4724280"/>
            <a:ext cx="1425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&amp;Pcy;&amp;lcy;&amp;acy;&amp;ncy; &amp;Acy;&amp;scy;&amp;tcy;&amp;rcy;&amp;acy;&amp;khcy;&amp;acy;&amp;ncy;&amp;scy;&amp;kcy;&amp;ocy;&amp;gcy;&amp;ocy; &amp;kcy;&amp;rcy;&amp;iecy;&amp;mcy;&amp;lcy;&amp;yacy; &amp;vcy; &amp;ncy;&amp;acy;&amp;chcy;&amp;acy;&amp;lcy;&amp;iecy; 17 &amp;vcy;&amp;iecy;&amp;kcy;&amp;acy;"/>
          <p:cNvPicPr/>
          <p:nvPr/>
        </p:nvPicPr>
        <p:blipFill>
          <a:blip r:embed="rId1"/>
          <a:stretch/>
        </p:blipFill>
        <p:spPr>
          <a:xfrm>
            <a:off x="758880" y="685800"/>
            <a:ext cx="76262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52480" y="609480"/>
            <a:ext cx="6477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 из башен были глухими – Архиерейская, Артиллерийская, Крымская, другие же имели проезд – Красные, Пречистенские ворота. Проездные башни отличались особой мощностью и высотой. Все башни Астраханского кремля были поделены на несколько уровней, соединявшиеся между собой каменными лестницами. Глубокие ниши в каменных стенах были сделаны с целью размещения в них боевых п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&amp;Bcy;&amp;acy;&amp;shcy;&amp;ncy;&amp;yacy; &amp;kcy;&amp;rcy;&amp;iecy;&amp;mcy;&amp;lcy;&amp;yacy; &amp;vcy; &amp;Acy;&amp;scy;&amp;tcy;&amp;rcy;&amp;acy;&amp;khcy;&amp;acy;&amp;ncy;&amp;icy;"/>
          <p:cNvPicPr/>
          <p:nvPr/>
        </p:nvPicPr>
        <p:blipFill>
          <a:blip r:embed="rId1"/>
          <a:stretch/>
        </p:blipFill>
        <p:spPr>
          <a:xfrm>
            <a:off x="304920" y="990720"/>
            <a:ext cx="1825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1760" y="6854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хушки башен окаймляли зубцы, на которых были закреплены шатры со сторожевыми вышками. Материалом для строительства кремля в Астрахани послужили остатки кирпича из Сарай-Бату – бывшей столицы Золо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5640" y="609480"/>
            <a:ext cx="6705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самбль Астраханского кремля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нский со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ицкий со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уптвах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чистенские вор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ужейная кладовая (цейхгау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исто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овская часов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вший Архиерейский дом с церк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amp;Tcy;&amp;rcy;&amp;ocy;&amp;icy;&amp;tscy;&amp;kcy;&amp;icy;&amp;jcy; &amp;scy;&amp;ocy;&amp;bcy;&amp;ocy;&amp;rcy; &amp;vcy; &amp;Acy;&amp;scy;&amp;tcy;&amp;rcy;&amp;acy;&amp;khcy;&amp;acy;&amp;ncy;&amp;scy;&amp;kcy;&amp;ocy;&amp;mcy; &amp;kcy;&amp;rcy;&amp;iecy;&amp;mcy;&amp;lcy;&amp;iecy;"/>
          <p:cNvPicPr/>
          <p:nvPr/>
        </p:nvPicPr>
        <p:blipFill>
          <a:blip r:embed="rId1"/>
          <a:stretch/>
        </p:blipFill>
        <p:spPr>
          <a:xfrm>
            <a:off x="262080" y="533520"/>
            <a:ext cx="8875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Любовь Волик</cp:lastModifiedBy>
  <dcterms:modified xsi:type="dcterms:W3CDTF">2013-04-28T07:04:4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