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6.jpeg" ContentType="image/jpeg"/>
  <Override PartName="/ppt/media/image15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86134-6286-499F-9BE9-ADF170EB2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3D8BB-3885-4AAB-B3BB-64EC1B5B8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EA8D5-625B-4137-9B78-474999787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EB23D-256E-4FB4-A932-FB0C22704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A38F8-A48E-48C5-8FF7-D596F29A5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BDB18-15DA-4BF7-9A1A-AE236DADF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BE44A-07E4-4F4F-9BF1-316967585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CB92E-4621-424E-98B5-C44EA9919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C9F4B-7AC2-4833-A819-E78FEAF54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A40BE-55D2-49AF-B3A7-B802510E1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23F1F-C208-40FE-A3D1-2D49825A7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EFC0D-2BEA-4B1F-99D9-56BA64C44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8A9BB-963D-4E36-B1AF-71B47F2D178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04760" y="1523520"/>
            <a:ext cx="609588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Астраханский Кремл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895120" y="3657600"/>
            <a:ext cx="4419720" cy="185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лик Любовь Михайловна, МБОУ города Астрахани «Гимназия №2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-360" y="609480"/>
            <a:ext cx="883908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страханский кремль был построен с целью предотвращения набегов, кремлевские стены имели специфичную систему организации пушечного огня, которая в те времена ни в каких других кремлях не существовала. Стены крепости были усеяны огромным количеством пушечных бойниц среднего, нижнего и даже навесного боя для ручной стрельб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з огнестрельного оруж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1066320" y="990360"/>
            <a:ext cx="71629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 370 лет своего существования кремль в Астрахани неоднократно перестраивался и реставрировался без сохранения своих исконных форм. Поэтому до наших дней кремль уцелел далеко не в своем первоначальном облик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&amp;Tcy;&amp;iecy;&amp;rcy;&amp;rcy;&amp;icy;&amp;tcy;&amp;ocy;&amp;rcy;&amp;icy;&amp;yacy; &amp;vcy;&amp;ncy;&amp;ucy;&amp;tcy;&amp;rcy;&amp;icy; &amp;kcy;&amp;rcy;&amp;iecy;&amp;mcy;&amp;lcy;&amp;yacy; &amp;vcy; &amp;Acy;&amp;scy;&amp;tcy;&amp;rcy;&amp;acy;&amp;khcy;&amp;acy;&amp;ncy;&amp;icy;"/>
          <p:cNvPicPr/>
          <p:nvPr/>
        </p:nvPicPr>
        <p:blipFill>
          <a:blip r:embed="rId1"/>
          <a:stretch/>
        </p:blipFill>
        <p:spPr>
          <a:xfrm>
            <a:off x="380880" y="533520"/>
            <a:ext cx="822960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Прямоугольник 6"/>
          <p:cNvSpPr/>
          <p:nvPr/>
        </p:nvSpPr>
        <p:spPr>
          <a:xfrm>
            <a:off x="609480" y="1417680"/>
            <a:ext cx="7848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следняя реставрация Астраханского кремля, приуроченная к 450-летнему юбилею города, прошла в 2008 году. И сейчас кремль Астрахани засверкал новыми красками – белоснежные стены крепости с ярко-зелеными куполами выгодно подчеркиваю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еличественность и красот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ремл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2" descr="&amp;Acy;&amp;scy;&amp;tcy;&amp;rcy;&amp;acy;&amp;khcy;&amp;acy;&amp;ncy;&amp;scy;&amp;kcy;&amp;icy;&amp;jcy; &amp;kcy;&amp;rcy;&amp;iecy;&amp;mcy;&amp;lcy;&amp;softcy; &amp;vcy; &amp;ncy;&amp;acy;&amp;scy;&amp;tcy;&amp;ocy;&amp;yacy;&amp;shchcy;&amp;iecy;&amp;iecy; &amp;vcy;&amp;rcy;&amp;iecy;&amp;mcy;&amp;yacy;"/>
          <p:cNvPicPr/>
          <p:nvPr/>
        </p:nvPicPr>
        <p:blipFill>
          <a:blip r:embed="rId1"/>
          <a:stretch/>
        </p:blipFill>
        <p:spPr>
          <a:xfrm>
            <a:off x="544680" y="846000"/>
            <a:ext cx="8145360" cy="529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990720" y="837720"/>
            <a:ext cx="7238880" cy="52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 сейчас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ремль Астрахан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это не только уникальное сооружение федерального значения, но и образец русской архитектуры 18 века. Кроме того, Астраханский кремль является одним из претендентов на звание объекта всемирного наследия ЮНЕСК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1066320" y="685800"/>
            <a:ext cx="71629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Музей "Астраханский кремль" был открыт в 1974 году, а в 1980 стал филиалом АГОИАМЗ. Отреставрированные памятники архитектуры астраханского кремля еще в начале 1970-х годов были переданы Астраханскому музею-заповеднику для проведения музеефикаци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Территория бывшей военной крепости также стала заповедной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ены и башни Астраханского Кремл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http://upload.wikimedia.org/wikipedia/commons/thumb/5/5f/Stenyibashni.jpg/120px-Stenyibashni.jpg"/>
          <p:cNvPicPr/>
          <p:nvPr/>
        </p:nvPicPr>
        <p:blipFill>
          <a:blip r:embed="rId1"/>
          <a:stretch/>
        </p:blipFill>
        <p:spPr>
          <a:xfrm>
            <a:off x="1523880" y="16002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30000" y="6120"/>
            <a:ext cx="7886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04880" y="838080"/>
            <a:ext cx="3868560" cy="1254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борная Колокольня с Пречистинскими Ворот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" descr="http://upload.wikimedia.org/wikipedia/commons/thumb/5/5b/Prechistinskievorota.jpg/120px-Prechistinskievorota.jpg"/>
          <p:cNvPicPr/>
          <p:nvPr/>
        </p:nvPicPr>
        <p:blipFill>
          <a:blip r:embed="rId1"/>
          <a:stretch/>
        </p:blipFill>
        <p:spPr>
          <a:xfrm>
            <a:off x="704880" y="2092320"/>
            <a:ext cx="3868560" cy="409752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38600" y="847800"/>
            <a:ext cx="3888000" cy="823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ашня «Красные Ворот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http://upload.wikimedia.org/wikipedia/commons/thumb/b/b5/Krymskajabashnja.jpg/120px-Krymskajabashnja.jpg"/>
          <p:cNvPicPr/>
          <p:nvPr/>
        </p:nvPicPr>
        <p:blipFill>
          <a:blip r:embed="rId2"/>
          <a:stretch/>
        </p:blipFill>
        <p:spPr>
          <a:xfrm>
            <a:off x="4800600" y="2108160"/>
            <a:ext cx="3505320" cy="40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90720" y="1066320"/>
            <a:ext cx="7696080" cy="35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роицкий Собор с церквями Сретения Господня и Введения во храм Пресвятой Богородиц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2" descr="http://upload.wikimedia.org/wikipedia/commons/thumb/6/66/Troisobor.jpg/120px-Troisobor.jpg"/>
          <p:cNvPicPr/>
          <p:nvPr/>
        </p:nvPicPr>
        <p:blipFill>
          <a:blip r:embed="rId1"/>
          <a:stretch/>
        </p:blipFill>
        <p:spPr>
          <a:xfrm>
            <a:off x="1638360" y="2133720"/>
            <a:ext cx="6400800" cy="43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39400" y="426600"/>
            <a:ext cx="465156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страханский кремль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символ Астрахани. Уникальный ансамбль был построен в 1620 году по проекту зодчего Дорофея Мякишева. Строительство кремля в Астрахани имело свои предпосылки: опасность, грозящая Русскому государство с востока, мешало укреплению и росту стра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" descr="&amp;Acy;&amp;scy;&amp;tcy;&amp;rcy;&amp;acy;&amp;khcy;&amp;acy;&amp;ncy;&amp;scy;&amp;kcy;&amp;icy;&amp;jcy; &amp;kcy;&amp;rcy;&amp;iecy;&amp;mcy;&amp;lcy;&amp;softcy;"/>
          <p:cNvPicPr/>
          <p:nvPr/>
        </p:nvPicPr>
        <p:blipFill>
          <a:blip r:embed="rId1"/>
          <a:stretch/>
        </p:blipFill>
        <p:spPr>
          <a:xfrm>
            <a:off x="2209680" y="85680"/>
            <a:ext cx="3886200" cy="15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ирилловская Часовн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2" descr="http://upload.wikimedia.org/wikipedia/commons/thumb/8/83/Kirillchasovnja.jpg/120px-Kirillchasovnja.jpg"/>
          <p:cNvPicPr/>
          <p:nvPr/>
        </p:nvPicPr>
        <p:blipFill>
          <a:blip r:embed="rId1"/>
          <a:stretch/>
        </p:blipFill>
        <p:spPr>
          <a:xfrm>
            <a:off x="2057400" y="1828800"/>
            <a:ext cx="571500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икольская Надвратная Церков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2" descr="http://upload.wikimedia.org/wikipedia/commons/thumb/8/8d/Nadvratnaja.jpg/120px-Nadvratnaja.jpg"/>
          <p:cNvPicPr/>
          <p:nvPr/>
        </p:nvPicPr>
        <p:blipFill>
          <a:blip r:embed="rId1"/>
          <a:stretch/>
        </p:blipFill>
        <p:spPr>
          <a:xfrm>
            <a:off x="1434960" y="1417680"/>
            <a:ext cx="627408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ртиллерийская (Пыточная) Башня и Артиллерийский Дво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" descr="http://upload.wikimedia.org/wikipedia/commons/thumb/f/f0/Artdvor.jpg/120px-Artdvor.jpg"/>
          <p:cNvPicPr/>
          <p:nvPr/>
        </p:nvPicPr>
        <p:blipFill>
          <a:blip r:embed="rId1"/>
          <a:stretch/>
        </p:blipFill>
        <p:spPr>
          <a:xfrm>
            <a:off x="1295280" y="1417680"/>
            <a:ext cx="6553440" cy="49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сточни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точник шаблон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Шумарина Вера Алексеевна, учитель-дефектолог ГС(К)ОУ С(К)ОШ №11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I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ида г.Балашова Саратовской обла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vetert.ru/rossiya/astrakhan/sights/136-astrakhanskijj-kreml.ph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спенский кафедральный соб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раница Астраханского кремля на портале «Культура.рф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арков А. С., Львов С. Астрахань на старинных открытках.- Астрахань, 1999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авловский А. Я. По историческим местам Астрахани. Волгоград, 1966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утеводитель по Астрахани (под редакцией Девочкина Н. И.) — Волгоград, 197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утеводитель по Астрахани и области (под редакцией Смирнова Ю. С.) — Волгоград, 1979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914400" y="228600"/>
            <a:ext cx="7315200" cy="58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 тому же в результате присоединения к Руси Казани и Астрахани, а также получения выхода к Каспийскому морю, над государством нависла еще большая угроза набегов. Первая деревянная крепость, построенная в Астрахани, не выдержа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авления со стороны турецко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атарских войс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761760" y="762120"/>
            <a:ext cx="7467480" cy="53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тив Агрессивных действий Турции и Крымского ханства в сторону Астрахани требовалась более мощная и крепкая защита: в связи с тем, что Астрахань являлась важнейшим форпостом на юго-востоке государства, было принято решение о строительстве новой крепости из кам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2" descr="&amp;Gcy;&amp;iecy;&amp;rcy;&amp;bcy; &amp;Acy;&amp;scy;&amp;tcy;&amp;rcy;&amp;acy;&amp;khcy;&amp;acy;&amp;ncy;&amp;icy;"/>
          <p:cNvPicPr/>
          <p:nvPr/>
        </p:nvPicPr>
        <p:blipFill>
          <a:blip r:embed="rId1"/>
          <a:stretch/>
        </p:blipFill>
        <p:spPr>
          <a:xfrm>
            <a:off x="6767640" y="4724280"/>
            <a:ext cx="1425600" cy="17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" descr="&amp;Pcy;&amp;lcy;&amp;acy;&amp;ncy; &amp;Acy;&amp;scy;&amp;tcy;&amp;rcy;&amp;acy;&amp;khcy;&amp;acy;&amp;ncy;&amp;scy;&amp;kcy;&amp;ocy;&amp;gcy;&amp;ocy; &amp;kcy;&amp;rcy;&amp;iecy;&amp;mcy;&amp;lcy;&amp;yacy; &amp;vcy; &amp;ncy;&amp;acy;&amp;chcy;&amp;acy;&amp;lcy;&amp;iecy; 17 &amp;vcy;&amp;iecy;&amp;kcy;&amp;acy;"/>
          <p:cNvPicPr/>
          <p:nvPr/>
        </p:nvPicPr>
        <p:blipFill>
          <a:blip r:embed="rId1"/>
          <a:stretch/>
        </p:blipFill>
        <p:spPr>
          <a:xfrm>
            <a:off x="758880" y="685800"/>
            <a:ext cx="762624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1752480" y="609480"/>
            <a:ext cx="647712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дни из башен были глухими – Архиерейская, Артиллерийская, Крымская, другие же имели проезд – Красные, Пречистенские ворота. Проездные башни отличались особой мощностью и высотой. Все башни Астраханского кремля были поделены на несколько уровней, соединявшиеся между собой каменными лестницами. Глубокие ниши в каменных стенах были сделаны с целью размещения в них боевых пуше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2" descr="&amp;Bcy;&amp;acy;&amp;shcy;&amp;ncy;&amp;yacy; &amp;kcy;&amp;rcy;&amp;iecy;&amp;mcy;&amp;lcy;&amp;yacy; &amp;vcy; &amp;Acy;&amp;scy;&amp;tcy;&amp;rcy;&amp;acy;&amp;khcy;&amp;acy;&amp;ncy;&amp;icy;"/>
          <p:cNvPicPr/>
          <p:nvPr/>
        </p:nvPicPr>
        <p:blipFill>
          <a:blip r:embed="rId1"/>
          <a:stretch/>
        </p:blipFill>
        <p:spPr>
          <a:xfrm>
            <a:off x="304920" y="990720"/>
            <a:ext cx="182556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761760" y="685440"/>
            <a:ext cx="74674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ерхушки башен окаймляли зубцы, на которых были закреплены шатры со сторожевыми вышками. Материалом для строительства кремля в Астрахани послужили остатки кирпича из Сарай-Бату – бывшей столицы Золотой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рды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2285640" y="609480"/>
            <a:ext cx="670572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нсамбль Астраханского кремля включает в себ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спенский собор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роицкий собор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ауптвахт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ечистенские ворот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ружейная кладовая (цейхгауз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нсистори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ирилловская часовн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ывший Архиерейский дом с церковью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&amp;Tcy;&amp;rcy;&amp;ocy;&amp;icy;&amp;tscy;&amp;kcy;&amp;icy;&amp;jcy; &amp;scy;&amp;ocy;&amp;bcy;&amp;ocy;&amp;rcy; &amp;vcy; &amp;Acy;&amp;scy;&amp;tcy;&amp;rcy;&amp;acy;&amp;khcy;&amp;acy;&amp;ncy;&amp;scy;&amp;kcy;&amp;ocy;&amp;mcy; &amp;kcy;&amp;rcy;&amp;iecy;&amp;mcy;&amp;lcy;&amp;iecy;"/>
          <p:cNvPicPr/>
          <p:nvPr/>
        </p:nvPicPr>
        <p:blipFill>
          <a:blip r:embed="rId1"/>
          <a:stretch/>
        </p:blipFill>
        <p:spPr>
          <a:xfrm>
            <a:off x="262080" y="533520"/>
            <a:ext cx="8875440" cy="55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5T18:46:57Z</dcterms:created>
  <dc:creator>User</dc:creator>
  <dc:description/>
  <dc:language>en-US</dc:language>
  <cp:lastModifiedBy>Любовь Волик</cp:lastModifiedBy>
  <dcterms:modified xsi:type="dcterms:W3CDTF">2013-04-28T07:04:40Z</dcterms:modified>
  <cp:revision>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