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25B-C4F0-44FF-9266-13D66568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7FA-83D5-4CAC-A649-AB773A75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77A-3EE9-463A-9AB4-5BFBE13A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B53-94B3-4D8F-9982-E15FA8A6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754-BACC-4B1A-8795-AB9ADD7C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128-43B2-43EF-B98D-4627D90F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A36-3185-4D08-9221-99998B9B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336-9944-4A24-B74B-F3A59913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221-AD33-4B58-B0D0-991F85F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0CB-1F75-451D-9594-F0A7D639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0D2-7284-45C3-BA7C-605536B2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B06-18CF-47D1-876D-EE51E146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B55A2-D6E9-469F-B965-A743DB563A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поделок </a:t>
            </a:r>
            <a:br>
              <a:rPr sz="4400"/>
            </a:b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Цветы из ткан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6360" y="1585800"/>
            <a:ext cx="9056520" cy="57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1640" y="30168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заков Никола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Ваза с цвет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6360" y="1563840"/>
            <a:ext cx="8928000" cy="57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инина Мария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Ма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6360" y="1512720"/>
            <a:ext cx="892800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ективная работа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Летняя фантаз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20720" y="1563840"/>
            <a:ext cx="8567640" cy="577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5:09:49Z</dcterms:created>
  <dc:creator/>
  <dc:description/>
  <dc:language>en-US</dc:language>
  <cp:lastModifiedBy/>
  <dcterms:modified xsi:type="dcterms:W3CDTF">2012-10-07T05:23:11Z</dcterms:modified>
  <cp:revision>1</cp:revision>
  <dc:subject/>
  <dc:title/>
</cp:coreProperties>
</file>