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6E91-EED6-4BC0-A916-40D483509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F69E-C8F1-4922-9520-F7893F36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29E6-A46A-47AD-AFDA-F540CF189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21F4-AA24-4EF7-8484-DFAC60DBD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1F2C-593E-4AD0-B85D-E496FE08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48B2-FE5C-484A-8107-3B8CAE59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40A3-769B-4378-ADF9-90922F5C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FF8F-17D4-4A18-847D-6BDDC8B0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D57A-6DFD-44D0-81CE-3EA6F000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FF77-F651-4856-B769-F40ECE48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1605-4773-4166-A71F-23E825F5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4B06-4F78-4FE2-A2DB-39BA28F0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0A81D5-1743-4727-96ED-ACA9611F591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0920" cy="1306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курс поделок </a:t>
            </a:r>
            <a:br>
              <a:rPr sz="4400"/>
            </a:b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«Цветы из ткан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76360" y="1585800"/>
            <a:ext cx="9056520" cy="57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31640" y="301680"/>
            <a:ext cx="9071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заков Николай</a:t>
            </a: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«Ваза с цветам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76360" y="1563840"/>
            <a:ext cx="8928000" cy="57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линина Мария</a:t>
            </a: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«Ма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76360" y="1512720"/>
            <a:ext cx="8928000" cy="57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ллективная работа</a:t>
            </a: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«Летняя фантаз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20720" y="1563840"/>
            <a:ext cx="8567640" cy="5779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7T05:09:49Z</dcterms:created>
  <dc:creator/>
  <dc:description/>
  <dc:language>en-US</dc:language>
  <cp:lastModifiedBy/>
  <dcterms:modified xsi:type="dcterms:W3CDTF">2012-10-07T05:23:11Z</dcterms:modified>
  <cp:revision>1</cp:revision>
  <dc:subject/>
  <dc:title/>
</cp:coreProperties>
</file>