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11B3-C265-45B6-958A-7FA089D29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A918-EA62-4DE6-8DC2-076F0144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3FEF-C70D-4B21-83B0-23A590E65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B9E7-8BB5-4B56-B71D-49EDEC804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3318-0F44-401E-BDE3-C7D6012F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3760-3549-4C91-8B02-4BDBDB60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E08C-B848-4F2C-8AB8-3960DA6B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27CB-FF8B-4143-BE7A-4AB76680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4B58-D38C-40B7-B08A-A2392A6A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5E6F-4972-40EE-81F6-B05B834F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01B1-743F-47D3-A13C-3AB71659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A9E6-84E1-454B-8ACE-E6596837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F6BF-CEDA-4F4B-96F3-74D8E284C1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58а"/>
          <p:cNvPicPr/>
          <p:nvPr/>
        </p:nvPicPr>
        <p:blipFill>
          <a:blip r:embed="rId1"/>
          <a:stretch/>
        </p:blipFill>
        <p:spPr>
          <a:xfrm>
            <a:off x="22320" y="-312840"/>
            <a:ext cx="9610560" cy="7170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78469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ычисли уст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50560" y="1557000"/>
            <a:ext cx="900108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900:30=                 5*5=                   35:7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60*70=                   2*8=                   3*90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700:70=                 200:5=                8*40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300*4=                   630:90=              60*50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4*200=                   500:10=              480:60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58а"/>
          <p:cNvPicPr/>
          <p:nvPr/>
        </p:nvPicPr>
        <p:blipFill>
          <a:blip r:embed="rId1"/>
          <a:stretch/>
        </p:blipFill>
        <p:spPr>
          <a:xfrm>
            <a:off x="3240" y="28440"/>
            <a:ext cx="9304200" cy="6942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5360" y="115920"/>
            <a:ext cx="88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50560" y="1557000"/>
            <a:ext cx="900108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250920" y="1224000"/>
            <a:ext cx="899784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58а"/>
          <p:cNvPicPr/>
          <p:nvPr/>
        </p:nvPicPr>
        <p:blipFill>
          <a:blip r:embed="rId1"/>
          <a:stretch/>
        </p:blipFill>
        <p:spPr>
          <a:xfrm>
            <a:off x="3240" y="28440"/>
            <a:ext cx="9304200" cy="6942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5360" y="115920"/>
            <a:ext cx="88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0560" y="1557000"/>
            <a:ext cx="900108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882000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58а"/>
          <p:cNvPicPr/>
          <p:nvPr/>
        </p:nvPicPr>
        <p:blipFill>
          <a:blip r:embed="rId1"/>
          <a:stretch/>
        </p:blipFill>
        <p:spPr>
          <a:xfrm>
            <a:off x="3240" y="28440"/>
            <a:ext cx="9304200" cy="69422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5360" y="115920"/>
            <a:ext cx="88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50560" y="1557000"/>
            <a:ext cx="900108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(20+6):2=20:2+6:2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8496000" cy="1347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http://im5-tub-ru.yandex.net/i?id=91996448-25-72&amp;n=21"/>
          <p:cNvPicPr/>
          <p:nvPr/>
        </p:nvPicPr>
        <p:blipFill>
          <a:blip r:embed="rId3"/>
          <a:stretch/>
        </p:blipFill>
        <p:spPr>
          <a:xfrm>
            <a:off x="395280" y="2786040"/>
            <a:ext cx="1495440" cy="1428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4"/>
          <a:stretch/>
        </p:blipFill>
        <p:spPr>
          <a:xfrm>
            <a:off x="3508200" y="2732040"/>
            <a:ext cx="1500480" cy="1427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5"/>
          <a:stretch/>
        </p:blipFill>
        <p:spPr>
          <a:xfrm>
            <a:off x="5148360" y="2790720"/>
            <a:ext cx="1500120" cy="1427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"/>
          <p:cNvPicPr/>
          <p:nvPr/>
        </p:nvPicPr>
        <p:blipFill>
          <a:blip r:embed="rId6"/>
          <a:stretch/>
        </p:blipFill>
        <p:spPr>
          <a:xfrm>
            <a:off x="1979640" y="2786040"/>
            <a:ext cx="1500120" cy="1427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"/>
          <p:cNvPicPr/>
          <p:nvPr/>
        </p:nvPicPr>
        <p:blipFill>
          <a:blip r:embed="rId7"/>
          <a:stretch/>
        </p:blipFill>
        <p:spPr>
          <a:xfrm>
            <a:off x="6648480" y="2706840"/>
            <a:ext cx="1500120" cy="1427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http://im0-tub-ru.yandex.net/i?id=326845634-42-72&amp;n=21"/>
          <p:cNvPicPr/>
          <p:nvPr/>
        </p:nvPicPr>
        <p:blipFill>
          <a:blip r:embed="rId8"/>
          <a:stretch/>
        </p:blipFill>
        <p:spPr>
          <a:xfrm>
            <a:off x="372960" y="4087800"/>
            <a:ext cx="1517760" cy="862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http://im0-tub-ru.yandex.net/i?id=326845634-42-72&amp;n=21"/>
          <p:cNvPicPr/>
          <p:nvPr/>
        </p:nvPicPr>
        <p:blipFill>
          <a:blip r:embed="rId9"/>
          <a:stretch/>
        </p:blipFill>
        <p:spPr>
          <a:xfrm>
            <a:off x="2130480" y="4133880"/>
            <a:ext cx="1406520" cy="798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" descr="http://im0-tub-ru.yandex.net/i?id=326845634-42-72&amp;n=21"/>
          <p:cNvPicPr/>
          <p:nvPr/>
        </p:nvPicPr>
        <p:blipFill>
          <a:blip r:embed="rId10"/>
          <a:stretch/>
        </p:blipFill>
        <p:spPr>
          <a:xfrm>
            <a:off x="3629160" y="4213080"/>
            <a:ext cx="125712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58а"/>
          <p:cNvPicPr/>
          <p:nvPr/>
        </p:nvPicPr>
        <p:blipFill>
          <a:blip r:embed="rId1"/>
          <a:stretch/>
        </p:blipFill>
        <p:spPr>
          <a:xfrm>
            <a:off x="3240" y="28440"/>
            <a:ext cx="9304200" cy="6942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5360" y="115920"/>
            <a:ext cx="88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50560" y="1557000"/>
            <a:ext cx="900108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864216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58а"/>
          <p:cNvPicPr/>
          <p:nvPr/>
        </p:nvPicPr>
        <p:blipFill>
          <a:blip r:embed="rId1"/>
          <a:stretch/>
        </p:blipFill>
        <p:spPr>
          <a:xfrm>
            <a:off x="3240" y="28440"/>
            <a:ext cx="9304200" cy="69422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5360" y="115920"/>
            <a:ext cx="88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250560" y="1557000"/>
            <a:ext cx="900108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8785440" cy="20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58а"/>
          <p:cNvPicPr/>
          <p:nvPr/>
        </p:nvPicPr>
        <p:blipFill>
          <a:blip r:embed="rId1"/>
          <a:stretch/>
        </p:blipFill>
        <p:spPr>
          <a:xfrm>
            <a:off x="3240" y="28440"/>
            <a:ext cx="9304200" cy="69422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5360" y="115920"/>
            <a:ext cx="88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абота в тетра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250560" y="1557000"/>
            <a:ext cx="900108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179280" y="1477800"/>
            <a:ext cx="892980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58а"/>
          <p:cNvPicPr/>
          <p:nvPr/>
        </p:nvPicPr>
        <p:blipFill>
          <a:blip r:embed="rId1"/>
          <a:stretch/>
        </p:blipFill>
        <p:spPr>
          <a:xfrm>
            <a:off x="3240" y="28440"/>
            <a:ext cx="9304200" cy="69422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5360" y="115920"/>
            <a:ext cx="88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абота в тетра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250560" y="1557000"/>
            <a:ext cx="900108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8785440" cy="15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58а"/>
          <p:cNvPicPr/>
          <p:nvPr/>
        </p:nvPicPr>
        <p:blipFill>
          <a:blip r:embed="rId1"/>
          <a:stretch/>
        </p:blipFill>
        <p:spPr>
          <a:xfrm>
            <a:off x="3240" y="28440"/>
            <a:ext cx="9304200" cy="69422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5360" y="115920"/>
            <a:ext cx="88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абота в тетра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50560" y="1557000"/>
            <a:ext cx="900108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                             №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Мальчики                              Дев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х:60= 7                                 х*50= 4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630:х=9                                 720:х= 8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5T15:02:34Z</dcterms:created>
  <dc:creator>User</dc:creator>
  <dc:description/>
  <dc:language>en-US</dc:language>
  <cp:lastModifiedBy>user</cp:lastModifiedBy>
  <dcterms:modified xsi:type="dcterms:W3CDTF">2013-05-05T12:56:57Z</dcterms:modified>
  <cp:revision>7</cp:revision>
  <dc:subject/>
  <dc:title>Слайд 1</dc:title>
</cp:coreProperties>
</file>