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9EA-C3F9-49B5-ADDF-43BA9934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F027-CF45-4177-A79E-57B47929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04A8-2E96-40DA-A3EA-212AA359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3DD-351F-4E65-B743-101B1A5A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6B5-E6C0-4FAF-97E6-1FCA0901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C79F-8388-4BAA-8073-1FA6202D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FF8F-1C60-4C82-863E-82649A75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131-2FD8-4B68-9809-282E74C9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7ED6-E99F-4677-A7AE-59444586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AC4-D6CE-4AD1-A919-445E95F7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A807-BFA7-43D8-B163-E2034EE4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513C-782D-4612-AB86-54F7D296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A5E6-1C6D-4BCC-B6BD-07993AAED9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8а"/>
          <p:cNvPicPr/>
          <p:nvPr/>
        </p:nvPicPr>
        <p:blipFill>
          <a:blip r:embed="rId1"/>
          <a:stretch/>
        </p:blipFill>
        <p:spPr>
          <a:xfrm>
            <a:off x="22320" y="-312840"/>
            <a:ext cx="9610560" cy="7170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8469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900108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900:30=                 5*5=                   35: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60*70=                   2*8=                   3*9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700:70=                 200:5=                8*4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300*4=                   630:90=              60*5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4*200=                   500:10=              480:6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58а"/>
          <p:cNvPicPr/>
          <p:nvPr/>
        </p:nvPicPr>
        <p:blipFill>
          <a:blip r:embed="rId1"/>
          <a:stretch/>
        </p:blipFill>
        <p:spPr>
          <a:xfrm>
            <a:off x="3240" y="28440"/>
            <a:ext cx="9304200" cy="6942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360" y="115920"/>
            <a:ext cx="88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900108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250920" y="1224000"/>
            <a:ext cx="89978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58а"/>
          <p:cNvPicPr/>
          <p:nvPr/>
        </p:nvPicPr>
        <p:blipFill>
          <a:blip r:embed="rId1"/>
          <a:stretch/>
        </p:blipFill>
        <p:spPr>
          <a:xfrm>
            <a:off x="3240" y="28440"/>
            <a:ext cx="9304200" cy="694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5360" y="115920"/>
            <a:ext cx="88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900108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88200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8а"/>
          <p:cNvPicPr/>
          <p:nvPr/>
        </p:nvPicPr>
        <p:blipFill>
          <a:blip r:embed="rId1"/>
          <a:stretch/>
        </p:blipFill>
        <p:spPr>
          <a:xfrm>
            <a:off x="3240" y="28440"/>
            <a:ext cx="9304200" cy="69422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5360" y="115920"/>
            <a:ext cx="88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900108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(20+6):2=20:2+6:2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496000" cy="1347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http://im5-tub-ru.yandex.net/i?id=91996448-25-72&amp;n=21"/>
          <p:cNvPicPr/>
          <p:nvPr/>
        </p:nvPicPr>
        <p:blipFill>
          <a:blip r:embed="rId3"/>
          <a:stretch/>
        </p:blipFill>
        <p:spPr>
          <a:xfrm>
            <a:off x="395280" y="2786040"/>
            <a:ext cx="1495440" cy="1428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4"/>
          <a:stretch/>
        </p:blipFill>
        <p:spPr>
          <a:xfrm>
            <a:off x="3508200" y="2732040"/>
            <a:ext cx="1500480" cy="1427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5"/>
          <a:stretch/>
        </p:blipFill>
        <p:spPr>
          <a:xfrm>
            <a:off x="5148360" y="2790720"/>
            <a:ext cx="1500120" cy="1427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6"/>
          <a:stretch/>
        </p:blipFill>
        <p:spPr>
          <a:xfrm>
            <a:off x="1979640" y="2786040"/>
            <a:ext cx="1500120" cy="1427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7"/>
          <a:stretch/>
        </p:blipFill>
        <p:spPr>
          <a:xfrm>
            <a:off x="6648480" y="2706840"/>
            <a:ext cx="1500120" cy="142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http://im0-tub-ru.yandex.net/i?id=326845634-42-72&amp;n=21"/>
          <p:cNvPicPr/>
          <p:nvPr/>
        </p:nvPicPr>
        <p:blipFill>
          <a:blip r:embed="rId8"/>
          <a:stretch/>
        </p:blipFill>
        <p:spPr>
          <a:xfrm>
            <a:off x="372960" y="4087800"/>
            <a:ext cx="1517760" cy="862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http://im0-tub-ru.yandex.net/i?id=326845634-42-72&amp;n=21"/>
          <p:cNvPicPr/>
          <p:nvPr/>
        </p:nvPicPr>
        <p:blipFill>
          <a:blip r:embed="rId9"/>
          <a:stretch/>
        </p:blipFill>
        <p:spPr>
          <a:xfrm>
            <a:off x="2130480" y="4133880"/>
            <a:ext cx="1406520" cy="798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http://im0-tub-ru.yandex.net/i?id=326845634-42-72&amp;n=21"/>
          <p:cNvPicPr/>
          <p:nvPr/>
        </p:nvPicPr>
        <p:blipFill>
          <a:blip r:embed="rId10"/>
          <a:stretch/>
        </p:blipFill>
        <p:spPr>
          <a:xfrm>
            <a:off x="3629160" y="4213080"/>
            <a:ext cx="125712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58а"/>
          <p:cNvPicPr/>
          <p:nvPr/>
        </p:nvPicPr>
        <p:blipFill>
          <a:blip r:embed="rId1"/>
          <a:stretch/>
        </p:blipFill>
        <p:spPr>
          <a:xfrm>
            <a:off x="3240" y="28440"/>
            <a:ext cx="9304200" cy="6942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360" y="115920"/>
            <a:ext cx="88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900108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6421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58а"/>
          <p:cNvPicPr/>
          <p:nvPr/>
        </p:nvPicPr>
        <p:blipFill>
          <a:blip r:embed="rId1"/>
          <a:stretch/>
        </p:blipFill>
        <p:spPr>
          <a:xfrm>
            <a:off x="3240" y="28440"/>
            <a:ext cx="9304200" cy="69422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360" y="115920"/>
            <a:ext cx="88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900108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7854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58а"/>
          <p:cNvPicPr/>
          <p:nvPr/>
        </p:nvPicPr>
        <p:blipFill>
          <a:blip r:embed="rId1"/>
          <a:stretch/>
        </p:blipFill>
        <p:spPr>
          <a:xfrm>
            <a:off x="3240" y="28440"/>
            <a:ext cx="9304200" cy="6942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5360" y="115920"/>
            <a:ext cx="88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бота в тетр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900108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79280" y="1477800"/>
            <a:ext cx="892980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58а"/>
          <p:cNvPicPr/>
          <p:nvPr/>
        </p:nvPicPr>
        <p:blipFill>
          <a:blip r:embed="rId1"/>
          <a:stretch/>
        </p:blipFill>
        <p:spPr>
          <a:xfrm>
            <a:off x="3240" y="28440"/>
            <a:ext cx="9304200" cy="6942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5360" y="115920"/>
            <a:ext cx="88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бота в тетр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900108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785440" cy="15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58а"/>
          <p:cNvPicPr/>
          <p:nvPr/>
        </p:nvPicPr>
        <p:blipFill>
          <a:blip r:embed="rId1"/>
          <a:stretch/>
        </p:blipFill>
        <p:spPr>
          <a:xfrm>
            <a:off x="3240" y="28440"/>
            <a:ext cx="9304200" cy="6942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5360" y="115920"/>
            <a:ext cx="88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бота в тетр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900108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                    №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альчики                              Дев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х:60= 7                                 х*50= 4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630:х=9                                 720:х= 8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5:02:34Z</dcterms:created>
  <dc:creator>User</dc:creator>
  <dc:description/>
  <dc:language>en-US</dc:language>
  <cp:lastModifiedBy>user</cp:lastModifiedBy>
  <dcterms:modified xsi:type="dcterms:W3CDTF">2013-05-05T12:56:57Z</dcterms:modified>
  <cp:revision>7</cp:revision>
  <dc:subject/>
  <dc:title>Слайд 1</dc:title>
</cp:coreProperties>
</file>