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D73-09B1-4967-9983-AE2133C6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D4E-91D6-4DA4-9DF7-724C6E8C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E95-C435-4C3C-BF17-9CF524EE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819-265B-48B2-A5F3-D88C6767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32F-A573-4DCE-B700-B906A607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647-2785-43CF-8C7A-DC474E02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BE2-931A-4FB4-BDF3-6C33870A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316-B09E-4DC0-A2D2-EC100956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C98-CB86-48A4-A84B-4F06BF05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4C4-3CFB-4E0C-BD12-FE4F28D9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341-1075-49FD-A622-BC47AC5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F2AE-50F6-42F1-B0DD-F2523180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BF4CD-67C3-4C17-952C-6DAB99E1706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Ур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изобразительн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искус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Arial"/>
              </a:rPr>
              <a:t>Тема</a:t>
            </a:r>
            <a:r>
              <a:rPr b="1" i="1" lang="ru-RU" sz="5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i="1" lang="ru-RU" sz="6600" spc="-1" strike="noStrike">
                <a:solidFill>
                  <a:srgbClr val="000080"/>
                </a:solidFill>
                <a:latin typeface="Arial"/>
              </a:rPr>
              <a:t>Сказочн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20:13:26Z</dcterms:created>
  <dc:creator/>
  <dc:description/>
  <dc:language>en-US</dc:language>
  <cp:lastModifiedBy/>
  <dcterms:modified xsi:type="dcterms:W3CDTF">2012-12-03T20:23:29Z</dcterms:modified>
  <cp:revision>2</cp:revision>
  <dc:subject/>
  <dc:title/>
</cp:coreProperties>
</file>