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766-4A60-4F68-A545-8505E1AF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E8C-C681-4CD4-895C-AE8689A0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F6B-0949-4F71-AE49-C18E8E9A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4EE-5201-429C-89B8-DC2D12B3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BB1-4727-4C57-B981-E50746B1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95E-C515-4555-9CBB-1ECF5138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0F9-C2CD-4069-AFFE-AF5FBE6C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1D5-5D11-4E97-98C9-48ADCF84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099-4805-47B5-AF2B-FCFC3674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6F2-AA0D-42AC-8DC1-D35E043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F43-DB2C-4C88-98E6-FE6546F1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562-B149-47C9-B1DF-46A6E1D9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6DA5F-83B6-4876-9F60-ECB39031AD1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У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изобразительн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искус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Тема</a:t>
            </a:r>
            <a:r>
              <a:rPr b="1" i="1" lang="ru-RU" sz="54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i="1" lang="ru-RU" sz="6600" spc="-1" strike="noStrike">
                <a:solidFill>
                  <a:srgbClr val="000080"/>
                </a:solidFill>
                <a:latin typeface="Arial"/>
              </a:rPr>
              <a:t>Сказочный ле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20:13:26Z</dcterms:created>
  <dc:creator/>
  <dc:description/>
  <dc:language>en-US</dc:language>
  <cp:lastModifiedBy/>
  <dcterms:modified xsi:type="dcterms:W3CDTF">2012-12-03T20:23:29Z</dcterms:modified>
  <cp:revision>2</cp:revision>
  <dc:subject/>
  <dc:title/>
</cp:coreProperties>
</file>