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866-9F5E-4D56-AF83-7E148FCA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3E3-02D3-433B-A511-E4AC9297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B6D-027C-4D7E-A52A-8C458505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1F0-3A9B-4BF4-BCB4-FAA11732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3D2C-3C23-4E55-958F-E31A4B3F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298A-3294-48E5-BBBC-827A28A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C5AF-EDE0-4CA2-87ED-C6B40090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0D9C-89E8-4643-ABC9-6AFAB7AA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6A89-FC9A-4593-890C-9197F270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8277-ADDA-471A-9C38-08BDBB12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E7C1-3F2B-41AF-BF1D-0755DBE7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595-836F-4A8E-B437-F783464C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E6FC-0C4E-4FF2-A32D-AE7328A3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24FE-79BB-44D5-BF74-487C11DD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B038-4D3F-473F-83BA-5F83D538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3D9A-5211-4630-B7D2-EB064CFC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19DA-C8DD-40F4-AA20-42137BD2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6817C-6B42-4566-B385-1D2907B8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D8DA-2377-4360-9BD5-777FA1D5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9DAD-BCCA-4A4B-BD09-905BD754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872FF-6A1E-4993-A02F-9E154AFC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A4F91-7F89-4020-986C-56F64692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AD3-7133-46DB-86AB-73FBE7BB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24FD-9EEB-45E6-8E74-329D0AE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8277-ED65-4076-B5A2-5F5C565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21EF-5206-4B0A-9C48-D86046E7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7926A-7D0E-4E91-874B-99005396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B8BEE-069A-4C20-AD58-F880122C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8AB6-E1CB-44E7-A156-8ADFD3FF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A138-D05A-4EFC-8860-73B9DB74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A8E4-34A8-426E-B525-A0D006AF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A12A2-6359-4145-86B3-34A2E329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2AE44-A422-4155-A71C-A372A9DA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D8C-599E-4B03-AA19-1D1A4892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E2B2-9797-410F-9B8F-19DDADA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11493-7848-4F5F-8833-A0126267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B6D7-EF7C-417A-B09B-A55587ED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D9748-DD52-492C-BE3A-E6B13F74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C06B9-1963-4A2C-9444-C70B725F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384E-718F-4F6A-86E6-E90FF8E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EAA1-4833-4254-92BB-17DFD0ED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E0803-AACC-4008-9277-72C533F1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285F1-785A-4D79-8BDB-D5E08B73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F35-FD83-442D-9D85-6D68E42B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41A-829B-4E56-8FA0-15794625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601-B7DA-46C6-A474-AD791D2C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BC2-EE27-40BC-BCA7-485E92BF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521-5636-4563-8306-4DADCA50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6480" y="0"/>
            <a:ext cx="9144000" cy="628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cb7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3268800"/>
            <a:ext cx="9144000" cy="145800"/>
            <a:chOff x="0" y="3268800"/>
            <a:chExt cx="9144000" cy="145800"/>
          </a:xfrm>
        </p:grpSpPr>
        <p:sp>
          <p:nvSpPr>
            <p:cNvPr id="2" name=""/>
            <p:cNvSpPr/>
            <p:nvPr/>
          </p:nvSpPr>
          <p:spPr>
            <a:xfrm>
              <a:off x="0" y="3268800"/>
              <a:ext cx="9144000" cy="14580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181480" y="3268800"/>
              <a:ext cx="1096920" cy="14580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78400" y="3268800"/>
              <a:ext cx="1097280" cy="14580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375680" y="3268800"/>
              <a:ext cx="1096920" cy="14580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1752120"/>
            <a:ext cx="79218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Образец подзагол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575400" y="6356520"/>
            <a:ext cx="21304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date/time&gt;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27.4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2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46044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80D31-DC07-4F31-AA83-D18E18C87563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fld id="{377B086D-BDFD-4636-97C2-35C54771B699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6480" y="0"/>
            <a:ext cx="9144000" cy="628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cb7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6840" y="1499760"/>
            <a:ext cx="822636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308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575400" y="6356520"/>
            <a:ext cx="21304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date/time&gt;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27.4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3720" y="6356520"/>
            <a:ext cx="2892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46044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82A8FE-7FED-4E6D-BA01-5A1153B1D59F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fld id="{B0CDCB93-C5DA-430E-8198-C34D8F255CE1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54" name="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78400" y="1371600"/>
              <a:ext cx="109728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75680" y="1371600"/>
              <a:ext cx="109692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6480" y="0"/>
            <a:ext cx="9144000" cy="628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cb7f8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4035600" cy="361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984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MS Gothic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561"/>
              </a:spcBef>
              <a:spcAft>
                <a:spcPts val="1426"/>
              </a:spcAft>
              <a:buClr>
                <a:srgbClr val="0536b3"/>
              </a:buClr>
              <a:buSzPct val="70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Bef>
                <a:spcPts val="488"/>
              </a:spcBef>
              <a:spcAft>
                <a:spcPts val="1426"/>
              </a:spcAft>
              <a:buClr>
                <a:srgbClr val="108bb4"/>
              </a:buClr>
              <a:buSzPct val="60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MS Gothic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85840">
              <a:lnSpc>
                <a:spcPct val="93000"/>
              </a:lnSpc>
              <a:spcBef>
                <a:spcPts val="400"/>
              </a:spcBef>
              <a:spcAft>
                <a:spcPts val="1426"/>
              </a:spcAft>
              <a:buClr>
                <a:srgbClr val="da7328"/>
              </a:buClr>
              <a:buSzPct val="57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MS Gothic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Bef>
                <a:spcPts val="363"/>
              </a:spcBef>
              <a:spcAft>
                <a:spcPts val="1426"/>
              </a:spcAft>
              <a:buClr>
                <a:srgbClr val="ae589f"/>
              </a:buClr>
              <a:buSzPct val="55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MS Gothic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Bef>
                <a:spcPts val="363"/>
              </a:spcBef>
              <a:spcAft>
                <a:spcPts val="1426"/>
              </a:spcAft>
              <a:buClr>
                <a:srgbClr val="77b559"/>
              </a:buClr>
              <a:buSzPct val="50000"/>
              <a:buFont typeface="Wingdings 2" charset="2"/>
              <a:buChar char="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MS Gothic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575400" y="6356520"/>
            <a:ext cx="213048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date/time&gt;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27.4.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3720" y="6356520"/>
            <a:ext cx="2892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46044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F922FB-1BBD-43FF-AF9B-8BE3CA6B1A22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fld id="{8D35AB67-9722-49EE-817F-6CBE591B4E02}" type="slidenum"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63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1371600"/>
            <a:ext cx="9144000" cy="73080"/>
            <a:chOff x="0" y="1371600"/>
            <a:chExt cx="9144000" cy="73080"/>
          </a:xfrm>
        </p:grpSpPr>
        <p:sp>
          <p:nvSpPr>
            <p:cNvPr id="103" name=""/>
            <p:cNvSpPr/>
            <p:nvPr/>
          </p:nvSpPr>
          <p:spPr>
            <a:xfrm>
              <a:off x="0" y="1371600"/>
              <a:ext cx="9144000" cy="73080"/>
            </a:xfrm>
            <a:prstGeom prst="rect">
              <a:avLst/>
            </a:prstGeom>
            <a:solidFill>
              <a:srgbClr val="0428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81480" y="1371600"/>
              <a:ext cx="1096920" cy="73080"/>
            </a:xfrm>
            <a:prstGeom prst="rect">
              <a:avLst/>
            </a:prstGeom>
            <a:solidFill>
              <a:srgbClr val="3f9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8400" y="1371600"/>
              <a:ext cx="1097280" cy="73080"/>
            </a:xfrm>
            <a:prstGeom prst="rect">
              <a:avLst/>
            </a:prstGeom>
            <a:solidFill>
              <a:srgbClr val="77b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75680" y="1371600"/>
              <a:ext cx="1096920" cy="73080"/>
            </a:xfrm>
            <a:prstGeom prst="rect">
              <a:avLst/>
            </a:prstGeom>
            <a:solidFill>
              <a:srgbClr val="e4a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F2D1D-EB5F-46C2-BA95-51112424E6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900000" y="1440000"/>
            <a:ext cx="738036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Comic Sans MS"/>
                <a:ea typeface="Arial Unicode MS"/>
              </a:rPr>
              <a:t>Кругвые и столбчатые диаграммы.</a:t>
            </a:r>
            <a:r>
              <a:rPr b="1" lang="ru-RU" sz="4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4583160"/>
            <a:ext cx="64800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Орлова Екатерина Вале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859280" y="25560"/>
            <a:ext cx="407664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79200"/>
            <a:ext cx="5040360" cy="3700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620720" y="2556000"/>
            <a:ext cx="3419640" cy="3924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219640" y="3959280"/>
            <a:ext cx="360036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Диаграммы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5680" y="314280"/>
            <a:ext cx="792468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333333"/>
                </a:solidFill>
                <a:uFillTx/>
                <a:latin typeface="Arial"/>
              </a:rPr>
              <a:t>Задача1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В классе 30 человек. 5 учеников написали контрольную работу на «5», 15 учеников «4», 8 учеников — тройку и 2 ученика двойку. Учителю нужно сдать анализ контрольной работы.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о результатам построить диаграмму 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78920" y="2339640"/>
            <a:ext cx="88203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сть 1 ученик изображается столбиком высотой в 3 мм,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учеников, получиыших «5», столбиком 15мм=1,5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5 учеников, получивших «4»,столбиком 45мм=4,5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учеников, получиыших «3», столбиком 24мм=2,4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ученика, получиыших «2», столбиком 6мм=0,6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0360" y="25560"/>
            <a:ext cx="7808760" cy="105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Диаграмма «Анализ контрольной работы »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79640" y="5219640"/>
            <a:ext cx="467964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60360" y="4319640"/>
            <a:ext cx="540000" cy="900000"/>
          </a:xfrm>
          <a:custGeom>
            <a:avLst/>
            <a:gdLst>
              <a:gd name="textAreaLeft" fmla="*/ 360 w 540000"/>
              <a:gd name="textAreaRight" fmla="*/ 539640 w 540000"/>
              <a:gd name="textAreaTop" fmla="*/ 360 h 900000"/>
              <a:gd name="textAreaBottom" fmla="*/ 899640 h 900000"/>
            </a:gdLst>
            <a:ahLst/>
            <a:rect l="textAreaLeft" t="textAreaTop" r="textAreaRight" b="textAreaBottom"/>
            <a:pathLst>
              <a:path w="21600" h="35990">
                <a:moveTo>
                  <a:pt x="63" y="0"/>
                </a:moveTo>
                <a:arcTo wR="63" hR="63" stAng="16200000" swAng="-5400000"/>
                <a:lnTo>
                  <a:pt x="0" y="35927"/>
                </a:lnTo>
                <a:arcTo wR="63" hR="63" stAng="10800000" swAng="-5400000"/>
                <a:lnTo>
                  <a:pt x="21537" y="3599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79640" y="2519280"/>
            <a:ext cx="539640" cy="270036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2700360"/>
              <a:gd name="textAreaBottom" fmla="*/ 2700000 h 2700360"/>
            </a:gdLst>
            <a:ahLst/>
            <a:rect l="textAreaLeft" t="textAreaTop" r="textAreaRight" b="textAreaBottom"/>
            <a:pathLst>
              <a:path w="21600" h="108029">
                <a:moveTo>
                  <a:pt x="63" y="0"/>
                </a:moveTo>
                <a:arcTo wR="63" hR="63" stAng="16200000" swAng="-5400000"/>
                <a:lnTo>
                  <a:pt x="0" y="107966"/>
                </a:lnTo>
                <a:arcTo wR="63" hR="63" stAng="10800000" swAng="-5400000"/>
                <a:lnTo>
                  <a:pt x="21537" y="108029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3780000"/>
            <a:ext cx="539640" cy="143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1439640"/>
              <a:gd name="textAreaBottom" fmla="*/ 1439280 h 1439640"/>
            </a:gdLst>
            <a:ahLst/>
            <a:rect l="textAreaLeft" t="textAreaTop" r="textAreaRight" b="textAreaBottom"/>
            <a:pathLst>
              <a:path w="21600" h="57600">
                <a:moveTo>
                  <a:pt x="63" y="0"/>
                </a:moveTo>
                <a:arcTo wR="63" hR="63" stAng="16200000" swAng="-5400000"/>
                <a:lnTo>
                  <a:pt x="0" y="57537"/>
                </a:lnTo>
                <a:arcTo wR="63" hR="63" stAng="10800000" swAng="-5400000"/>
                <a:lnTo>
                  <a:pt x="21537" y="576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4859280"/>
            <a:ext cx="360360" cy="360360"/>
          </a:xfrm>
          <a:prstGeom prst="roundRect">
            <a:avLst>
              <a:gd name="adj" fmla="val 440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60360" y="3959280"/>
            <a:ext cx="720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60560" y="2160720"/>
            <a:ext cx="56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3419640"/>
            <a:ext cx="5605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00560" y="4500720"/>
            <a:ext cx="3063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80000" y="2519280"/>
            <a:ext cx="179280" cy="17964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179640"/>
              <a:gd name="textAreaBottom" fmla="*/ 179280 h 179640"/>
            </a:gdLst>
            <a:ahLst/>
            <a:rect l="textAreaLeft" t="textAreaTop" r="textAreaRight" b="textAreaBottom"/>
            <a:pathLst>
              <a:path w="21600" h="21643">
                <a:moveTo>
                  <a:pt x="192" y="0"/>
                </a:moveTo>
                <a:arcTo wR="192" hR="192" stAng="16200000" swAng="-5400000"/>
                <a:lnTo>
                  <a:pt x="0" y="21451"/>
                </a:lnTo>
                <a:arcTo wR="192" hR="192" stAng="10800000" swAng="-5400000"/>
                <a:lnTo>
                  <a:pt x="21408" y="21643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0000" y="3240000"/>
            <a:ext cx="179280" cy="179640"/>
          </a:xfrm>
          <a:custGeom>
            <a:avLst/>
            <a:gdLst>
              <a:gd name="textAreaLeft" fmla="*/ 360 w 179280"/>
              <a:gd name="textAreaRight" fmla="*/ 178920 w 179280"/>
              <a:gd name="textAreaTop" fmla="*/ 360 h 179640"/>
              <a:gd name="textAreaBottom" fmla="*/ 179280 h 179640"/>
            </a:gdLst>
            <a:ahLst/>
            <a:rect l="textAreaLeft" t="textAreaTop" r="textAreaRight" b="textAreaBottom"/>
            <a:pathLst>
              <a:path w="21600" h="21643">
                <a:moveTo>
                  <a:pt x="192" y="0"/>
                </a:moveTo>
                <a:arcTo wR="192" hR="192" stAng="16200000" swAng="-5400000"/>
                <a:lnTo>
                  <a:pt x="0" y="21451"/>
                </a:lnTo>
                <a:arcTo wR="192" hR="192" stAng="10800000" swAng="-5400000"/>
                <a:lnTo>
                  <a:pt x="21408" y="21643"/>
                </a:lnTo>
                <a:arcTo wR="192" hR="192" stAng="5400000" swAng="-5400000"/>
                <a:lnTo>
                  <a:pt x="21600" y="192"/>
                </a:lnTo>
                <a:arcTo wR="192" hR="192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80000" y="3780000"/>
            <a:ext cx="179280" cy="179280"/>
          </a:xfrm>
          <a:prstGeom prst="roundRect">
            <a:avLst>
              <a:gd name="adj" fmla="val 889"/>
            </a:avLst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4319640"/>
            <a:ext cx="179280" cy="179280"/>
          </a:xfrm>
          <a:prstGeom prst="roundRect">
            <a:avLst>
              <a:gd name="adj" fmla="val 889"/>
            </a:avLst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911920" y="2522520"/>
            <a:ext cx="161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«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3075120"/>
            <a:ext cx="161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«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0360" y="3780000"/>
            <a:ext cx="16192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«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0360" y="4335480"/>
            <a:ext cx="161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«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479520" y="1457280"/>
          <a:ext cx="8229600" cy="2662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1920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счеты для построения круговой диа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</a:tr>
              <a:tr h="61920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иняли активн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61920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частвовали только в одном конкур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40248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Не участвов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402120"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86400" rIns="864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0" marR="86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ча 2. Участие учащихся 6 класса в празднике «День здоров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4076640"/>
            <a:ext cx="914400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0360" y="2205000"/>
            <a:ext cx="23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Gill Sans MT"/>
                <a:ea typeface="Arial Unicode MS"/>
              </a:rPr>
              <a:t>12 ∙ 18 = 216</a:t>
            </a:r>
            <a:r>
              <a:rPr b="0" lang="ru-RU" sz="2400" spc="-1" strike="noStrike" baseline="33000">
                <a:solidFill>
                  <a:srgbClr val="00b050"/>
                </a:solidFill>
                <a:latin typeface="Gill Sans MT"/>
                <a:ea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2781360"/>
            <a:ext cx="216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Gill Sans MT"/>
                <a:ea typeface="Arial Unicode MS"/>
              </a:rPr>
              <a:t>6 ∙ 18 = 108</a:t>
            </a:r>
            <a:r>
              <a:rPr b="0" lang="ru-RU" sz="2400" spc="-1" strike="noStrike" baseline="33000">
                <a:solidFill>
                  <a:srgbClr val="009900"/>
                </a:solidFill>
                <a:latin typeface="Gill Sans MT"/>
                <a:ea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2000" y="3357720"/>
            <a:ext cx="20872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Gill Sans MT"/>
                <a:ea typeface="Arial Unicode MS"/>
              </a:rPr>
              <a:t>2 ∙ 18 = 36</a:t>
            </a:r>
            <a:r>
              <a:rPr b="0" lang="ru-RU" sz="2400" spc="-1" strike="noStrike" baseline="33000">
                <a:solidFill>
                  <a:srgbClr val="00b050"/>
                </a:solidFill>
                <a:latin typeface="Gill Sans MT"/>
                <a:ea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56360" y="3789360"/>
            <a:ext cx="1008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360</a:t>
            </a:r>
            <a:r>
              <a:rPr b="0" lang="ru-RU" sz="2400" spc="-1" strike="noStrike" baseline="33000">
                <a:solidFill>
                  <a:srgbClr val="000000"/>
                </a:solidFill>
                <a:latin typeface="Gill Sans MT"/>
                <a:ea typeface="Arial Unicode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0720" y="4500720"/>
            <a:ext cx="5759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0:20=18</a:t>
            </a:r>
            <a:r>
              <a:rPr b="0" lang="ru-RU" sz="1800" spc="-1" strike="noStrike" baseline="33000">
                <a:solidFill>
                  <a:srgbClr val="000000"/>
                </a:solidFill>
                <a:latin typeface="Arial"/>
              </a:rPr>
              <a:t>0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79640" y="2247840"/>
            <a:ext cx="3779640" cy="3332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00360" y="386064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9280" y="3780000"/>
            <a:ext cx="53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0" y="2700360"/>
            <a:ext cx="90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Диаграмма. Участие учащихс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6  класса в «ДНЕ ЗДОРОВ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72360" y="1989000"/>
            <a:ext cx="230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Приняли активное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80000" y="2879640"/>
            <a:ext cx="2441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Участвовали т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в одном конкур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3645000"/>
            <a:ext cx="1728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Не принимали учас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40360" y="1979640"/>
            <a:ext cx="360360" cy="360360"/>
          </a:xfrm>
          <a:prstGeom prst="ellipse">
            <a:avLst/>
          </a:prstGeom>
          <a:solidFill>
            <a:srgbClr val="0047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2879640"/>
            <a:ext cx="360360" cy="360360"/>
          </a:xfrm>
          <a:prstGeom prst="ellipse">
            <a:avLst/>
          </a:prstGeom>
          <a:solidFill>
            <a:srgbClr val="ff42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0360" y="3780000"/>
            <a:ext cx="360360" cy="360360"/>
          </a:xfrm>
          <a:prstGeom prst="ellipse">
            <a:avLst/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Количество учащихся (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Диаграмма 2. Участие учащихс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ill Sans MT"/>
              </a:rPr>
              <a:t>6  класса в «ДНЕ ЗДОРОВ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445000"/>
            <a:ext cx="7200720" cy="180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76360" y="2349360"/>
            <a:ext cx="934920" cy="3095640"/>
          </a:xfrm>
          <a:prstGeom prst="rect">
            <a:avLst/>
          </a:prstGeom>
          <a:solidFill>
            <a:srgbClr val="3f9ee4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3640" y="3789360"/>
            <a:ext cx="934920" cy="1655640"/>
          </a:xfrm>
          <a:prstGeom prst="rect">
            <a:avLst/>
          </a:prstGeom>
          <a:solidFill>
            <a:srgbClr val="ffff00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869000"/>
            <a:ext cx="863640" cy="576000"/>
          </a:xfrm>
          <a:prstGeom prst="rect">
            <a:avLst/>
          </a:prstGeom>
          <a:solidFill>
            <a:srgbClr val="00b050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92360" y="328464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48000" y="4365720"/>
            <a:ext cx="647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932360" y="4940280"/>
            <a:ext cx="71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96000" y="2060640"/>
            <a:ext cx="287280" cy="287280"/>
          </a:xfrm>
          <a:prstGeom prst="rect">
            <a:avLst/>
          </a:prstGeom>
          <a:solidFill>
            <a:srgbClr val="3f9ee4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2852640"/>
            <a:ext cx="287280" cy="287280"/>
          </a:xfrm>
          <a:prstGeom prst="rect">
            <a:avLst/>
          </a:prstGeom>
          <a:solidFill>
            <a:srgbClr val="ffff00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716280"/>
            <a:ext cx="287280" cy="287280"/>
          </a:xfrm>
          <a:prstGeom prst="rect">
            <a:avLst/>
          </a:prstGeom>
          <a:solidFill>
            <a:srgbClr val="00b050"/>
          </a:solidFill>
          <a:ln w="25560">
            <a:solidFill>
              <a:srgbClr val="2e7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72360" y="1989000"/>
            <a:ext cx="230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Приняли активное уча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2637000"/>
            <a:ext cx="2160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Участвовали только в одном конкур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16720" y="3645000"/>
            <a:ext cx="1728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Arial Unicode MS"/>
              </a:rPr>
              <a:t>Не принимали учас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0" y="1554120"/>
          <a:ext cx="9144000" cy="5303880"/>
        </p:xfrm>
        <a:graphic>
          <a:graphicData uri="http://schemas.openxmlformats.org/drawingml/2006/table">
            <a:tbl>
              <a:tblPr/>
              <a:tblGrid>
                <a:gridCol w="2124000"/>
                <a:gridCol w="1533600"/>
                <a:gridCol w="1490760"/>
                <a:gridCol w="2448000"/>
                <a:gridCol w="1547640"/>
              </a:tblGrid>
              <a:tr h="1541520"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 (в годах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р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вод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79d1c"/>
                    </a:solidFill>
                  </a:tcPr>
                </a:tc>
              </a:tr>
              <a:tr h="1254240"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1253880"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  <a:tr h="1254240"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1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68400" rIns="68400" tIns="5040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-36360" y="297000"/>
            <a:ext cx="92167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36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100"/>
            </a:b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Задача2.</a:t>
            </a: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 Суточные нормы белков,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 жиров и углеводов в питании школьника (в граммах)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083" descr=""/>
          <p:cNvPicPr/>
          <p:nvPr/>
        </p:nvPicPr>
        <p:blipFill>
          <a:blip r:embed="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68360" y="1484280"/>
            <a:ext cx="82296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7680" bIns="45000" anchor="t">
            <a:noAutofit/>
          </a:bodyPr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мотрите на этикетки 2 любых продук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ьте диаграмму: соотнош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елков; жиров; углеводов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ждом из этих продук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437(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