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312560" y="1026720"/>
            <a:ext cx="493236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943D-828E-41A4-A17D-09F83C877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F7A7-3D2F-42E7-BC44-3F125DF67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38FE-0603-4DE2-875E-D0358D2AE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092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5080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C7D0-A3D7-46E5-A138-CE5FA25D4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6AE8D-9375-4B81-B18C-42FFC2173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65661-D866-4CE7-AE2A-BE7AA91EB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CA0F8-EE2B-4DFD-9D89-F7CA3CB74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B889F-00D1-4D89-A50B-881C7383E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CB968-4415-433F-817E-AA5537D3C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71040" y="5029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6A2CD-92E0-4A9D-9E5B-3E53A8C85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955FD-8AA4-40B8-8162-EA111A40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6087-63B8-4B6E-8255-637418E9D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9FBC3-E1BA-427A-A29A-1A0C73B2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93C3E-DF46-42C2-AD28-9BD6F928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61173-4441-4A34-8172-DF0F2C69A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42FAC-5461-4854-BED7-FAFE5D9B4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092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5080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B9FE1-6C15-413F-BE77-F8930CD94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C7325-4659-4925-B3F0-953B9FE1D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C207F-FA07-4604-A288-87F886E0A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25A16-72D7-45AF-AFC0-42C65DFCF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9241C-8A48-4A56-BAC2-550D275C3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B0DB1-81C1-48E8-9AFA-16A22F046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FD98-49CB-4708-8D59-A04F8EA81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71040" y="5029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A49E0-59A1-4E7A-9D07-B3CBCEFB9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41A2C-A413-45C6-B47B-56000A76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D75E7-FE9F-47E0-80D6-11016751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7BF20-0F18-4EBD-8E3C-70D19763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47137-166D-4AD3-81F5-41C4BA867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E293B-5602-4B66-B7D9-825140BC0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1092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95080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763DA-8C34-4618-B736-AF7A09BD4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B814D-C7AC-4B4B-9477-FF3BEA829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97D41-FBB8-47D1-9A62-161EAC2AB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F55C1-AB59-4EE2-93F7-15B4D5A33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CF6C-0CF3-496E-A689-4A342F1F4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8AED1-E773-48D4-929B-750F5E52A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966CF-331E-4E33-931D-D57BEB76D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671040" y="5029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8D69E-06A5-4B42-9123-9A0C6D50F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453B1-0F07-4444-AFB9-FDD395FC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731D1-175F-4D21-8B9A-F6E5377B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69FCE-9394-42A7-A552-BD1E54CC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57485-A1FF-4DB8-B391-796A0CA30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32197-3BFE-4160-A5BB-46C473C19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31092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95080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D7EBD-F4E1-4FF6-B31E-81952A615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E15B-CDA5-4EDB-952B-31BCD5468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71040" y="5029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71040" y="5029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BB1A-C1F8-4A42-B064-110DA6EFF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1092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5080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6451-5211-404B-B5D0-0250185F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4364-FD63-4F3A-B0EE-65AE0D2D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C124-4651-4DFB-8D89-FE135BF5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6480" y="0"/>
            <a:ext cx="9144000" cy="6286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cb7f8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3268800"/>
            <a:ext cx="9144000" cy="145800"/>
            <a:chOff x="0" y="3268800"/>
            <a:chExt cx="9144000" cy="145800"/>
          </a:xfrm>
        </p:grpSpPr>
        <p:sp>
          <p:nvSpPr>
            <p:cNvPr id="2" name=""/>
            <p:cNvSpPr/>
            <p:nvPr/>
          </p:nvSpPr>
          <p:spPr>
            <a:xfrm>
              <a:off x="0" y="3268800"/>
              <a:ext cx="9144000" cy="145800"/>
            </a:xfrm>
            <a:prstGeom prst="rect">
              <a:avLst/>
            </a:prstGeom>
            <a:solidFill>
              <a:srgbClr val="042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181480" y="3268800"/>
              <a:ext cx="1096920" cy="145800"/>
            </a:xfrm>
            <a:prstGeom prst="rect">
              <a:avLst/>
            </a:prstGeom>
            <a:solidFill>
              <a:srgbClr val="3f9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278400" y="3268800"/>
              <a:ext cx="1097280" cy="145800"/>
            </a:xfrm>
            <a:prstGeom prst="rect">
              <a:avLst/>
            </a:prstGeom>
            <a:solidFill>
              <a:srgbClr val="77b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375680" y="3268800"/>
              <a:ext cx="1096920" cy="145800"/>
            </a:xfrm>
            <a:prstGeom prst="rect">
              <a:avLst/>
            </a:prstGeom>
            <a:solidFill>
              <a:srgbClr val="e4a8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1752120"/>
            <a:ext cx="792180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"/>
          <p:cNvSpPr/>
          <p:nvPr/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  <a:ea typeface="Arial Unicode MS"/>
              </a:rPr>
              <a:t>Образец подзаголо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6575400" y="6356520"/>
            <a:ext cx="213048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Gill Sans MT"/>
                <a:ea typeface="Arial Unicode M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  <a:ea typeface="Arial Unicode MS"/>
              </a:rPr>
              <a:t>&lt;date/time&gt;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  <a:ea typeface="Arial Unicode MS"/>
              </a:rPr>
              <a:t>27.4.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3720" y="6356160"/>
            <a:ext cx="289260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46044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Gill Sans MT"/>
                <a:ea typeface="Arial Unicode M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92C3BE-6CE3-4E9B-BF48-3698ED8208FB}" type="slidenum">
              <a:rPr b="0" lang="ru-RU" sz="1800" spc="-1" strike="noStrike">
                <a:solidFill>
                  <a:srgbClr val="000000"/>
                </a:solidFill>
                <a:latin typeface="Gill Sans MT"/>
                <a:ea typeface="Arial Unicode MS"/>
              </a:rPr>
              <a:t>&lt;number&gt;</a:t>
            </a:fld>
            <a:fld id="{28C93476-894C-4563-98C9-E097A1C133A8}" type="slidenum">
              <a:rPr b="0" lang="ru-RU" sz="1800" spc="-1" strike="noStrike">
                <a:solidFill>
                  <a:srgbClr val="000000"/>
                </a:solidFill>
                <a:latin typeface="Gill Sans MT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6480" y="0"/>
            <a:ext cx="9144000" cy="6286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cb7f8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56840" y="1499760"/>
            <a:ext cx="822636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575400" y="6356520"/>
            <a:ext cx="213048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Gill Sans MT"/>
                <a:ea typeface="Arial Unicode M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  <a:ea typeface="Arial Unicode MS"/>
              </a:rPr>
              <a:t>&lt;date/time&gt;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  <a:ea typeface="Arial Unicode MS"/>
              </a:rPr>
              <a:t>27.4.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3720" y="6356520"/>
            <a:ext cx="289260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46044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Gill Sans MT"/>
                <a:ea typeface="Arial Unicode M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50E26F9-876D-499A-A452-3891EE626795}" type="slidenum">
              <a:rPr b="0" lang="ru-RU" sz="1800" spc="-1" strike="noStrike">
                <a:solidFill>
                  <a:srgbClr val="000000"/>
                </a:solidFill>
                <a:latin typeface="Gill Sans MT"/>
                <a:ea typeface="Arial Unicode MS"/>
              </a:rPr>
              <a:t>&lt;number&gt;</a:t>
            </a:fld>
            <a:fld id="{65AE630D-9857-4900-B93C-4986A6BB049A}" type="slidenum">
              <a:rPr b="0" lang="ru-RU" sz="1800" spc="-1" strike="noStrike">
                <a:solidFill>
                  <a:srgbClr val="000000"/>
                </a:solidFill>
                <a:latin typeface="Gill Sans MT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0" y="1371600"/>
            <a:ext cx="9144000" cy="73080"/>
            <a:chOff x="0" y="1371600"/>
            <a:chExt cx="9144000" cy="73080"/>
          </a:xfrm>
        </p:grpSpPr>
        <p:sp>
          <p:nvSpPr>
            <p:cNvPr id="54" name=""/>
            <p:cNvSpPr/>
            <p:nvPr/>
          </p:nvSpPr>
          <p:spPr>
            <a:xfrm>
              <a:off x="0" y="1371600"/>
              <a:ext cx="9144000" cy="73080"/>
            </a:xfrm>
            <a:prstGeom prst="rect">
              <a:avLst/>
            </a:prstGeom>
            <a:solidFill>
              <a:srgbClr val="042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181480" y="1371600"/>
              <a:ext cx="1096920" cy="73080"/>
            </a:xfrm>
            <a:prstGeom prst="rect">
              <a:avLst/>
            </a:prstGeom>
            <a:solidFill>
              <a:srgbClr val="3f9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278400" y="1371600"/>
              <a:ext cx="1097280" cy="73080"/>
            </a:xfrm>
            <a:prstGeom prst="rect">
              <a:avLst/>
            </a:prstGeom>
            <a:solidFill>
              <a:srgbClr val="77b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375680" y="1371600"/>
              <a:ext cx="1096920" cy="73080"/>
            </a:xfrm>
            <a:prstGeom prst="rect">
              <a:avLst/>
            </a:prstGeom>
            <a:solidFill>
              <a:srgbClr val="e4a8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5"/>
          <p:cNvSpPr>
            <a:spLocks noGrp="1"/>
          </p:cNvSpPr>
          <p:nvPr>
            <p:ph type="title"/>
          </p:nvPr>
        </p:nvSpPr>
        <p:spPr>
          <a:xfrm>
            <a:off x="456840" y="151920"/>
            <a:ext cx="82263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-6480" y="0"/>
            <a:ext cx="9144000" cy="6286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cb7f8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4035600" cy="361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Для правки структуры щелкните мыш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22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  <a:ea typeface="MS Gothic"/>
              </a:rPr>
              <a:t>Второ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858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  <a:ea typeface="MS Gothic"/>
              </a:rPr>
              <a:t>Трети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93000"/>
              </a:lnSpc>
              <a:spcAft>
                <a:spcPts val="575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  <a:ea typeface="MS Gothic"/>
              </a:rPr>
              <a:t>Четверты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93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  <a:ea typeface="MS Gothic"/>
              </a:rPr>
              <a:t>Пяты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93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  <a:ea typeface="MS Gothic"/>
              </a:rPr>
              <a:t>Шесто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93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  <a:ea typeface="MS Gothic"/>
              </a:rPr>
              <a:t>Седьмо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93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  <a:ea typeface="MS Gothic"/>
              </a:rPr>
              <a:t>Восьмо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561"/>
              </a:spcBef>
              <a:spcAft>
                <a:spcPts val="1426"/>
              </a:spcAft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Девятый уровень структурыОбразец тек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22200">
              <a:lnSpc>
                <a:spcPct val="93000"/>
              </a:lnSpc>
              <a:spcBef>
                <a:spcPts val="488"/>
              </a:spcBef>
              <a:spcAft>
                <a:spcPts val="1426"/>
              </a:spcAft>
              <a:buClr>
                <a:srgbClr val="108bb4"/>
              </a:buClr>
              <a:buSzPct val="60000"/>
              <a:buFont typeface="Wingdings 2" charset="2"/>
              <a:buChar char="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  <a:ea typeface="MS Gothic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85840">
              <a:lnSpc>
                <a:spcPct val="93000"/>
              </a:lnSpc>
              <a:spcBef>
                <a:spcPts val="400"/>
              </a:spcBef>
              <a:spcAft>
                <a:spcPts val="1426"/>
              </a:spcAft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  <a:ea typeface="MS Gothic"/>
              </a:rPr>
              <a:t>Трети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93000"/>
              </a:lnSpc>
              <a:spcBef>
                <a:spcPts val="363"/>
              </a:spcBef>
              <a:spcAft>
                <a:spcPts val="1426"/>
              </a:spcAft>
              <a:buClr>
                <a:srgbClr val="ae589f"/>
              </a:buClr>
              <a:buSzPct val="55000"/>
              <a:buFont typeface="Wingdings 2" charset="2"/>
              <a:buChar char="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  <a:ea typeface="MS Gothic"/>
              </a:rPr>
              <a:t>Четвер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93000"/>
              </a:lnSpc>
              <a:spcBef>
                <a:spcPts val="363"/>
              </a:spcBef>
              <a:spcAft>
                <a:spcPts val="1426"/>
              </a:spcAft>
              <a:buClr>
                <a:srgbClr val="77b559"/>
              </a:buClr>
              <a:buSzPct val="50000"/>
              <a:buFont typeface="Wingdings 2" charset="2"/>
              <a:buChar char="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  <a:ea typeface="MS Gothic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6575400" y="6356520"/>
            <a:ext cx="213048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Gill Sans MT"/>
                <a:ea typeface="Arial Unicode M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  <a:ea typeface="Arial Unicode MS"/>
              </a:rPr>
              <a:t>&lt;date/time&gt;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  <a:ea typeface="Arial Unicode MS"/>
              </a:rPr>
              <a:t>27.4.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ftr" idx="8"/>
          </p:nvPr>
        </p:nvSpPr>
        <p:spPr>
          <a:xfrm>
            <a:off x="3123720" y="6356520"/>
            <a:ext cx="289260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9"/>
          </p:nvPr>
        </p:nvSpPr>
        <p:spPr>
          <a:xfrm>
            <a:off x="46044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Gill Sans MT"/>
                <a:ea typeface="Arial Unicode M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00C4C77-88AA-43F6-BA81-0E4B56DF15E8}" type="slidenum">
              <a:rPr b="0" lang="ru-RU" sz="1800" spc="-1" strike="noStrike">
                <a:solidFill>
                  <a:srgbClr val="000000"/>
                </a:solidFill>
                <a:latin typeface="Gill Sans MT"/>
                <a:ea typeface="Arial Unicode MS"/>
              </a:rPr>
              <a:t>&lt;number&gt;</a:t>
            </a:fld>
            <a:fld id="{D84A7BF5-DEC9-4951-98DF-9A6249A7EDCD}" type="slidenum">
              <a:rPr b="0" lang="ru-RU" sz="1800" spc="-1" strike="noStrike">
                <a:solidFill>
                  <a:srgbClr val="000000"/>
                </a:solidFill>
                <a:latin typeface="Gill Sans MT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title"/>
          </p:nvPr>
        </p:nvSpPr>
        <p:spPr>
          <a:xfrm>
            <a:off x="456840" y="151920"/>
            <a:ext cx="82263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0" y="1371600"/>
            <a:ext cx="9144000" cy="73080"/>
            <a:chOff x="0" y="1371600"/>
            <a:chExt cx="9144000" cy="73080"/>
          </a:xfrm>
        </p:grpSpPr>
        <p:sp>
          <p:nvSpPr>
            <p:cNvPr id="103" name=""/>
            <p:cNvSpPr/>
            <p:nvPr/>
          </p:nvSpPr>
          <p:spPr>
            <a:xfrm>
              <a:off x="0" y="1371600"/>
              <a:ext cx="9144000" cy="73080"/>
            </a:xfrm>
            <a:prstGeom prst="rect">
              <a:avLst/>
            </a:prstGeom>
            <a:solidFill>
              <a:srgbClr val="042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181480" y="1371600"/>
              <a:ext cx="1096920" cy="73080"/>
            </a:xfrm>
            <a:prstGeom prst="rect">
              <a:avLst/>
            </a:prstGeom>
            <a:solidFill>
              <a:srgbClr val="3f9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78400" y="1371600"/>
              <a:ext cx="1097280" cy="73080"/>
            </a:xfrm>
            <a:prstGeom prst="rect">
              <a:avLst/>
            </a:prstGeom>
            <a:solidFill>
              <a:srgbClr val="77b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375680" y="1371600"/>
              <a:ext cx="1096920" cy="73080"/>
            </a:xfrm>
            <a:prstGeom prst="rect">
              <a:avLst/>
            </a:prstGeom>
            <a:solidFill>
              <a:srgbClr val="e4a8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45684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47F39C-B14A-4E08-8A1F-6A75C9F7210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6684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083" descr=""/>
          <p:cNvPicPr/>
          <p:nvPr/>
        </p:nvPicPr>
        <p:blipFill>
          <a:blip r:embed="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900000" y="1440000"/>
            <a:ext cx="7380360" cy="14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8000"/>
                </a:solidFill>
                <a:latin typeface="Comic Sans MS"/>
                <a:ea typeface="Arial Unicode MS"/>
              </a:rPr>
              <a:t>Кругвые и столбчатые диаграммы.</a:t>
            </a:r>
            <a:r>
              <a:rPr b="1" lang="ru-RU" sz="4400" spc="-1" strike="noStrike">
                <a:solidFill>
                  <a:srgbClr val="000000"/>
                </a:solidFill>
                <a:latin typeface="Gill Sans MT"/>
                <a:ea typeface="Arial Unicode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340000" y="4583160"/>
            <a:ext cx="6480000" cy="9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Comic Sans MS"/>
              </a:rPr>
              <a:t>6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Comic Sans MS"/>
              </a:rPr>
              <a:t>Орлова Екатерина Валерь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083" descr=""/>
          <p:cNvPicPr/>
          <p:nvPr/>
        </p:nvPicPr>
        <p:blipFill>
          <a:blip r:embed="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4859280" y="25560"/>
            <a:ext cx="4076640" cy="41148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0" y="79200"/>
            <a:ext cx="5040360" cy="37008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1620720" y="2556000"/>
            <a:ext cx="3419640" cy="3924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5219640" y="3959280"/>
            <a:ext cx="3600360" cy="1800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Диаграммы 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083" descr=""/>
          <p:cNvPicPr/>
          <p:nvPr/>
        </p:nvPicPr>
        <p:blipFill>
          <a:blip r:embed="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15680" y="314280"/>
            <a:ext cx="792468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just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Arial"/>
              </a:rPr>
              <a:t>Задача1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В классе 30 человек. 5 учеников написали контрольную работу на «5», 15 учеников «4», 8 учеников — тройку и 2 ученика двойку. Учителю нужно сдать анализ контрольной работы.</a:t>
            </a:r>
            <a:br>
              <a:rPr sz="2400"/>
            </a:b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По результатам построить диаграмму 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178920" y="2339640"/>
            <a:ext cx="88203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усть 1 ученик изображается столбиком высотой в 3 мм, тог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 учеников, получиыших «5», столбиком 15мм=1,5с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5 учеников, получивших «4»,столбиком 45мм=4,5с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8 учеников, получиыших «3», столбиком 24мм=2,4с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 ученика, получиыших «2», столбиком 6мм=0,6с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083" descr=""/>
          <p:cNvPicPr/>
          <p:nvPr/>
        </p:nvPicPr>
        <p:blipFill>
          <a:blip r:embed="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20360" y="25560"/>
            <a:ext cx="7808760" cy="1055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Диаграмма «Анализ контрольной работы »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079640" y="5219640"/>
            <a:ext cx="467964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60360" y="4319640"/>
            <a:ext cx="540000" cy="900000"/>
          </a:xfrm>
          <a:custGeom>
            <a:avLst/>
            <a:gdLst>
              <a:gd name="textAreaLeft" fmla="*/ 360 w 540000"/>
              <a:gd name="textAreaRight" fmla="*/ 539640 w 540000"/>
              <a:gd name="textAreaTop" fmla="*/ 360 h 900000"/>
              <a:gd name="textAreaBottom" fmla="*/ 899640 h 900000"/>
            </a:gdLst>
            <a:ahLst/>
            <a:rect l="textAreaLeft" t="textAreaTop" r="textAreaRight" b="textAreaBottom"/>
            <a:pathLst>
              <a:path w="21600" h="35990">
                <a:moveTo>
                  <a:pt x="63" y="0"/>
                </a:moveTo>
                <a:arcTo wR="63" hR="63" stAng="16200000" swAng="-5400000"/>
                <a:lnTo>
                  <a:pt x="0" y="35927"/>
                </a:lnTo>
                <a:arcTo wR="63" hR="63" stAng="10800000" swAng="-5400000"/>
                <a:lnTo>
                  <a:pt x="21537" y="35990"/>
                </a:lnTo>
                <a:arcTo wR="63" hR="63" stAng="5400000" swAng="-5400000"/>
                <a:lnTo>
                  <a:pt x="21600" y="63"/>
                </a:lnTo>
                <a:arcTo wR="63" hR="63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979640" y="2519280"/>
            <a:ext cx="539640" cy="2700360"/>
          </a:xfrm>
          <a:custGeom>
            <a:avLst/>
            <a:gdLst>
              <a:gd name="textAreaLeft" fmla="*/ 360 w 539640"/>
              <a:gd name="textAreaRight" fmla="*/ 539280 w 539640"/>
              <a:gd name="textAreaTop" fmla="*/ 360 h 2700360"/>
              <a:gd name="textAreaBottom" fmla="*/ 2700000 h 2700360"/>
            </a:gdLst>
            <a:ahLst/>
            <a:rect l="textAreaLeft" t="textAreaTop" r="textAreaRight" b="textAreaBottom"/>
            <a:pathLst>
              <a:path w="21600" h="108029">
                <a:moveTo>
                  <a:pt x="63" y="0"/>
                </a:moveTo>
                <a:arcTo wR="63" hR="63" stAng="16200000" swAng="-5400000"/>
                <a:lnTo>
                  <a:pt x="0" y="107966"/>
                </a:lnTo>
                <a:arcTo wR="63" hR="63" stAng="10800000" swAng="-5400000"/>
                <a:lnTo>
                  <a:pt x="21537" y="108029"/>
                </a:lnTo>
                <a:arcTo wR="63" hR="63" stAng="5400000" swAng="-5400000"/>
                <a:lnTo>
                  <a:pt x="21600" y="63"/>
                </a:lnTo>
                <a:arcTo wR="63" hR="63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700360" y="3780000"/>
            <a:ext cx="539640" cy="1439640"/>
          </a:xfrm>
          <a:custGeom>
            <a:avLst/>
            <a:gdLst>
              <a:gd name="textAreaLeft" fmla="*/ 360 w 539640"/>
              <a:gd name="textAreaRight" fmla="*/ 539280 w 539640"/>
              <a:gd name="textAreaTop" fmla="*/ 360 h 1439640"/>
              <a:gd name="textAreaBottom" fmla="*/ 1439280 h 1439640"/>
            </a:gdLst>
            <a:ahLst/>
            <a:rect l="textAreaLeft" t="textAreaTop" r="textAreaRight" b="textAreaBottom"/>
            <a:pathLst>
              <a:path w="21600" h="57600">
                <a:moveTo>
                  <a:pt x="63" y="0"/>
                </a:moveTo>
                <a:arcTo wR="63" hR="63" stAng="16200000" swAng="-5400000"/>
                <a:lnTo>
                  <a:pt x="0" y="57537"/>
                </a:lnTo>
                <a:arcTo wR="63" hR="63" stAng="10800000" swAng="-5400000"/>
                <a:lnTo>
                  <a:pt x="21537" y="57600"/>
                </a:lnTo>
                <a:arcTo wR="63" hR="63" stAng="5400000" swAng="-5400000"/>
                <a:lnTo>
                  <a:pt x="21600" y="63"/>
                </a:lnTo>
                <a:arcTo wR="63" hR="63" stAng="0" swAng="-5400000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19640" y="4859280"/>
            <a:ext cx="360360" cy="360360"/>
          </a:xfrm>
          <a:prstGeom prst="roundRect">
            <a:avLst>
              <a:gd name="adj" fmla="val 440"/>
            </a:avLst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260360" y="3959280"/>
            <a:ext cx="7207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960560" y="2160720"/>
            <a:ext cx="56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700360" y="3419640"/>
            <a:ext cx="56052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400560" y="4500720"/>
            <a:ext cx="30636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580000" y="2519280"/>
            <a:ext cx="179280" cy="179640"/>
          </a:xfrm>
          <a:custGeom>
            <a:avLst/>
            <a:gdLst>
              <a:gd name="textAreaLeft" fmla="*/ 360 w 179280"/>
              <a:gd name="textAreaRight" fmla="*/ 178920 w 179280"/>
              <a:gd name="textAreaTop" fmla="*/ 360 h 179640"/>
              <a:gd name="textAreaBottom" fmla="*/ 179280 h 179640"/>
            </a:gdLst>
            <a:ahLst/>
            <a:rect l="textAreaLeft" t="textAreaTop" r="textAreaRight" b="textAreaBottom"/>
            <a:pathLst>
              <a:path w="21600" h="21643">
                <a:moveTo>
                  <a:pt x="192" y="0"/>
                </a:moveTo>
                <a:arcTo wR="192" hR="192" stAng="16200000" swAng="-5400000"/>
                <a:lnTo>
                  <a:pt x="0" y="21451"/>
                </a:lnTo>
                <a:arcTo wR="192" hR="192" stAng="10800000" swAng="-5400000"/>
                <a:lnTo>
                  <a:pt x="21408" y="21643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580000" y="3240000"/>
            <a:ext cx="179280" cy="179640"/>
          </a:xfrm>
          <a:custGeom>
            <a:avLst/>
            <a:gdLst>
              <a:gd name="textAreaLeft" fmla="*/ 360 w 179280"/>
              <a:gd name="textAreaRight" fmla="*/ 178920 w 179280"/>
              <a:gd name="textAreaTop" fmla="*/ 360 h 179640"/>
              <a:gd name="textAreaBottom" fmla="*/ 179280 h 179640"/>
            </a:gdLst>
            <a:ahLst/>
            <a:rect l="textAreaLeft" t="textAreaTop" r="textAreaRight" b="textAreaBottom"/>
            <a:pathLst>
              <a:path w="21600" h="21643">
                <a:moveTo>
                  <a:pt x="192" y="0"/>
                </a:moveTo>
                <a:arcTo wR="192" hR="192" stAng="16200000" swAng="-5400000"/>
                <a:lnTo>
                  <a:pt x="0" y="21451"/>
                </a:lnTo>
                <a:arcTo wR="192" hR="192" stAng="10800000" swAng="-5400000"/>
                <a:lnTo>
                  <a:pt x="21408" y="21643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580000" y="3780000"/>
            <a:ext cx="179280" cy="179280"/>
          </a:xfrm>
          <a:prstGeom prst="roundRect">
            <a:avLst>
              <a:gd name="adj" fmla="val 889"/>
            </a:avLst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580000" y="4319640"/>
            <a:ext cx="179280" cy="179280"/>
          </a:xfrm>
          <a:prstGeom prst="roundRect">
            <a:avLst>
              <a:gd name="adj" fmla="val 889"/>
            </a:avLst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911920" y="2522520"/>
            <a:ext cx="16192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ценка «5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940360" y="3075120"/>
            <a:ext cx="16192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ценка «4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940360" y="3780000"/>
            <a:ext cx="161928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ценка «3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940360" y="4335480"/>
            <a:ext cx="16192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ценка «2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083" descr=""/>
          <p:cNvPicPr/>
          <p:nvPr/>
        </p:nvPicPr>
        <p:blipFill>
          <a:blip r:embed="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0" name=""/>
          <p:cNvGraphicFramePr/>
          <p:nvPr/>
        </p:nvGraphicFramePr>
        <p:xfrm>
          <a:off x="479520" y="1457280"/>
          <a:ext cx="8229600" cy="26622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19200">
                <a:tc>
                  <a:txBody>
                    <a:bodyPr lIns="86400" rIns="86400" tIns="799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Участ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79d1c"/>
                    </a:solidFill>
                  </a:tcPr>
                </a:tc>
                <a:tc>
                  <a:txBody>
                    <a:bodyPr lIns="86400" rIns="86400" tIns="799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Количество уча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79d1c"/>
                    </a:solidFill>
                  </a:tcPr>
                </a:tc>
                <a:tc>
                  <a:txBody>
                    <a:bodyPr lIns="86400" rIns="86400" tIns="799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Расчеты для построения круговой диаграм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79d1c"/>
                    </a:solidFill>
                  </a:tcPr>
                </a:tc>
              </a:tr>
              <a:tr h="619200">
                <a:tc>
                  <a:txBody>
                    <a:bodyPr lIns="86400" rIns="86400" tIns="799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Приняли активное участ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cf00"/>
                    </a:solidFill>
                  </a:tcPr>
                </a:tc>
                <a:tc>
                  <a:txBody>
                    <a:bodyPr lIns="86400" rIns="86400" tIns="799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2 уча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c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cf00"/>
                    </a:solidFill>
                  </a:tcPr>
                </a:tc>
              </a:tr>
              <a:tr h="619200">
                <a:tc>
                  <a:txBody>
                    <a:bodyPr lIns="86400" rIns="86400" tIns="799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Участвовали только в одном конкурс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cf00"/>
                    </a:solidFill>
                  </a:tcPr>
                </a:tc>
                <a:tc>
                  <a:txBody>
                    <a:bodyPr lIns="86400" rIns="86400" tIns="799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6 уча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c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cf00"/>
                    </a:solidFill>
                  </a:tcPr>
                </a:tc>
              </a:tr>
              <a:tr h="402480">
                <a:tc>
                  <a:txBody>
                    <a:bodyPr lIns="86400" rIns="86400" tIns="799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Не участвов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cf00"/>
                    </a:solidFill>
                  </a:tcPr>
                </a:tc>
                <a:tc>
                  <a:txBody>
                    <a:bodyPr lIns="86400" rIns="86400" tIns="799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 уча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c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cf00"/>
                    </a:solidFill>
                  </a:tcPr>
                </a:tc>
              </a:tr>
              <a:tr h="402120">
                <a:tc>
                  <a:txBody>
                    <a:bodyPr lIns="86400" rIns="86400" tIns="799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Всег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cf00"/>
                    </a:solidFill>
                  </a:tcPr>
                </a:tc>
                <a:tc>
                  <a:txBody>
                    <a:bodyPr lIns="86400" rIns="86400" tIns="799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0 уча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c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cf00"/>
                    </a:solidFill>
                  </a:tcPr>
                </a:tc>
              </a:tr>
            </a:tbl>
          </a:graphicData>
        </a:graphic>
      </p:graphicFrame>
      <p:sp>
        <p:nvSpPr>
          <p:cNvPr id="261" name="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768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дача 2. Участие учащихся 6 класса в празднике «День здоровь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4076640"/>
            <a:ext cx="9144000" cy="30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940360" y="2205000"/>
            <a:ext cx="2376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Gill Sans MT"/>
                <a:ea typeface="Arial Unicode MS"/>
              </a:rPr>
              <a:t>12 ∙ 18 = 216</a:t>
            </a:r>
            <a:r>
              <a:rPr b="0" lang="ru-RU" sz="2400" spc="-1" strike="noStrike" baseline="33000">
                <a:solidFill>
                  <a:srgbClr val="00b050"/>
                </a:solidFill>
                <a:latin typeface="Gill Sans MT"/>
                <a:ea typeface="Arial Unicode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940360" y="2781360"/>
            <a:ext cx="2160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Gill Sans MT"/>
                <a:ea typeface="Arial Unicode MS"/>
              </a:rPr>
              <a:t>6 ∙ 18 = 108</a:t>
            </a:r>
            <a:r>
              <a:rPr b="0" lang="ru-RU" sz="2400" spc="-1" strike="noStrike" baseline="33000">
                <a:solidFill>
                  <a:srgbClr val="009900"/>
                </a:solidFill>
                <a:latin typeface="Gill Sans MT"/>
                <a:ea typeface="Arial Unicode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12000" y="3357720"/>
            <a:ext cx="20872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Gill Sans MT"/>
                <a:ea typeface="Arial Unicode MS"/>
              </a:rPr>
              <a:t>2 ∙ 18 = 36</a:t>
            </a:r>
            <a:r>
              <a:rPr b="0" lang="ru-RU" sz="2400" spc="-1" strike="noStrike" baseline="33000">
                <a:solidFill>
                  <a:srgbClr val="00b050"/>
                </a:solidFill>
                <a:latin typeface="Gill Sans MT"/>
                <a:ea typeface="Arial Unicode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156360" y="3789360"/>
            <a:ext cx="1008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  <a:ea typeface="Arial Unicode MS"/>
              </a:rPr>
              <a:t>360</a:t>
            </a:r>
            <a:r>
              <a:rPr b="0" lang="ru-RU" sz="2400" spc="-1" strike="noStrike" baseline="33000">
                <a:solidFill>
                  <a:srgbClr val="000000"/>
                </a:solidFill>
                <a:latin typeface="Gill Sans MT"/>
                <a:ea typeface="Arial Unicode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20720" y="4500720"/>
            <a:ext cx="5759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60:20=18</a:t>
            </a:r>
            <a:r>
              <a:rPr b="0" lang="ru-RU" sz="1800" spc="-1" strike="noStrike" baseline="33000">
                <a:solidFill>
                  <a:srgbClr val="000000"/>
                </a:solidFill>
                <a:latin typeface="Arial"/>
              </a:rPr>
              <a:t>0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уче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dur="indefinite" fill="hold">
                      <p:stCondLst>
                        <p:cond delay="indefinite"/>
                      </p:stCondLst>
                      <p:childTnLst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2000" fill="hold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dur="indefinite" fill="hold">
                      <p:stCondLst>
                        <p:cond delay="indefinite"/>
                      </p:stCondLst>
                      <p:childTnLst>
                        <p:par>
                          <p:cTn id="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2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083" descr=""/>
          <p:cNvPicPr/>
          <p:nvPr/>
        </p:nvPicPr>
        <p:blipFill>
          <a:blip r:embed="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1079640" y="2247840"/>
            <a:ext cx="3779640" cy="333216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1800360" y="3860640"/>
            <a:ext cx="72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959280" y="3780000"/>
            <a:ext cx="53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240000" y="2700360"/>
            <a:ext cx="900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ill Sans MT"/>
              </a:rPr>
              <a:t>Диаграмма. Участие учащихся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Gill Sans MT"/>
              </a:rPr>
              <a:t>6  класса в «ДНЕ ЗДОРОВЬ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372360" y="1989000"/>
            <a:ext cx="23032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  <a:ea typeface="Arial Unicode MS"/>
              </a:rPr>
              <a:t>Приняли активное учас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80000" y="2879640"/>
            <a:ext cx="24418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  <a:ea typeface="Arial Unicode MS"/>
              </a:rPr>
              <a:t>Участвовали тольк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  <a:ea typeface="Arial Unicode MS"/>
              </a:rPr>
              <a:t>в одном конкур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516720" y="3645000"/>
            <a:ext cx="17287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  <a:ea typeface="Arial Unicode MS"/>
              </a:rPr>
              <a:t>Не принимали участ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940360" y="1979640"/>
            <a:ext cx="360360" cy="360360"/>
          </a:xfrm>
          <a:prstGeom prst="ellipse">
            <a:avLst/>
          </a:prstGeom>
          <a:solidFill>
            <a:srgbClr val="0047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940360" y="2879640"/>
            <a:ext cx="360360" cy="360360"/>
          </a:xfrm>
          <a:prstGeom prst="ellipse">
            <a:avLst/>
          </a:prstGeom>
          <a:solidFill>
            <a:srgbClr val="ff420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940360" y="3780000"/>
            <a:ext cx="360360" cy="360360"/>
          </a:xfrm>
          <a:prstGeom prst="ellipse">
            <a:avLst/>
          </a:prstGeom>
          <a:solidFill>
            <a:srgbClr val="ffd32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083" descr=""/>
          <p:cNvPicPr/>
          <p:nvPr/>
        </p:nvPicPr>
        <p:blipFill>
          <a:blip r:embed="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Количество учащихся (че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ill Sans MT"/>
              </a:rPr>
              <a:t>Диаграмма 2. Участие учащихся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Gill Sans MT"/>
              </a:rPr>
              <a:t>6  класса в «ДНЕ ЗДОРОВЬ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71640" y="5445000"/>
            <a:ext cx="7200720" cy="180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476360" y="2349360"/>
            <a:ext cx="934920" cy="3095640"/>
          </a:xfrm>
          <a:prstGeom prst="rect">
            <a:avLst/>
          </a:prstGeom>
          <a:solidFill>
            <a:srgbClr val="3f9ee4"/>
          </a:solidFill>
          <a:ln w="25560">
            <a:solidFill>
              <a:srgbClr val="2e74a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203640" y="3789360"/>
            <a:ext cx="934920" cy="1655640"/>
          </a:xfrm>
          <a:prstGeom prst="rect">
            <a:avLst/>
          </a:prstGeom>
          <a:solidFill>
            <a:srgbClr val="ffff00"/>
          </a:solidFill>
          <a:ln w="25560">
            <a:solidFill>
              <a:srgbClr val="2e74a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859280" y="4869000"/>
            <a:ext cx="863640" cy="576000"/>
          </a:xfrm>
          <a:prstGeom prst="rect">
            <a:avLst/>
          </a:prstGeom>
          <a:solidFill>
            <a:srgbClr val="00b050"/>
          </a:solidFill>
          <a:ln w="25560">
            <a:solidFill>
              <a:srgbClr val="2e74a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692360" y="3284640"/>
            <a:ext cx="6476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  <a:ea typeface="Arial Unicode MS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348000" y="4365720"/>
            <a:ext cx="6476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  <a:ea typeface="Arial Unicode MS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Gill Sans MT"/>
                <a:ea typeface="Arial Unicode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932360" y="4940280"/>
            <a:ext cx="719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  <a:ea typeface="Arial Unicode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ill Sans MT"/>
                <a:ea typeface="Arial Unicode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ill Sans MT"/>
                <a:ea typeface="Arial Unicode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796000" y="2060640"/>
            <a:ext cx="287280" cy="287280"/>
          </a:xfrm>
          <a:prstGeom prst="rect">
            <a:avLst/>
          </a:prstGeom>
          <a:solidFill>
            <a:srgbClr val="3f9ee4"/>
          </a:solidFill>
          <a:ln w="25560">
            <a:solidFill>
              <a:srgbClr val="2e74a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796000" y="2852640"/>
            <a:ext cx="287280" cy="287280"/>
          </a:xfrm>
          <a:prstGeom prst="rect">
            <a:avLst/>
          </a:prstGeom>
          <a:solidFill>
            <a:srgbClr val="ffff00"/>
          </a:solidFill>
          <a:ln w="25560">
            <a:solidFill>
              <a:srgbClr val="2e74a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867280" y="3716280"/>
            <a:ext cx="287280" cy="287280"/>
          </a:xfrm>
          <a:prstGeom prst="rect">
            <a:avLst/>
          </a:prstGeom>
          <a:solidFill>
            <a:srgbClr val="00b050"/>
          </a:solidFill>
          <a:ln w="25560">
            <a:solidFill>
              <a:srgbClr val="2e74a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372360" y="1989000"/>
            <a:ext cx="23032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  <a:ea typeface="Arial Unicode MS"/>
              </a:rPr>
              <a:t>Приняли активное учас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372360" y="2637000"/>
            <a:ext cx="216036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  <a:ea typeface="Arial Unicode MS"/>
              </a:rPr>
              <a:t>Участвовали только в одном конкур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516720" y="3645000"/>
            <a:ext cx="17287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  <a:ea typeface="Arial Unicode MS"/>
              </a:rPr>
              <a:t>Не принимали участ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dur="indefinite" fill="hold">
                      <p:stCondLst>
                        <p:cond delay="indefinite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083" descr=""/>
          <p:cNvPicPr/>
          <p:nvPr/>
        </p:nvPicPr>
        <p:blipFill>
          <a:blip r:embed="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7" name=""/>
          <p:cNvGraphicFramePr/>
          <p:nvPr/>
        </p:nvGraphicFramePr>
        <p:xfrm>
          <a:off x="0" y="1554120"/>
          <a:ext cx="9144000" cy="5303880"/>
        </p:xfrm>
        <a:graphic>
          <a:graphicData uri="http://schemas.openxmlformats.org/drawingml/2006/table">
            <a:tbl>
              <a:tblPr/>
              <a:tblGrid>
                <a:gridCol w="2124000"/>
                <a:gridCol w="1533600"/>
                <a:gridCol w="1490760"/>
                <a:gridCol w="2448000"/>
                <a:gridCol w="1547640"/>
              </a:tblGrid>
              <a:tr h="1541520">
                <a:tc>
                  <a:txBody>
                    <a:bodyPr lIns="68400" rIns="68400" tIns="5040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 (в годах)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79d1c"/>
                    </a:solidFill>
                  </a:tcPr>
                </a:tc>
                <a:tc>
                  <a:txBody>
                    <a:bodyPr lIns="68400" rIns="68400" tIns="5040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ки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79d1c"/>
                    </a:solidFill>
                  </a:tcPr>
                </a:tc>
                <a:tc>
                  <a:txBody>
                    <a:bodyPr lIns="68400" rIns="68400" tIns="5040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ры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79d1c"/>
                    </a:solidFill>
                  </a:tcPr>
                </a:tc>
                <a:tc>
                  <a:txBody>
                    <a:bodyPr lIns="68400" rIns="68400" tIns="5040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леводы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79d1c"/>
                    </a:solidFill>
                  </a:tcPr>
                </a:tc>
                <a:tc>
                  <a:txBody>
                    <a:bodyPr lIns="68400" rIns="68400" tIns="5040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79d1c"/>
                    </a:solidFill>
                  </a:tcPr>
                </a:tc>
              </a:tr>
              <a:tr h="1254240">
                <a:tc>
                  <a:txBody>
                    <a:bodyPr lIns="68400" rIns="68400" tIns="5040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-1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cf00"/>
                    </a:solidFill>
                  </a:tcPr>
                </a:tc>
                <a:tc>
                  <a:txBody>
                    <a:bodyPr lIns="68400" rIns="68400" tIns="5040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cf00"/>
                    </a:solidFill>
                  </a:tcPr>
                </a:tc>
                <a:tc>
                  <a:txBody>
                    <a:bodyPr lIns="68400" rIns="68400" tIns="5040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cf00"/>
                    </a:solidFill>
                  </a:tcPr>
                </a:tc>
                <a:tc>
                  <a:txBody>
                    <a:bodyPr lIns="68400" rIns="68400" tIns="5040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cf00"/>
                    </a:solidFill>
                  </a:tcPr>
                </a:tc>
                <a:tc>
                  <a:txBody>
                    <a:bodyPr lIns="68400" rIns="68400" tIns="5040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cf00"/>
                    </a:solidFill>
                  </a:tcPr>
                </a:tc>
              </a:tr>
              <a:tr h="1253880">
                <a:tc>
                  <a:txBody>
                    <a:bodyPr lIns="68400" rIns="68400" tIns="5040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-1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cf00"/>
                    </a:solidFill>
                  </a:tcPr>
                </a:tc>
                <a:tc>
                  <a:txBody>
                    <a:bodyPr lIns="68400" rIns="68400" tIns="5040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cf00"/>
                    </a:solidFill>
                  </a:tcPr>
                </a:tc>
                <a:tc>
                  <a:txBody>
                    <a:bodyPr lIns="68400" rIns="68400" tIns="5040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cf00"/>
                    </a:solidFill>
                  </a:tcPr>
                </a:tc>
                <a:tc>
                  <a:txBody>
                    <a:bodyPr lIns="68400" rIns="68400" tIns="5040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aecf00"/>
                    </a:solidFill>
                  </a:tcPr>
                </a:tc>
                <a:tc>
                  <a:txBody>
                    <a:bodyPr lIns="68400" rIns="68400" tIns="5040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cf00"/>
                    </a:solidFill>
                  </a:tcPr>
                </a:tc>
              </a:tr>
              <a:tr h="1254240">
                <a:tc>
                  <a:txBody>
                    <a:bodyPr lIns="68400" rIns="68400" tIns="5040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1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cf00"/>
                    </a:solidFill>
                  </a:tcPr>
                </a:tc>
                <a:tc>
                  <a:txBody>
                    <a:bodyPr lIns="68400" rIns="68400" tIns="5040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cf00"/>
                    </a:solidFill>
                  </a:tcPr>
                </a:tc>
                <a:tc>
                  <a:txBody>
                    <a:bodyPr lIns="68400" rIns="68400" tIns="5040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cf00"/>
                    </a:solidFill>
                  </a:tcPr>
                </a:tc>
                <a:tc>
                  <a:txBody>
                    <a:bodyPr lIns="68400" rIns="68400" tIns="5040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cf00"/>
                    </a:solidFill>
                  </a:tcPr>
                </a:tc>
                <a:tc>
                  <a:txBody>
                    <a:bodyPr lIns="68400" rIns="68400" tIns="5040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cf00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/>
          <p:nvPr/>
        </p:nvSpPr>
        <p:spPr>
          <a:xfrm>
            <a:off x="-36360" y="297000"/>
            <a:ext cx="921672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36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100"/>
            </a:b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Задача2.</a:t>
            </a: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 Суточные нормы белков,</a:t>
            </a: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 жиров и углеводов в питании школьника (в граммах)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083" descr=""/>
          <p:cNvPicPr/>
          <p:nvPr/>
        </p:nvPicPr>
        <p:blipFill>
          <a:blip r:embed="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468360" y="1484280"/>
            <a:ext cx="822960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7680" bIns="45000" anchor="t">
            <a:noAutofit/>
          </a:bodyPr>
          <a:p>
            <a:pPr>
              <a:lnSpc>
                <a:spcPct val="95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смотрите на этикетки 2 любых продукт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ставьте диаграмму: соотнош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белков; жиров; углеводов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 каждом из этих продукт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437(б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ill Sans MT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