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C7B1-2518-40AD-B710-6C3D402D3C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EFDF-7C4E-4FFE-8A11-83E447CB8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EE2-5F86-4B09-B224-11ED518054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9AE0-D881-4CC2-9A1F-F07733C38D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766-6204-42BF-926F-02B158AD60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454B-F188-495E-80BB-8661C4CFAA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7DD7-F378-4418-8BB5-228785711D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37C-3731-4EB1-AEFB-E8858E641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90A-BC61-4479-8FAA-CA1AE8D7D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622-EC72-4A81-9B7E-2D44AE730A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ED72-F1BD-4705-98F7-528F331E92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D9C-924E-4DF2-B200-C5A6F47B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2AE-1817-463C-A64D-3D66D1D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D6D-8C99-458F-AC06-87925ECC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4A2-E58E-41F0-BEA2-777CF1E9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F3B-0AEC-4203-A7B7-22E1DE3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4CF-9F5E-4D08-9FA9-1AE1642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32B-8F57-4A80-B257-86EA996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1D4-BB96-4225-9DDA-7577083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E13-E64D-4ADF-A041-26C5D49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CD1-AE44-4BEE-AE81-076E678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CA1-FFF8-4AD4-86FF-CD4161C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C35-B433-40EC-84C9-00B4A7B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6D82-81D9-4EC7-91EA-CCE90604CB25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Взаимодействие семьи и  школы в духовно – нравственном воспитании младшего школьника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через приобщение к чтению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8760" y="5013000"/>
            <a:ext cx="89294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чкур  Елена Михайловна 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ель начальных классов 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ОУ  МО  г.Нягань  «СОШ №6»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г.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357120"/>
            <a:ext cx="7529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Script"/>
              </a:rPr>
              <a:t>НЕТ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285560"/>
            <a:ext cx="7958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 заставляйте читать насильн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выбирайте книги для ребёнка пока он/она вас об этом не попросит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заставляйте читать слишком трудные книг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соревнуйтесь с ТВ в выборе времени для чтения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 проявляйте излишней озабоченности, если вам кажется, что у ребёнка не слишком быстрые успех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571680" y="857160"/>
            <a:ext cx="828648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критику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ёнка, если он старается читать. Поощряйте, поддерживайте и улучшение наступит быстре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сравнив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чтения ребёнка с братьями, сёстрами, другими деть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прекращ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ения детям вслух, как только он научился читать с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41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173b"/>
                </a:solidFill>
                <a:latin typeface="Times New Roman"/>
              </a:rPr>
              <a:t>Никогд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не отговарив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ёнка от чтения - читать «что-то»лучше, чем ничего не чит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85480" y="928800"/>
            <a:ext cx="8172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йдите спокойное мест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бёнок должен сидеть рядом и видеть книгу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Если ребёнку трудно прочесть слово, подскажите ег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Хвалите и подбадривайте на каждом этапе чтения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бсудите прочитанное, пусть ребёнок расскажет своими словами, о чём прочитал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едите для ребёнка, а затем совместно с ним «Дневник чтения», занося туда любимые книг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Script"/>
                <a:ea typeface="Times New Roman"/>
              </a:rPr>
              <a:t>Организация чтения дома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Script"/>
                <a:ea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741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907560"/>
            <a:ext cx="8497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042b"/>
                </a:solidFill>
                <a:latin typeface="Trebuchet MS"/>
              </a:rPr>
              <a:t>       </a:t>
            </a:r>
            <a:r>
              <a:rPr b="0" i="1" lang="ru-RU" sz="2400" spc="-1" strike="noStrike">
                <a:solidFill>
                  <a:srgbClr val="002060"/>
                </a:solidFill>
                <a:latin typeface="Trebuchet MS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Самое важное в воспитании – это духовно пробудить ребёнка и указать ему перед лицом грядущих трудностей, а может быть, уже подстерегающих его опасностей и искушений жизни – источник силы и утешения в его собственной душе. Надо воспитать в его душе будущего победителя, который умел бы внутренне уважать самого себя и утвердить своё духовное достоинство и свою свободу – духовную личность, пред которой были бы бессильны все соблазны и искушения современного сатанизма»» И.А.Ильин «О семье и воспитании» из труда «Путь духовного обновления».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1413000"/>
            <a:ext cx="8715240" cy="33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Читаем вместе в школе 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и семье</a:t>
            </a:r>
            <a:endParaRPr b="0" lang="en-US" sz="7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8760" y="4214520"/>
            <a:ext cx="89294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3042b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Segoe Script"/>
              </a:rPr>
              <a:t>Детское чтение:</a:t>
            </a:r>
            <a:endParaRPr b="0" lang="en-US" sz="60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е,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уговое, 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е,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ое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"для души".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2303640" cy="600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2362320" cy="30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448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"/>
          <p:cNvPicPr/>
          <p:nvPr/>
        </p:nvPicPr>
        <p:blipFill>
          <a:blip r:embed="rId1"/>
          <a:srcRect l="0" t="0" r="0" b="50396"/>
          <a:stretch/>
        </p:blipFill>
        <p:spPr>
          <a:xfrm>
            <a:off x="179280" y="3860640"/>
            <a:ext cx="2808360" cy="206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2664000" cy="214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rcRect l="0" t="0" r="0" b="50396"/>
          <a:stretch/>
        </p:blipFill>
        <p:spPr>
          <a:xfrm>
            <a:off x="3276720" y="2565360"/>
            <a:ext cx="2590560" cy="191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273528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rcRect l="0" t="0" r="0" b="50396"/>
          <a:stretch/>
        </p:blipFill>
        <p:spPr>
          <a:xfrm>
            <a:off x="179280" y="981000"/>
            <a:ext cx="2808360" cy="206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rcRect l="0" t="0" r="0" b="50396"/>
          <a:stretch/>
        </p:blipFill>
        <p:spPr>
          <a:xfrm>
            <a:off x="3276720" y="333360"/>
            <a:ext cx="2590560" cy="191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18360" y="1052640"/>
            <a:ext cx="2717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DSC00015.JPG"/>
          <p:cNvPicPr/>
          <p:nvPr/>
        </p:nvPicPr>
        <p:blipFill>
          <a:blip r:embed="rId1"/>
          <a:stretch/>
        </p:blipFill>
        <p:spPr>
          <a:xfrm>
            <a:off x="225360" y="255600"/>
            <a:ext cx="3986280" cy="5937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DSC00007.JPG"/>
          <p:cNvPicPr/>
          <p:nvPr/>
        </p:nvPicPr>
        <p:blipFill>
          <a:blip r:embed="rId2"/>
          <a:stretch/>
        </p:blipFill>
        <p:spPr>
          <a:xfrm>
            <a:off x="4694400" y="328680"/>
            <a:ext cx="4078080" cy="608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DSC00008.JPG"/>
          <p:cNvPicPr/>
          <p:nvPr/>
        </p:nvPicPr>
        <p:blipFill>
          <a:blip r:embed="rId3"/>
          <a:stretch/>
        </p:blipFill>
        <p:spPr>
          <a:xfrm>
            <a:off x="2389320" y="3565440"/>
            <a:ext cx="41511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609480"/>
            <a:ext cx="79581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А и НЕТ для родителей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А</a:t>
            </a:r>
            <a:br>
              <a:rPr sz="4000"/>
            </a:br>
            <a:endParaRPr b="0" lang="en-US" sz="40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28556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ак можно чаще читайте своим детям (на ночь сказку или рассказ вечером)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те вместе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 своим ребёнком 10 минут каждый день ( попеременно по 1 предложению, абзацу, странице)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те сами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, показывая пример своему ребёнку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ешайте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ребёнку самому выбирать книги для чтения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57120" y="428760"/>
            <a:ext cx="878688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ощря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его желание подержать, полистать, поиграть с книг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заботьтес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ь о том, чтобы у ребёнка дома было много красочных кни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сеща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с ребёнком регулярно книжный магазин или библиот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ари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ребёнку кни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ощря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ребёнка в чтении другим членам семьи, друзьям, знако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дела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чтение приятным времяпрепровожд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сегда хвалите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ребёнка, если он/она чит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29:15Z</dcterms:created>
  <dc:creator>мы</dc:creator>
  <dc:description/>
  <cp:keywords>Education</cp:keywords>
  <dc:language>en-US</dc:language>
  <cp:lastModifiedBy>Таяс</cp:lastModifiedBy>
  <dcterms:modified xsi:type="dcterms:W3CDTF">2013-05-05T10:13:32Z</dcterms:modified>
  <cp:revision>18</cp:revision>
  <dc:subject>Template Ready</dc:subject>
  <dc:title>Читаем вместе в школе  и семье</dc:title>
</cp:coreProperties>
</file>