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F14A-DCA7-48C2-9C3F-E902ACE0E1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7590-5B5C-4999-9289-7762190412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364-BFFE-4FC0-A67E-A1CD3CC501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2669-D042-466B-9206-45A71F77CA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43CD-6D8E-43C8-B3D0-A9D481562E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35F2-F3A1-4D3B-A560-E8B3E23EA5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AB1-F8C2-4B45-A45C-E5F25E055D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C373-F365-49FF-8DA4-1DFF260879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EFC-70CC-4C19-8835-B2CA328091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8CD3-4A83-49C2-9075-7CD81299EB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365E-5458-4BB7-8F3F-53FFEAB9ED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417-72C2-445A-85A0-DFAD3FC7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31A-2316-47D5-8136-6266FB6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54C-F5A0-40A0-A5A4-B15BCB10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10-ACA1-48F5-AA79-4176BBA3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F13-1A51-47F5-9DD5-ED066CB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3DD-CE06-4283-9934-19E680C5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CBD-2E9C-4C1B-B5B7-49577737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74D-B922-418F-8673-05F9863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7AB-3784-4C33-ACC7-1A0D3EB4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94B-E1BE-4D9D-BBD0-906A3F1E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2DB-AA10-4B2B-9FA5-696C2C1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180-CC11-4176-ADB9-E9F6641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1F1-7DBE-4DDE-A13B-8186E3DC73B7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Взаимодействие семьи и  школы в духовно – нравственном воспитании младшего школьника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через приобщение к чтению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28760" y="5013000"/>
            <a:ext cx="89294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чкур  Елена Михайловна 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ель начальных классов 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БОУ  МО  г.Нягань  «СОШ №6»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3г.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357120"/>
            <a:ext cx="7529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Script"/>
              </a:rPr>
              <a:t>НЕТ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285560"/>
            <a:ext cx="7958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 заставляйте читать насильн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выбирайте книги для ребёнка пока он/она вас об этом не попросит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заставляйте читать слишком трудные книг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соревнуйтесь с ТВ в выборе времени для чтения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</a:t>
            </a:r>
            <a:r>
              <a:rPr b="1" lang="ru-RU" sz="2800" spc="-1" strike="noStrike">
                <a:solidFill>
                  <a:srgbClr val="03042b"/>
                </a:solidFill>
                <a:latin typeface="Times New Roman"/>
                <a:ea typeface="Times New Roman"/>
              </a:rPr>
              <a:t> проявляйте излишней озабоченности, если вам кажется, что у ребёнка не слишком быстрые успех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4"/>
          <p:cNvSpPr/>
          <p:nvPr/>
        </p:nvSpPr>
        <p:spPr>
          <a:xfrm>
            <a:off x="571680" y="857160"/>
            <a:ext cx="828648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критику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ёнка, если он старается читать. Поощряйте, поддерживайте и улучшение наступит быстре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сравнив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чтения ребёнка с братьями, сёстрами, другими деть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Не прекращ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ения детям вслух, как только он научился читать с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75"/>
              </a:spcBef>
              <a:buClr>
                <a:srgbClr val="411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1173b"/>
                </a:solidFill>
                <a:latin typeface="Times New Roman"/>
              </a:rPr>
              <a:t>Никогда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 не отговаривайт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бёнка от чтения - читать «что-то»лучше, чем ничего не чита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85480" y="928800"/>
            <a:ext cx="81723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Найдите спокойное мест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Ребёнок должен сидеть рядом и видеть книгу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Если ребёнку трудно прочесть слово, подскажите его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Хвалите и подбадривайте на каждом этапе чтения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Обсудите прочитанное, пусть ребёнок расскажет своими словами, о чём прочитал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194d"/>
                </a:solidFill>
                <a:latin typeface="Times New Roman"/>
                <a:ea typeface="Times New Roman"/>
              </a:rPr>
              <a:t>Ведите для ребёнка, а затем совместно с ним «Дневник чтения», занося туда любимые книги.</a:t>
            </a:r>
            <a:endParaRPr b="0" lang="en-US" sz="28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19194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9194d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Segoe Script"/>
                <a:ea typeface="Times New Roman"/>
              </a:rPr>
              <a:t>Организация чтения дома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Segoe Script"/>
                <a:ea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7418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4920" y="907560"/>
            <a:ext cx="8497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042b"/>
                </a:solidFill>
                <a:latin typeface="Trebuchet MS"/>
              </a:rPr>
              <a:t>       </a:t>
            </a:r>
            <a:r>
              <a:rPr b="0" i="1" lang="ru-RU" sz="2400" spc="-1" strike="noStrike">
                <a:solidFill>
                  <a:srgbClr val="002060"/>
                </a:solidFill>
                <a:latin typeface="Trebuchet MS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Самое важное в воспитании – это духовно пробудить ребёнка и указать ему перед лицом грядущих трудностей, а может быть, уже подстерегающих его опасностей и искушений жизни – источник силы и утешения в его собственной душе. Надо воспитать в его душе будущего победителя, который умел бы внутренне уважать самого себя и утвердить своё духовное достоинство и свою свободу – духовную личность, пред которой были бы бессильны все соблазны и искушения современного сатанизма»» И.А.Ильин «О семье и воспитании» из труда «Путь духовного обновления».</a:t>
            </a: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1413000"/>
            <a:ext cx="8715240" cy="33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Читаем вместе в школе 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Segoe Script"/>
                <a:ea typeface="Arabic Typesetting"/>
              </a:rPr>
              <a:t>и семье</a:t>
            </a:r>
            <a:endParaRPr b="0" lang="en-US" sz="7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8760" y="4214520"/>
            <a:ext cx="8929440" cy="18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3042b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Segoe Script"/>
              </a:rPr>
              <a:t>Детское чтение:</a:t>
            </a:r>
            <a:endParaRPr b="0" lang="en-US" sz="60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е,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уговое, 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ое,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ое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ение "для души".</a:t>
            </a: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348000" y="404640"/>
            <a:ext cx="2303640" cy="600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227640" y="1700280"/>
            <a:ext cx="2362320" cy="3024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244800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"/>
          <p:cNvPicPr/>
          <p:nvPr/>
        </p:nvPicPr>
        <p:blipFill>
          <a:blip r:embed="rId1"/>
          <a:srcRect l="0" t="0" r="0" b="50396"/>
          <a:stretch/>
        </p:blipFill>
        <p:spPr>
          <a:xfrm>
            <a:off x="179280" y="3860640"/>
            <a:ext cx="2808360" cy="2063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6300720" y="3716280"/>
            <a:ext cx="2664000" cy="2146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rcRect l="0" t="0" r="0" b="50396"/>
          <a:stretch/>
        </p:blipFill>
        <p:spPr>
          <a:xfrm>
            <a:off x="3276720" y="2565360"/>
            <a:ext cx="2590560" cy="191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2735280" cy="220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rcRect l="0" t="0" r="0" b="50396"/>
          <a:stretch/>
        </p:blipFill>
        <p:spPr>
          <a:xfrm>
            <a:off x="179280" y="981000"/>
            <a:ext cx="2808360" cy="2063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rcRect l="0" t="0" r="0" b="50396"/>
          <a:stretch/>
        </p:blipFill>
        <p:spPr>
          <a:xfrm>
            <a:off x="3276720" y="333360"/>
            <a:ext cx="2590560" cy="1913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18360" y="1052640"/>
            <a:ext cx="2717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DSC00015.JPG"/>
          <p:cNvPicPr/>
          <p:nvPr/>
        </p:nvPicPr>
        <p:blipFill>
          <a:blip r:embed="rId1"/>
          <a:stretch/>
        </p:blipFill>
        <p:spPr>
          <a:xfrm>
            <a:off x="225360" y="255600"/>
            <a:ext cx="3986280" cy="59371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" descr="DSC00007.JPG"/>
          <p:cNvPicPr/>
          <p:nvPr/>
        </p:nvPicPr>
        <p:blipFill>
          <a:blip r:embed="rId2"/>
          <a:stretch/>
        </p:blipFill>
        <p:spPr>
          <a:xfrm>
            <a:off x="4694400" y="328680"/>
            <a:ext cx="4078080" cy="60847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DSC00008.JPG"/>
          <p:cNvPicPr/>
          <p:nvPr/>
        </p:nvPicPr>
        <p:blipFill>
          <a:blip r:embed="rId3"/>
          <a:stretch/>
        </p:blipFill>
        <p:spPr>
          <a:xfrm>
            <a:off x="2389320" y="3565440"/>
            <a:ext cx="41511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609480"/>
            <a:ext cx="795816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А и НЕТ для родителей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Segoe Script"/>
              </a:rPr>
              <a:t>ДА</a:t>
            </a:r>
            <a:br>
              <a:rPr sz="4000"/>
            </a:br>
            <a:endParaRPr b="0" lang="en-US" sz="40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28556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ак можно чаще читайте своим детям (на ночь сказку или рассказ вечером)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те вместе 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 своим ребёнком 10 минут каждый день ( попеременно по 1 предложению, абзацу, странице)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тайте сами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, показывая пример своему ребёнку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решайте</a:t>
            </a:r>
            <a:r>
              <a:rPr b="1" lang="ru-RU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ребёнку самому выбирать книги для чтения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357120" y="428760"/>
            <a:ext cx="878688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ощря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его желание подержать, полистать, поиграть с книг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заботьтес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ь о том, чтобы у ребёнка дома было много красочных кни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сеща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с ребёнком регулярно книжный магазин или библиот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Дари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ребёнку кни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ощря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ребёнка в чтении другим членам семьи, друзьям, знако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делайте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 чтение приятным времяпрепровожд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63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сегда хвалите </a:t>
            </a:r>
            <a:r>
              <a:rPr b="1" lang="ru-RU" sz="2800" spc="-1" strike="noStrike">
                <a:solidFill>
                  <a:srgbClr val="222268"/>
                </a:solidFill>
                <a:latin typeface="Times New Roman"/>
              </a:rPr>
              <a:t>ребёнка, если он/она чита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8:29:15Z</dcterms:created>
  <dc:creator>мы</dc:creator>
  <dc:description/>
  <cp:keywords>Education</cp:keywords>
  <dc:language>en-US</dc:language>
  <cp:lastModifiedBy>Таяс</cp:lastModifiedBy>
  <dcterms:modified xsi:type="dcterms:W3CDTF">2013-05-05T10:13:32Z</dcterms:modified>
  <cp:revision>18</cp:revision>
  <dc:subject>Template Ready</dc:subject>
  <dc:title>Читаем вместе в школе  и семье</dc:title>
</cp:coreProperties>
</file>