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F18-151C-4E8B-8509-B54D43BF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367-7814-414E-9669-AE9597D3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059-A14A-4512-9F97-79932F77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535-582A-47B3-A447-6B8E8BC6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064-04A4-400C-BAE0-8066299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0FB-0414-414E-B331-5661C0CC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8B8-9C7E-47AB-B57D-9E4D2671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AC5-2142-4FEA-847C-43F51E09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B5E-C4F7-4264-8CBE-0CD6A008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B4F-5AB1-44C5-BDE8-0E3288BC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EDE-0E29-4C41-96CA-50C91C84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0B20-96B5-4F69-BB8B-05FA511D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7882-59F4-43F6-B948-5056E058B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livejournal.com/mzk/pic/009x851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hihuashki.ru/sites/default/files/images/u8/cat-mous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desktop.ru/wallpaper/6148_1024x768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arenbrug.ru/images/upload/webnieuwsclov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Экологическая задача Ч.Дарви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ществует ли какая-либо связ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жду числом «старых дев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величиной удоя ко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данной местности?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4720" y="333000"/>
            <a:ext cx="446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величение числа старых дев в данной местности - увеличение количества кошек, которых заводят старые дев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Картинка 81 из 8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25360"/>
            <a:ext cx="38736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715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меньшение количества мыш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Картинка 29 из 612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700280"/>
            <a:ext cx="72010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личества шмелей, гнезда которых часто разоряют мыши - повышение урожайности клев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Картинка 19 из 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2421000"/>
            <a:ext cx="5327640" cy="40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увеличение удоя у коров в данной мест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Картинка 116 из 1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806480"/>
            <a:ext cx="655344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6:40Z</dcterms:created>
  <dc:creator>Пользователь</dc:creator>
  <dc:description/>
  <dc:language>en-US</dc:language>
  <cp:lastModifiedBy>Пользователь</cp:lastModifiedBy>
  <dcterms:modified xsi:type="dcterms:W3CDTF">2011-03-26T17:37:56Z</dcterms:modified>
  <cp:revision>3</cp:revision>
  <dc:subject/>
  <dc:title>Увеличение числа старых дев в данной местности / увеличение количества кошек, которых заводят старые девы </dc:title>
</cp:coreProperties>
</file>