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DAA-F09A-499A-A7C1-6A76D879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B02-31C9-43F4-8976-0E7EABD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494-957A-4B05-9A3C-7A6E33EE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D59-5CDB-4C24-9DC3-A4F9DE8E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152-5C47-4C13-BC9C-68D55C7B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8C0-AD13-4A05-AC15-FC09A3CD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47B-A129-40AA-BA97-4E0F87D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B07-670B-44E5-8B71-92207348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B4A-D457-4A3A-9493-78568B0C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2FE-6DD9-4441-A33C-299CF26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08C-9318-4C11-961A-23542A2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40D-911A-4003-8313-FC20A2B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3BB-5C93-4995-A102-8C9408D89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livejournal.com/mzk/pic/009x851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hihuashki.ru/sites/default/files/images/u8/cat-m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desktop.ru/wallpaper/6148_1024x76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renbrug.ru/images/upload/webnieuwsclov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Экологическая задача Ч.Дарв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ществует ли какая-либо связ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ду числом «старых дев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величиной удоя к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данной местности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720" y="33300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величение числа старых дев в данной местности - увеличение количества кошек, которых заводят старые дев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81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3873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715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меньшение количества мыш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9 из 612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00280"/>
            <a:ext cx="72010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личества шмелей, гнезда которых часто разоряют мыши - повышение урожайности клев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9 из 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421000"/>
            <a:ext cx="5327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величение удоя у коров в данной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16 из 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806480"/>
            <a:ext cx="655344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6:40Z</dcterms:created>
  <dc:creator>Пользователь</dc:creator>
  <dc:description/>
  <dc:language>en-US</dc:language>
  <cp:lastModifiedBy>Пользователь</cp:lastModifiedBy>
  <dcterms:modified xsi:type="dcterms:W3CDTF">2011-03-26T17:37:56Z</dcterms:modified>
  <cp:revision>3</cp:revision>
  <dc:subject/>
  <dc:title>Увеличение числа старых дев в данной местности / увеличение количества кошек, которых заводят старые девы </dc:title>
</cp:coreProperties>
</file>