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6.png" ContentType="image/png"/>
  <Override PartName="/ppt/media/image41.jpeg" ContentType="image/jpeg"/>
  <Override PartName="/ppt/media/image45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13.png" ContentType="image/png"/>
  <Override PartName="/ppt/media/image3.jpeg" ContentType="image/jpeg"/>
  <Override PartName="/ppt/media/image37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48.png" ContentType="image/png"/>
  <Override PartName="/ppt/media/image11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3130-69FB-4655-A8CC-35FF671A9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A4A4-1A30-4B41-976A-8E7043308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D510-1F27-43B7-B814-41498D696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3510-1B43-47FE-A5CD-6C2A82C7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8FE5-5F82-43A7-8A09-2F4C6BF8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DEE6-D0B5-4F85-A20E-F8230EBB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F902-2509-44D2-B968-41A76AA4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0523-122A-4B0A-99F5-1F5967A5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7833-6375-4D91-A6CD-DF28BC5B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815D-1783-46A8-834A-9531A35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9C5-6A67-44C5-BEB6-33204548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4240-D353-485D-B36F-5C551FCD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66EA-D560-46D4-BA53-2F9BCFA2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78D4-FDB1-43D9-86B2-4AC6811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9B0E-6D90-494F-BA9F-79A6466E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2904-5111-4BF4-A12F-51581404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9904-D08F-40CF-BF00-BBE1323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A5EA-5671-42C0-9CFF-DB78DF73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097F-DD7B-4DDD-A6F8-64564BD2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39B-0859-497F-AF4A-354C1541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F865-94FE-4F80-9CF4-B955174B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6446-BD67-46A2-AEBE-A8A984AA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B03C-797B-4B88-8126-50F37DB2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0A774-6E22-4156-9039-76C2B630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FF85-4D18-4E7C-8A01-D9DFF72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11256-DD56-47D8-91D2-DD19056E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90CF-8355-4D80-B6F3-6577F21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9FA4-BC24-4670-86BD-BE25839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2701-BBBA-4878-80BB-6B9B810A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63ED9-F866-47F6-ADAF-ABE966FA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F3BE-DE9E-4DD1-A04E-69FA986D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FE2D-EEE6-4686-9FF4-A92521EE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F9B9-5A78-4765-9AB7-5B9A95FB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ED030-47FF-49F7-BD1F-DF2605FE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EEFC-4222-4E1F-9766-779BA15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40EB-1B85-46B6-BB4D-B5EA71D1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1660-32EA-4680-A92A-E7CC1921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6C16E-6D32-43CC-B22E-4DE13F33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8E8E-71B5-4A35-83E3-7646433B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03BB-D472-4380-8C3E-F1194E3E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D52C-26A9-4A38-8B79-205EB483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A103E-F354-4CCC-BE15-D6FCC44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3AFC5-A6F7-4C80-9BF7-F92E35C8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AF24F-0C08-478C-87E3-E1F2408B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4401-1317-4193-B63A-680BEA06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61D9-4341-4615-AC2B-6C72E17E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2C8B-1A24-44F3-9696-89289932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9E8D-B43D-4014-9C0C-D8D9D03C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718C-C1C0-4631-A5D0-0201BF8F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EC31-2D40-4F91-9B06-25C1510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E107-0E3D-44EA-A11F-4F724A81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5BAF-0CEB-4014-AA8E-A0B038016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65F3-788B-47A8-BFA1-B7BADDA4BCE4}" type="slidenum">
              <a:rPr b="0" lang="en-US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FFE0-2F96-4EA6-B449-1E0FB70F50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5F0-D9AB-44B7-A6F0-1C523E149891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евой фестиваль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Шаг в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a6"/>
                </a:solidFill>
                <a:latin typeface="Arial"/>
              </a:rPr>
              <a:t>«Энергетические напитки в жизни подрос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6"/>
                </a:solidFill>
                <a:latin typeface="Arial"/>
              </a:rPr>
              <a:t>Автор: </a:t>
            </a: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Юдин Александ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учащийся 7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6"/>
                </a:solidFill>
                <a:latin typeface="Arial"/>
              </a:rPr>
              <a:t>Руководитель: </a:t>
            </a: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Куппа Т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класс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a6"/>
                </a:solidFill>
                <a:latin typeface="Arial"/>
              </a:rPr>
              <a:t>г.Барнаул, 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229600" cy="1203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Новый рисунок (1)"/>
          <p:cNvPicPr/>
          <p:nvPr/>
        </p:nvPicPr>
        <p:blipFill>
          <a:blip r:embed="rId2"/>
          <a:stretch/>
        </p:blipFill>
        <p:spPr>
          <a:xfrm>
            <a:off x="533520" y="4191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35200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Содержимое 3"/>
          <p:cNvGraphicFramePr/>
          <p:nvPr/>
        </p:nvGraphicFramePr>
        <p:xfrm>
          <a:off x="457200" y="1981080"/>
          <a:ext cx="822960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Содержимое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375760" cy="1158840"/>
          </a:xfrm>
          <a:prstGeom prst="rect">
            <a:avLst/>
          </a:prstGeom>
          <a:ln w="0">
            <a:noFill/>
          </a:ln>
        </p:spPr>
      </p:pic>
      <p:pic>
        <p:nvPicPr>
          <p:cNvPr id="230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21760" cy="115884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3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Documents and Settings\user\Рабочий стол\ЭНЕРГЕТИЧЕСКИЕ НАПИТКИ\Новая папка\Копия SAM_4498.JPG"/>
          <p:cNvPicPr/>
          <p:nvPr/>
        </p:nvPicPr>
        <p:blipFill>
          <a:blip r:embed="rId1"/>
          <a:stretch/>
        </p:blipFill>
        <p:spPr>
          <a:xfrm>
            <a:off x="2971800" y="1447920"/>
            <a:ext cx="2590920" cy="3504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0" y="1447920"/>
            <a:ext cx="2971800" cy="3504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5562720" y="1447920"/>
            <a:ext cx="358128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684360" y="0"/>
            <a:ext cx="78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838080" y="83808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noAutofit/>
          </a:bodyPr>
          <a:p>
            <a:pPr marL="309600" indent="-303120" algn="just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09600"/>
                <a:tab algn="l" pos="399960"/>
                <a:tab algn="l" pos="806400"/>
                <a:tab algn="l" pos="1214280"/>
                <a:tab algn="l" pos="1622520"/>
                <a:tab algn="l" pos="2030400"/>
                <a:tab algn="l" pos="2436840"/>
                <a:tab algn="l" pos="2844720"/>
                <a:tab algn="l" pos="3252960"/>
                <a:tab algn="l" pos="3659040"/>
                <a:tab algn="l" pos="4067280"/>
                <a:tab algn="l" pos="4475160"/>
                <a:tab algn="l" pos="4881600"/>
                <a:tab algn="l" pos="5289480"/>
                <a:tab algn="l" pos="5702400"/>
                <a:tab algn="l" pos="6105600"/>
                <a:tab algn="l" pos="6512040"/>
                <a:tab algn="l" pos="6919920"/>
                <a:tab algn="l" pos="7327800"/>
                <a:tab algn="l" pos="7734240"/>
                <a:tab algn="l" pos="8142120"/>
                <a:tab algn="l" pos="8143920"/>
                <a:tab algn="l" pos="8551800"/>
                <a:tab algn="l" pos="8958240"/>
                <a:tab algn="l" pos="9366120"/>
                <a:tab algn="l" pos="9774360"/>
                <a:tab algn="l" pos="9775800"/>
                <a:tab algn="l" pos="9777240"/>
                <a:tab algn="l" pos="977904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0000a6"/>
                </a:solidFill>
                <a:latin typeface="Arial"/>
              </a:rPr>
              <a:t>П</a:t>
            </a: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о сосудам </a:t>
            </a:r>
            <a:r>
              <a:rPr b="0" lang="en-US" sz="3600" spc="-1" strike="noStrike">
                <a:solidFill>
                  <a:srgbClr val="0000a6"/>
                </a:solidFill>
                <a:latin typeface="Arial"/>
              </a:rPr>
              <a:t>разлили </a:t>
            </a: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энергетические напитки и воду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6" descr="C:\Documents and Settings\user\Рабочий стол\ЭНЕРГЕТИЧЕСКИЕ НАПИТКИ\Новая папка\SAM_4497.JPG"/>
          <p:cNvPicPr/>
          <p:nvPr/>
        </p:nvPicPr>
        <p:blipFill>
          <a:blip r:embed="rId1"/>
          <a:stretch/>
        </p:blipFill>
        <p:spPr>
          <a:xfrm>
            <a:off x="1143000" y="1962000"/>
            <a:ext cx="7162920" cy="459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609480" y="533520"/>
            <a:ext cx="7905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В каждый из сосудов положили продукты :</a:t>
            </a:r>
            <a:r>
              <a:rPr b="1" lang="en-US" sz="3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en-US" sz="3300" spc="-1" strike="noStrike">
                <a:solidFill>
                  <a:srgbClr val="2d2db9"/>
                </a:solidFill>
                <a:latin typeface="Arial Black"/>
              </a:rPr>
              <a:t>- сырое яйцо</a:t>
            </a:r>
            <a:br>
              <a:rPr sz="3300"/>
            </a:br>
            <a:r>
              <a:rPr b="1" lang="en-US" sz="3300" spc="-1" strike="noStrike">
                <a:solidFill>
                  <a:srgbClr val="2d2db9"/>
                </a:solidFill>
                <a:latin typeface="Arial Black"/>
              </a:rPr>
              <a:t>-сырое мясо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d2db9"/>
                </a:solidFill>
                <a:latin typeface="Arial Black"/>
              </a:rPr>
              <a:t>- хлеб (белый).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5" descr="C:\Documents and Settings\user\Рабочий стол\ЭНЕРГЕТИЧЕСКИЕ НАПИТКИ\Новая папка\SAM_4500.JPG"/>
          <p:cNvPicPr/>
          <p:nvPr/>
        </p:nvPicPr>
        <p:blipFill>
          <a:blip r:embed="rId1"/>
          <a:stretch/>
        </p:blipFill>
        <p:spPr>
          <a:xfrm>
            <a:off x="228600" y="26668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Documents and Settings\user\Рабочий стол\ЭНЕРГЕТИЧЕСКИЕ НАПИТКИ\Новая папка\SAM_4507.JPG"/>
          <p:cNvPicPr/>
          <p:nvPr/>
        </p:nvPicPr>
        <p:blipFill>
          <a:blip r:embed="rId2"/>
          <a:stretch/>
        </p:blipFill>
        <p:spPr>
          <a:xfrm>
            <a:off x="4572000" y="3581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762120" y="0"/>
            <a:ext cx="78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Опыт №1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6"/>
                </a:solidFill>
                <a:latin typeface="Arial Black"/>
              </a:rPr>
              <a:t>15.01.13  14</a:t>
            </a:r>
            <a:r>
              <a:rPr b="1" lang="en-US" sz="3600" spc="-1" strike="noStrike">
                <a:solidFill>
                  <a:srgbClr val="0000a6"/>
                </a:solidFill>
                <a:latin typeface="Arial Black"/>
              </a:rPr>
              <a:t>:0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6"/>
                </a:solidFill>
                <a:latin typeface="Arial Black"/>
              </a:rPr>
              <a:t>Яйцо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629400" y="4267080"/>
            <a:ext cx="190512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6"/>
                </a:solidFill>
                <a:latin typeface="Arial Black"/>
              </a:rPr>
              <a:t>Видимых изменений н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4343400"/>
            <a:ext cx="1878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6"/>
                </a:solidFill>
                <a:latin typeface="Arial Black"/>
              </a:rPr>
              <a:t>Белок свернулся и поднялся на поверхность.</a:t>
            </a:r>
            <a:r>
              <a:rPr b="0" lang="en-US" sz="24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a6"/>
                </a:solidFill>
                <a:latin typeface="Arial Black"/>
              </a:rPr>
              <a:t>Образовалась пе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1981080" y="4343400"/>
            <a:ext cx="175284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6"/>
                </a:solidFill>
                <a:latin typeface="Arial Black"/>
              </a:rPr>
              <a:t>Белок свернулся и поднялся на поверхность. Напиток стал мутным и появился осадо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4419720" y="4343400"/>
            <a:ext cx="2209680" cy="29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6"/>
                </a:solidFill>
                <a:latin typeface="Arial Black"/>
              </a:rPr>
              <a:t>Белок свернулся и поднялся на  поверхность. Напиток помутнел, на стенках сосуда появились продукты разложения бел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12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438640" cy="3200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2"/>
          <a:stretch/>
        </p:blipFill>
        <p:spPr>
          <a:xfrm>
            <a:off x="6629400" y="114300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3"/>
          <a:stretch/>
        </p:blipFill>
        <p:spPr>
          <a:xfrm>
            <a:off x="0" y="1143000"/>
            <a:ext cx="1981080" cy="320040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14"/>
          <p:cNvSpPr/>
          <p:nvPr/>
        </p:nvSpPr>
        <p:spPr>
          <a:xfrm>
            <a:off x="0" y="3581280"/>
            <a:ext cx="198108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R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Прямоугольник 15"/>
          <p:cNvSpPr/>
          <p:nvPr/>
        </p:nvSpPr>
        <p:spPr>
          <a:xfrm>
            <a:off x="1981080" y="3581280"/>
            <a:ext cx="243864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GY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Прямоугольник 16"/>
          <p:cNvSpPr/>
          <p:nvPr/>
        </p:nvSpPr>
        <p:spPr>
          <a:xfrm>
            <a:off x="6629400" y="3429000"/>
            <a:ext cx="2209680" cy="83808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15" descr=""/>
          <p:cNvPicPr/>
          <p:nvPr/>
        </p:nvPicPr>
        <p:blipFill>
          <a:blip r:embed="rId4"/>
          <a:stretch/>
        </p:blipFill>
        <p:spPr>
          <a:xfrm>
            <a:off x="4419720" y="114300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8"/>
          <p:cNvSpPr/>
          <p:nvPr/>
        </p:nvSpPr>
        <p:spPr>
          <a:xfrm>
            <a:off x="4419720" y="3352680"/>
            <a:ext cx="2209680" cy="9907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09480" y="152280"/>
            <a:ext cx="7805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6"/>
                </a:solidFill>
                <a:latin typeface="Segoe Print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пыт 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a6"/>
                </a:solidFill>
                <a:latin typeface="Segoe Print"/>
              </a:rPr>
              <a:t>Мясо.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15.01.13  14</a:t>
            </a:r>
            <a:r>
              <a:rPr b="1" lang="en-US" sz="4000" spc="-1" strike="noStrike">
                <a:solidFill>
                  <a:srgbClr val="0000a6"/>
                </a:solidFill>
                <a:latin typeface="Arial Black"/>
              </a:rPr>
              <a:t>:00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ч - 16</a:t>
            </a:r>
            <a:r>
              <a:rPr b="1" lang="en-US" sz="4000" spc="-1" strike="noStrike">
                <a:solidFill>
                  <a:srgbClr val="0000a6"/>
                </a:solidFill>
                <a:latin typeface="Arial Black"/>
              </a:rPr>
              <a:t>:00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673200" y="1906560"/>
            <a:ext cx="3832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643280" y="1906560"/>
            <a:ext cx="3835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315200" y="5029200"/>
            <a:ext cx="1905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>
              <a:lnSpc>
                <a:spcPct val="100000"/>
              </a:lnSpc>
              <a:spcBef>
                <a:spcPts val="1089"/>
              </a:spcBef>
              <a:spcAft>
                <a:spcPts val="913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6"/>
                </a:solidFill>
                <a:latin typeface="Arial Black"/>
              </a:rPr>
              <a:t>Потемнело</a:t>
            </a:r>
            <a:r>
              <a:rPr b="1" lang="en-US" sz="32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a6"/>
                </a:solidFill>
                <a:latin typeface="Arial Black"/>
              </a:rPr>
              <a:t>при t 25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0" y="5029200"/>
            <a:ext cx="23623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Приобрело вид «варёного» мя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362320" y="5029200"/>
            <a:ext cx="228600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Расслоилось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стал похож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на «мясо с кровью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4648320" y="5029200"/>
            <a:ext cx="259056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Приобрело ви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Arial Black"/>
              </a:rPr>
              <a:t>«поджаренного мяса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5" descr=""/>
          <p:cNvPicPr/>
          <p:nvPr/>
        </p:nvPicPr>
        <p:blipFill>
          <a:blip r:embed="rId1"/>
          <a:stretch/>
        </p:blipFill>
        <p:spPr>
          <a:xfrm>
            <a:off x="0" y="3809880"/>
            <a:ext cx="9220320" cy="1201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"/>
          <p:cNvPicPr/>
          <p:nvPr/>
        </p:nvPicPr>
        <p:blipFill>
          <a:blip r:embed="rId2"/>
          <a:stretch/>
        </p:blipFill>
        <p:spPr>
          <a:xfrm>
            <a:off x="6934320" y="1143000"/>
            <a:ext cx="2104920" cy="2666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8" descr=""/>
          <p:cNvPicPr/>
          <p:nvPr/>
        </p:nvPicPr>
        <p:blipFill>
          <a:blip r:embed="rId3"/>
          <a:stretch/>
        </p:blipFill>
        <p:spPr>
          <a:xfrm>
            <a:off x="2666880" y="1066680"/>
            <a:ext cx="2249640" cy="2667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9" descr=""/>
          <p:cNvPicPr/>
          <p:nvPr/>
        </p:nvPicPr>
        <p:blipFill>
          <a:blip r:embed="rId4"/>
          <a:stretch/>
        </p:blipFill>
        <p:spPr>
          <a:xfrm>
            <a:off x="0" y="1143000"/>
            <a:ext cx="2666880" cy="2633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0" descr=""/>
          <p:cNvPicPr/>
          <p:nvPr/>
        </p:nvPicPr>
        <p:blipFill>
          <a:blip r:embed="rId5"/>
          <a:stretch/>
        </p:blipFill>
        <p:spPr>
          <a:xfrm>
            <a:off x="4876920" y="114300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23"/>
          <p:cNvSpPr/>
          <p:nvPr/>
        </p:nvSpPr>
        <p:spPr>
          <a:xfrm>
            <a:off x="0" y="3048120"/>
            <a:ext cx="2666880" cy="7617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R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Прямоугольник 24"/>
          <p:cNvSpPr/>
          <p:nvPr/>
        </p:nvSpPr>
        <p:spPr>
          <a:xfrm>
            <a:off x="2666880" y="2819520"/>
            <a:ext cx="2210040" cy="9903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Прямоугольник 25"/>
          <p:cNvSpPr/>
          <p:nvPr/>
        </p:nvSpPr>
        <p:spPr>
          <a:xfrm>
            <a:off x="4876920" y="3048120"/>
            <a:ext cx="1981080" cy="76176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GY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Прямоугольник 26"/>
          <p:cNvSpPr/>
          <p:nvPr/>
        </p:nvSpPr>
        <p:spPr>
          <a:xfrm>
            <a:off x="6858000" y="2895480"/>
            <a:ext cx="213372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684360" y="0"/>
            <a:ext cx="78055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пыт №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a6"/>
                </a:solidFill>
                <a:latin typeface="Segoe Print"/>
              </a:rPr>
              <a:t>Хлеб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15.01.13,  14</a:t>
            </a:r>
            <a:r>
              <a:rPr b="1" lang="en-US" sz="4000" spc="-1" strike="noStrike">
                <a:solidFill>
                  <a:srgbClr val="0000a6"/>
                </a:solidFill>
                <a:latin typeface="Arial Black"/>
              </a:rPr>
              <a:t>:00</a:t>
            </a:r>
            <a:r>
              <a:rPr b="1" lang="ru-RU" sz="4000" spc="-1" strike="noStrike">
                <a:solidFill>
                  <a:srgbClr val="0000a6"/>
                </a:solidFill>
                <a:latin typeface="Arial Black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654120" y="336600"/>
            <a:ext cx="783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7189920" y="3962520"/>
            <a:ext cx="195408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Видимых изменений нет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3962520"/>
            <a:ext cx="228600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Как губка впитал в себя красители напитк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2209680" y="3962520"/>
            <a:ext cx="251460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Как губка впитал краситель напитка, а сам напиток из ярко красного стал светло-розовы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4572000" y="3962520"/>
            <a:ext cx="2286000" cy="23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6"/>
                </a:solidFill>
                <a:latin typeface="Times New Roman"/>
                <a:ea typeface="Times New Roman"/>
              </a:rPr>
              <a:t>Как губка впитал в себя красители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13" descr=""/>
          <p:cNvPicPr/>
          <p:nvPr/>
        </p:nvPicPr>
        <p:blipFill>
          <a:blip r:embed="rId1"/>
          <a:stretch/>
        </p:blipFill>
        <p:spPr>
          <a:xfrm>
            <a:off x="6656400" y="990720"/>
            <a:ext cx="2487600" cy="2971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"/>
          <p:cNvPicPr/>
          <p:nvPr/>
        </p:nvPicPr>
        <p:blipFill>
          <a:blip r:embed="rId2"/>
          <a:stretch/>
        </p:blipFill>
        <p:spPr>
          <a:xfrm>
            <a:off x="76320" y="990720"/>
            <a:ext cx="2209680" cy="2971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"/>
          <p:cNvPicPr/>
          <p:nvPr/>
        </p:nvPicPr>
        <p:blipFill>
          <a:blip r:embed="rId3"/>
          <a:stretch/>
        </p:blipFill>
        <p:spPr>
          <a:xfrm>
            <a:off x="4419720" y="990720"/>
            <a:ext cx="2273040" cy="2949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"/>
          <p:cNvPicPr/>
          <p:nvPr/>
        </p:nvPicPr>
        <p:blipFill>
          <a:blip r:embed="rId4"/>
          <a:stretch/>
        </p:blipFill>
        <p:spPr>
          <a:xfrm>
            <a:off x="2286000" y="990720"/>
            <a:ext cx="2106720" cy="25146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6"/>
          <p:cNvSpPr/>
          <p:nvPr/>
        </p:nvSpPr>
        <p:spPr>
          <a:xfrm>
            <a:off x="0" y="3200400"/>
            <a:ext cx="2286000" cy="76212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R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Прямоугольник 17"/>
          <p:cNvSpPr/>
          <p:nvPr/>
        </p:nvSpPr>
        <p:spPr>
          <a:xfrm>
            <a:off x="2286000" y="2666880"/>
            <a:ext cx="2133720" cy="129564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Прямоугольник 18"/>
          <p:cNvSpPr/>
          <p:nvPr/>
        </p:nvSpPr>
        <p:spPr>
          <a:xfrm>
            <a:off x="4419720" y="3276720"/>
            <a:ext cx="2286000" cy="68580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GY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Прямоугольник 19"/>
          <p:cNvSpPr/>
          <p:nvPr/>
        </p:nvSpPr>
        <p:spPr>
          <a:xfrm>
            <a:off x="6705720" y="3352680"/>
            <a:ext cx="2438280" cy="60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53600" cy="1170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380880" y="2133720"/>
            <a:ext cx="49532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Употребление энергетических напитков дает нам энергию… и забирает  наше здоровье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6" descr="энергентики"/>
          <p:cNvPicPr/>
          <p:nvPr/>
        </p:nvPicPr>
        <p:blipFill>
          <a:blip r:embed="rId2"/>
          <a:stretch/>
        </p:blipFill>
        <p:spPr>
          <a:xfrm>
            <a:off x="5486400" y="2438280"/>
            <a:ext cx="320508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654120" y="163440"/>
            <a:ext cx="7802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Вывод из эксперимент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654120" y="979560"/>
            <a:ext cx="780264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Ингредиенты рассмотренных энергетических напитков «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Jaguar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»,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 «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Burn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»,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«</a:t>
            </a: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trike dark</a:t>
            </a: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оказывают негативное влияние на ткани растительного и животного происхождения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На основание  чего можно сделать вывод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ткани пищеварительного тракта и других систем органов будут подвержены их неблагоприятному  воздействию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609480" y="380880"/>
            <a:ext cx="78026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Вывод по проделанной работе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673200" y="1906560"/>
            <a:ext cx="780084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noAutofit/>
          </a:bodyPr>
          <a:p>
            <a:pPr marL="309600" indent="-3081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09600"/>
                <a:tab algn="l" pos="716040"/>
                <a:tab algn="l" pos="1123920"/>
                <a:tab algn="l" pos="1531800"/>
                <a:tab algn="l" pos="1938240"/>
                <a:tab algn="l" pos="2346480"/>
                <a:tab algn="l" pos="2754360"/>
                <a:tab algn="l" pos="3160800"/>
                <a:tab algn="l" pos="3568680"/>
                <a:tab algn="l" pos="3976560"/>
                <a:tab algn="l" pos="4384800"/>
                <a:tab algn="l" pos="4791240"/>
                <a:tab algn="l" pos="5199120"/>
                <a:tab algn="l" pos="5607000"/>
                <a:tab algn="l" pos="6013440"/>
                <a:tab algn="l" pos="6421320"/>
                <a:tab algn="l" pos="6829560"/>
                <a:tab algn="l" pos="7237440"/>
                <a:tab algn="l" pos="7643880"/>
                <a:tab algn="l" pos="8051760"/>
                <a:tab algn="l" pos="845964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Энергетические напитки</a:t>
            </a:r>
            <a:r>
              <a:rPr b="0" lang="en-US" sz="4800" spc="-1" strike="noStrike">
                <a:solidFill>
                  <a:srgbClr val="000080"/>
                </a:solidFill>
                <a:latin typeface="Times New Roman"/>
              </a:rPr>
              <a:t> — это безалкогольные или алкогольные  напитки, стимулирующие центральную нервную систему человека и повышающие работоспособность  за счёт энергии, которую берут в долг у организма человека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09600" indent="-30816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09600"/>
                <a:tab algn="l" pos="716040"/>
                <a:tab algn="l" pos="1123920"/>
                <a:tab algn="l" pos="1531800"/>
                <a:tab algn="l" pos="1938240"/>
                <a:tab algn="l" pos="2346480"/>
                <a:tab algn="l" pos="2754360"/>
                <a:tab algn="l" pos="3160800"/>
                <a:tab algn="l" pos="3568680"/>
                <a:tab algn="l" pos="3976560"/>
                <a:tab algn="l" pos="4384800"/>
                <a:tab algn="l" pos="4791240"/>
                <a:tab algn="l" pos="5199120"/>
                <a:tab algn="l" pos="5607000"/>
                <a:tab algn="l" pos="6013440"/>
                <a:tab algn="l" pos="6421320"/>
                <a:tab algn="l" pos="6829560"/>
                <a:tab algn="l" pos="7237440"/>
                <a:tab algn="l" pos="7643880"/>
                <a:tab algn="l" pos="8051760"/>
                <a:tab algn="l" pos="845964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21130200">
            <a:off x="457200" y="-1519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 rot="1229400">
            <a:off x="5943240" y="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886200" y="0"/>
            <a:ext cx="1552680" cy="3119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 rot="20765400">
            <a:off x="-151920" y="2133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 rot="1022400">
            <a:off x="5867280" y="220932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6"/>
          <a:stretch/>
        </p:blipFill>
        <p:spPr>
          <a:xfrm rot="21019800">
            <a:off x="1447920" y="358092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7"/>
          <a:stretch/>
        </p:blipFill>
        <p:spPr>
          <a:xfrm rot="611400">
            <a:off x="4495680" y="3962160"/>
            <a:ext cx="3276720" cy="21128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5943600"/>
            <a:ext cx="8381880" cy="914400"/>
          </a:xfrm>
          <a:custGeom>
            <a:avLst/>
            <a:gdLst>
              <a:gd name="textAreaLeft" fmla="*/ 1120680 w 8381880"/>
              <a:gd name="textAreaRight" fmla="*/ 7261200 w 8381880"/>
              <a:gd name="textAreaTop" fmla="*/ 1141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13" y="0"/>
                </a:lnTo>
                <a:arcTo wR="675" hR="675" stAng="16200000" swAng="5400000"/>
                <a:lnTo>
                  <a:pt x="5588" y="2700"/>
                </a:lnTo>
                <a:lnTo>
                  <a:pt x="16012" y="2700"/>
                </a:lnTo>
                <a:lnTo>
                  <a:pt x="1601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712" y="18900"/>
                </a:lnTo>
                <a:lnTo>
                  <a:pt x="18712" y="20925"/>
                </a:lnTo>
                <a:arcTo wR="675" hR="675" stAng="0" swAng="5400000"/>
                <a:lnTo>
                  <a:pt x="3563" y="21600"/>
                </a:lnTo>
                <a:arcTo wR="675" hR="675" stAng="5400000" swAng="5400000"/>
                <a:lnTo>
                  <a:pt x="288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588" y="675"/>
                </a:moveTo>
                <a:arcTo wR="675" hR="675" stAng="0" swAng="5400000"/>
                <a:lnTo>
                  <a:pt x="3563" y="1350"/>
                </a:lnTo>
                <a:arcTo wR="675" hR="675" stAng="16200000" swAng="-5400000"/>
                <a:arcTo wR="675" hR="675" stAng="10800000" swAng="-5400000"/>
                <a:lnTo>
                  <a:pt x="5588" y="2700"/>
                </a:lnTo>
              </a:path>
              <a:path fill="none" w="21600" h="21600">
                <a:moveTo>
                  <a:pt x="16012" y="675"/>
                </a:moveTo>
                <a:arcTo wR="675" hR="675" stAng="10800000" swAng="-5400000"/>
                <a:lnTo>
                  <a:pt x="18037" y="1350"/>
                </a:lnTo>
                <a:arcTo wR="675" hR="675" stAng="16200000" swAng="5400000"/>
                <a:arcTo wR="675" hR="675" stAng="0" swAng="5400000"/>
                <a:lnTo>
                  <a:pt x="16012" y="2700"/>
                </a:lnTo>
              </a:path>
              <a:path fill="none" w="21600" h="21600">
                <a:moveTo>
                  <a:pt x="2888" y="2025"/>
                </a:moveTo>
                <a:lnTo>
                  <a:pt x="2888" y="18900"/>
                </a:lnTo>
              </a:path>
              <a:path fill="none" w="21600" h="21600">
                <a:moveTo>
                  <a:pt x="18712" y="2025"/>
                </a:moveTo>
                <a:lnTo>
                  <a:pt x="18712" y="18900"/>
                </a:lnTo>
              </a:path>
            </a:pathLst>
          </a:cu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6"/>
                </a:solidFill>
                <a:latin typeface="Microsoft Sans Serif"/>
              </a:rPr>
              <a:t>Мы за 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525600" y="1195560"/>
            <a:ext cx="78022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80"/>
                </a:solidFill>
                <a:latin typeface="Arial Black"/>
              </a:rPr>
              <a:t>Берегите своё здоровье - это самая значимая вещь в нашей жизни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7" descr=""/>
          <p:cNvPicPr/>
          <p:nvPr/>
        </p:nvPicPr>
        <p:blipFill>
          <a:blip r:embed="rId2"/>
          <a:stretch/>
        </p:blipFill>
        <p:spPr>
          <a:xfrm>
            <a:off x="1060560" y="1285920"/>
            <a:ext cx="6656400" cy="902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171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ыяснить ситуацию по употреблению энергетиков и отношению к ним среди учащихся  н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152280" y="3683160"/>
            <a:ext cx="3810240" cy="3174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/>
          <a:stretch/>
        </p:blipFill>
        <p:spPr>
          <a:xfrm rot="1115400">
            <a:off x="4365360" y="3456000"/>
            <a:ext cx="452736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Изучить литера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Найти информацию в С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Провести соц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Проанализировать результаты соц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- Провести эксперимент по выявлению негативного влияния энергетиков на организм человек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1150920" y="457200"/>
            <a:ext cx="684216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907920" y="2614680"/>
            <a:ext cx="7102440" cy="112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04920" y="228600"/>
            <a:ext cx="7924680" cy="1295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cc"/>
                </a:solidFill>
                <a:latin typeface="Tahoma"/>
              </a:rPr>
              <a:t>Классификация</a:t>
            </a:r>
            <a:r>
              <a:rPr b="0" lang="en-US" sz="6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0000cc"/>
                </a:solidFill>
                <a:latin typeface="Tahoma"/>
              </a:rPr>
              <a:t>напитков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9" name="Прямая со стрелкой 6"/>
          <p:cNvCxnSpPr/>
          <p:nvPr/>
        </p:nvCxnSpPr>
        <p:spPr>
          <a:xfrm>
            <a:off x="7085520" y="1523880"/>
            <a:ext cx="1143720" cy="3658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8"/>
          <p:cNvCxnSpPr/>
          <p:nvPr/>
        </p:nvCxnSpPr>
        <p:spPr>
          <a:xfrm>
            <a:off x="4724280" y="1523520"/>
            <a:ext cx="45792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Прямая со стрелкой 10"/>
          <p:cNvCxnSpPr/>
          <p:nvPr/>
        </p:nvCxnSpPr>
        <p:spPr>
          <a:xfrm>
            <a:off x="3885120" y="1523520"/>
            <a:ext cx="75240" cy="274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12"/>
          <p:cNvCxnSpPr/>
          <p:nvPr/>
        </p:nvCxnSpPr>
        <p:spPr>
          <a:xfrm flipH="1">
            <a:off x="1369800" y="1525680"/>
            <a:ext cx="3600" cy="1219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Прямоугольник 13"/>
          <p:cNvSpPr/>
          <p:nvPr/>
        </p:nvSpPr>
        <p:spPr>
          <a:xfrm>
            <a:off x="228600" y="2743200"/>
            <a:ext cx="35812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Спортивны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оугольник 14"/>
          <p:cNvSpPr/>
          <p:nvPr/>
        </p:nvSpPr>
        <p:spPr>
          <a:xfrm>
            <a:off x="990720" y="4267080"/>
            <a:ext cx="33526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Энергетически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оугольник 15"/>
          <p:cNvSpPr/>
          <p:nvPr/>
        </p:nvSpPr>
        <p:spPr>
          <a:xfrm>
            <a:off x="4648320" y="3200400"/>
            <a:ext cx="350496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ahoma"/>
              </a:rPr>
              <a:t>Здоровы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16"/>
          <p:cNvSpPr/>
          <p:nvPr/>
        </p:nvSpPr>
        <p:spPr>
          <a:xfrm>
            <a:off x="4572000" y="5181480"/>
            <a:ext cx="396252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Tahoma"/>
              </a:rPr>
              <a:t>Нугрицевтики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146160" y="500040"/>
            <a:ext cx="8242200" cy="1432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Кофеин (экстраты гуараны, чая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тимуляторы (теобромин, теофиллин, алкалоиды, какао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итамины (углеводы, глюкоза, сахароза, адаптогены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68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0" y="533520"/>
          <a:ext cx="9144000" cy="6665760"/>
        </p:xfrm>
        <a:graphic>
          <a:graphicData uri="http://schemas.openxmlformats.org/drawingml/2006/table">
            <a:tbl>
              <a:tblPr/>
              <a:tblGrid>
                <a:gridCol w="1523880"/>
                <a:gridCol w="3048120"/>
                <a:gridCol w="4572000"/>
              </a:tblGrid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мпо-ненты   Э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Где содержи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ействие вещества на организм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у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мышечных тканях и в сердце чело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нижает уровень холестерина и сахара в крови, снимает стресс и заряжает энерги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а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то тропический кустарник, содержит кофеин, растёт в Бразилии  и Венесуэл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водит из мышечных тканей молочную кислоту, уменьшая боль при физических нагрузках и очищают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лато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организме и отвечает за суточный ритм челове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н понижает уровен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 “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охог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лестерина в кро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ф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фе, ч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ывает привыкание, а затем и зависим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зелёном ча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могает справиться с чувством голода и способствует снижению ве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лиевая кисл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(витамине В6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лучшает работу головного моз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рнит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ходится в клетке человека, способствующий быстрому окислению жирных кисло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иливает обмен веществ и снижает утомляемость мыш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нь-ш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держится в лекаственных растен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рется с усталостью, депрессией и стресс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1066320"/>
            <a:ext cx="4495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+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нимают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оение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мулируют  умственную деятельность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Энергетические напитки содержат комплекс витаминов глюк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 Благодаря удобной упаковке энергетические напитки можно носить с собой и употреблять в любой ситуации (на танцполе, в машине), чего нельзя сказать о кофе или ча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Содержимое 3" descr=""/>
          <p:cNvPicPr/>
          <p:nvPr/>
        </p:nvPicPr>
        <p:blipFill>
          <a:blip r:embed="rId1"/>
          <a:stretch/>
        </p:blipFill>
        <p:spPr>
          <a:xfrm>
            <a:off x="4260960" y="804960"/>
            <a:ext cx="4902120" cy="605952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450720" y="-189000"/>
            <a:ext cx="8242560" cy="1444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5:45:40Z</dcterms:created>
  <dc:creator>Школа</dc:creator>
  <dc:description/>
  <dc:language>en-US</dc:language>
  <cp:lastModifiedBy>admin</cp:lastModifiedBy>
  <dcterms:modified xsi:type="dcterms:W3CDTF">2013-05-05T05:00:24Z</dcterms:modified>
  <cp:revision>1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