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6.png" ContentType="image/png"/>
  <Override PartName="/ppt/media/image41.jpeg" ContentType="image/jpeg"/>
  <Override PartName="/ppt/media/image45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E695-DDC2-42C7-841C-CBDFDCE8B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7D1-ED00-4E06-9781-1756502EB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8794-AB85-467F-BEAB-BA0AD5DE3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7DA1-80F9-4A0C-BA9B-35540A6F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0767-115A-4854-A613-398AB78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0322-FF11-4403-A130-4A64E164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69D1-2C88-4D6B-984F-644715E9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0F0C-2CEE-4A68-B01E-29BC26D4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5851-810A-4214-B568-5EC65599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6191-45CF-430E-89EF-064C67A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0DB-13A6-4E2F-BA06-BA85BAE6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B87-9EDA-4707-8BC6-8E9B6D57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0A10-9905-4B6B-AC60-C2E3799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7E25-603B-4B76-8C11-12B8900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115A-6C51-4080-9736-BC772B7A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313-CF23-4950-B2E6-215ECE9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BCB-37DA-4106-B89D-0EA2178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B9A1-9FBA-43BC-B378-D218B4EA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C730-2CBF-4B63-9C79-4F565C33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20D6-AA48-4E79-BF0C-975B48AE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2220-60DE-424A-AE18-8DE914B5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A368-23A6-4A0D-B989-2AAA7CC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EEFC-B93B-4FD1-8F14-26769724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6AEC-2EF7-4CE0-BC6A-66C91306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BFC4-C0BD-4D87-ABAA-CE4182B0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7A25-CDF8-4406-90DF-088827F5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8863-3FB4-4A39-B1BE-286A315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D0F4-AE08-4DEE-B334-8B95193E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3045-6358-4DB1-891F-9A06814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ED30-28D8-4B52-A358-2F9D805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452F-FDDA-48DA-B662-5A1C042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BBC8-7700-4A51-A246-01A06571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41A7-D677-4F2F-ADD0-A69D8969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CA94-25EB-4E59-BF07-144FA17C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1603-9ABE-4324-AD77-BB24AA2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8D5F-13F9-4400-98C2-21554D9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16D9-059D-4756-8F83-F920C971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B40D-E407-4C3D-951A-3A0FD809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F1FA-2400-43DD-BD95-6E943239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777F-FE8A-4378-BF20-017BFC6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C354-7060-41FF-B71B-41DD4A7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C94F-C1A9-4987-A2DC-574AAFD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1839-B82F-40D4-AF46-E06A7EC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4D3F-A21B-414A-92C6-0F8DE09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C557-541F-4EFC-B8B9-E525E099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497F-54F0-454C-B014-BABB59B2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265C-380D-4D88-9DFE-74621FA7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39B2-4BA4-4519-8041-D7C7A77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C002-4208-46BC-B253-28D91B0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E740-9E67-496B-A90B-8601FF8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72D5-25D4-47C5-BFFC-57180AA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C79C-5C18-4C3E-A1C7-C0F004C75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C3D-8D01-4E2D-9895-13EF1CBA7B41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C9CB-2A50-4988-B168-787CAC7073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8543-2613-4E9C-B25A-51C709E7356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евой фестиваль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a6"/>
                </a:solidFill>
                <a:latin typeface="Arial"/>
              </a:rPr>
              <a:t>«Энергетические напитки в жизни подрос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6"/>
                </a:solidFill>
                <a:latin typeface="Arial"/>
              </a:rPr>
              <a:t>Автор: </a:t>
            </a: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Юдин Александ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учащийся 7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6"/>
                </a:solidFill>
                <a:latin typeface="Arial"/>
              </a:rPr>
              <a:t>Руководитель: </a:t>
            </a: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Куппа Т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г.Барнаул, 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229600" cy="1203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Новый рисунок (1)"/>
          <p:cNvPicPr/>
          <p:nvPr/>
        </p:nvPicPr>
        <p:blipFill>
          <a:blip r:embed="rId2"/>
          <a:stretch/>
        </p:blipFill>
        <p:spPr>
          <a:xfrm>
            <a:off x="533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5200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Содержимое 3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375760" cy="115884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1760" cy="11588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Documents and Settings\user\Рабочий стол\ЭНЕРГЕТИЧЕСКИЕ НАПИТКИ\Новая папка\Копия SAM_4498.JPG"/>
          <p:cNvPicPr/>
          <p:nvPr/>
        </p:nvPicPr>
        <p:blipFill>
          <a:blip r:embed="rId1"/>
          <a:stretch/>
        </p:blipFill>
        <p:spPr>
          <a:xfrm>
            <a:off x="2971800" y="1447920"/>
            <a:ext cx="2590920" cy="3504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7920"/>
            <a:ext cx="2971800" cy="3504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5562720" y="1447920"/>
            <a:ext cx="358128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684360" y="0"/>
            <a:ext cx="78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838080" y="83808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noAutofit/>
          </a:bodyPr>
          <a:p>
            <a:pPr marL="309600" indent="-303120" algn="just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09600"/>
                <a:tab algn="l" pos="399960"/>
                <a:tab algn="l" pos="806400"/>
                <a:tab algn="l" pos="1214280"/>
                <a:tab algn="l" pos="1622520"/>
                <a:tab algn="l" pos="2030400"/>
                <a:tab algn="l" pos="2436840"/>
                <a:tab algn="l" pos="2844720"/>
                <a:tab algn="l" pos="3252960"/>
                <a:tab algn="l" pos="3659040"/>
                <a:tab algn="l" pos="4067280"/>
                <a:tab algn="l" pos="4475160"/>
                <a:tab algn="l" pos="4881600"/>
                <a:tab algn="l" pos="5289480"/>
                <a:tab algn="l" pos="5702400"/>
                <a:tab algn="l" pos="6105600"/>
                <a:tab algn="l" pos="6512040"/>
                <a:tab algn="l" pos="6919920"/>
                <a:tab algn="l" pos="7327800"/>
                <a:tab algn="l" pos="7734240"/>
                <a:tab algn="l" pos="8142120"/>
                <a:tab algn="l" pos="8143920"/>
                <a:tab algn="l" pos="8551800"/>
                <a:tab algn="l" pos="8958240"/>
                <a:tab algn="l" pos="9366120"/>
                <a:tab algn="l" pos="9774360"/>
                <a:tab algn="l" pos="9775800"/>
                <a:tab algn="l" pos="9777240"/>
                <a:tab algn="l" pos="977904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a6"/>
                </a:solidFill>
                <a:latin typeface="Arial"/>
              </a:rPr>
              <a:t>П</a:t>
            </a: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о сосудам </a:t>
            </a:r>
            <a:r>
              <a:rPr b="0" lang="en-US" sz="3600" spc="-1" strike="noStrike">
                <a:solidFill>
                  <a:srgbClr val="0000a6"/>
                </a:solidFill>
                <a:latin typeface="Arial"/>
              </a:rPr>
              <a:t>разлили </a:t>
            </a: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энергетические напитки и воду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6" descr="C:\Documents and Settings\user\Рабочий стол\ЭНЕРГЕТИЧЕСКИЕ НАПИТКИ\Новая папка\SAM_4497.JPG"/>
          <p:cNvPicPr/>
          <p:nvPr/>
        </p:nvPicPr>
        <p:blipFill>
          <a:blip r:embed="rId1"/>
          <a:stretch/>
        </p:blipFill>
        <p:spPr>
          <a:xfrm>
            <a:off x="1143000" y="1962000"/>
            <a:ext cx="7162920" cy="459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609480" y="533520"/>
            <a:ext cx="7905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В каждый из сосудов положили продукты :</a:t>
            </a: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en-US" sz="3300" spc="-1" strike="noStrike">
                <a:solidFill>
                  <a:srgbClr val="2d2db9"/>
                </a:solidFill>
                <a:latin typeface="Arial Black"/>
              </a:rPr>
              <a:t>- сырое яйцо</a:t>
            </a:r>
            <a:br>
              <a:rPr sz="3300"/>
            </a:br>
            <a:r>
              <a:rPr b="1" lang="en-US" sz="3300" spc="-1" strike="noStrike">
                <a:solidFill>
                  <a:srgbClr val="2d2db9"/>
                </a:solidFill>
                <a:latin typeface="Arial Black"/>
              </a:rPr>
              <a:t>-сырое мясо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d2db9"/>
                </a:solidFill>
                <a:latin typeface="Arial Black"/>
              </a:rPr>
              <a:t>- хлеб (белый)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5" descr="C:\Documents and Settings\user\Рабочий стол\ЭНЕРГЕТИЧЕСКИЕ НАПИТКИ\Новая папка\SAM_4500.JPG"/>
          <p:cNvPicPr/>
          <p:nvPr/>
        </p:nvPicPr>
        <p:blipFill>
          <a:blip r:embed="rId1"/>
          <a:stretch/>
        </p:blipFill>
        <p:spPr>
          <a:xfrm>
            <a:off x="228600" y="26668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Documents and Settings\user\Рабочий стол\ЭНЕРГЕТИЧЕСКИЕ НАПИТКИ\Новая папка\SAM_4507.JPG"/>
          <p:cNvPicPr/>
          <p:nvPr/>
        </p:nvPicPr>
        <p:blipFill>
          <a:blip r:embed="rId2"/>
          <a:stretch/>
        </p:blipFill>
        <p:spPr>
          <a:xfrm>
            <a:off x="457200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762120" y="0"/>
            <a:ext cx="78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пыт №1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6"/>
                </a:solidFill>
                <a:latin typeface="Arial Black"/>
              </a:rPr>
              <a:t>15.01.13  14</a:t>
            </a:r>
            <a:r>
              <a:rPr b="1" lang="en-US" sz="3600" spc="-1" strike="noStrike">
                <a:solidFill>
                  <a:srgbClr val="0000a6"/>
                </a:solidFill>
                <a:latin typeface="Arial Black"/>
              </a:rPr>
              <a:t>:0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6"/>
                </a:solidFill>
                <a:latin typeface="Arial Black"/>
              </a:rPr>
              <a:t>Яйц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629400" y="4267080"/>
            <a:ext cx="19051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6"/>
                </a:solidFill>
                <a:latin typeface="Arial Black"/>
              </a:rPr>
              <a:t>Видимых изменений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4343400"/>
            <a:ext cx="1878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6"/>
                </a:solidFill>
                <a:latin typeface="Arial Black"/>
              </a:rPr>
              <a:t>Белок свернулся и поднялся на поверхность.</a:t>
            </a:r>
            <a:r>
              <a:rPr b="0" lang="en-US" sz="24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a6"/>
                </a:solidFill>
                <a:latin typeface="Arial Black"/>
              </a:rPr>
              <a:t>Образовалась пе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1981080" y="4343400"/>
            <a:ext cx="175284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6"/>
                </a:solidFill>
                <a:latin typeface="Arial Black"/>
              </a:rPr>
              <a:t>Белок свернулся и поднялся на поверхность. Напиток стал мутным и появился осадо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4419720" y="4343400"/>
            <a:ext cx="2209680" cy="29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6"/>
                </a:solidFill>
                <a:latin typeface="Arial Black"/>
              </a:rPr>
              <a:t>Белок свернулся и поднялся на  поверхность. Напиток помутнел, на стенках сосуда появились продукты разложения бел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12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438640" cy="3200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3"/>
          <a:stretch/>
        </p:blipFill>
        <p:spPr>
          <a:xfrm>
            <a:off x="0" y="1143000"/>
            <a:ext cx="1981080" cy="32004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4"/>
          <p:cNvSpPr/>
          <p:nvPr/>
        </p:nvSpPr>
        <p:spPr>
          <a:xfrm>
            <a:off x="0" y="3581280"/>
            <a:ext cx="198108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R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оугольник 15"/>
          <p:cNvSpPr/>
          <p:nvPr/>
        </p:nvSpPr>
        <p:spPr>
          <a:xfrm>
            <a:off x="1981080" y="3581280"/>
            <a:ext cx="243864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GY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Прямоугольник 16"/>
          <p:cNvSpPr/>
          <p:nvPr/>
        </p:nvSpPr>
        <p:spPr>
          <a:xfrm>
            <a:off x="6629400" y="3429000"/>
            <a:ext cx="2209680" cy="8380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15" descr=""/>
          <p:cNvPicPr/>
          <p:nvPr/>
        </p:nvPicPr>
        <p:blipFill>
          <a:blip r:embed="rId4"/>
          <a:stretch/>
        </p:blipFill>
        <p:spPr>
          <a:xfrm>
            <a:off x="4419720" y="114300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8"/>
          <p:cNvSpPr/>
          <p:nvPr/>
        </p:nvSpPr>
        <p:spPr>
          <a:xfrm>
            <a:off x="4419720" y="3352680"/>
            <a:ext cx="2209680" cy="9907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09480" y="152280"/>
            <a:ext cx="7805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6"/>
                </a:solidFill>
                <a:latin typeface="Segoe Prin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ыт 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a6"/>
                </a:solidFill>
                <a:latin typeface="Segoe Print"/>
              </a:rPr>
              <a:t>Мясо.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15.01.13  14</a:t>
            </a:r>
            <a:r>
              <a:rPr b="1" lang="en-US" sz="4000" spc="-1" strike="noStrike">
                <a:solidFill>
                  <a:srgbClr val="0000a6"/>
                </a:solidFill>
                <a:latin typeface="Arial Black"/>
              </a:rPr>
              <a:t>:00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ч - 16</a:t>
            </a:r>
            <a:r>
              <a:rPr b="1" lang="en-US" sz="4000" spc="-1" strike="noStrike">
                <a:solidFill>
                  <a:srgbClr val="0000a6"/>
                </a:solidFill>
                <a:latin typeface="Arial Black"/>
              </a:rPr>
              <a:t>:00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673200" y="1906560"/>
            <a:ext cx="3832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643280" y="1906560"/>
            <a:ext cx="3835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315200" y="5029200"/>
            <a:ext cx="1905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6"/>
                </a:solidFill>
                <a:latin typeface="Arial Black"/>
              </a:rPr>
              <a:t>Потемнело</a:t>
            </a:r>
            <a:r>
              <a:rPr b="1" lang="en-US" sz="32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a6"/>
                </a:solidFill>
                <a:latin typeface="Arial Black"/>
              </a:rPr>
              <a:t>при t 25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5029200"/>
            <a:ext cx="23623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Приобрело вид «варёного» мя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362320" y="5029200"/>
            <a:ext cx="2286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Расслоилос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стал похож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на «мясо с кровью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648320" y="5029200"/>
            <a:ext cx="259056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Приобрело ви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«поджаренного мяса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5" descr=""/>
          <p:cNvPicPr/>
          <p:nvPr/>
        </p:nvPicPr>
        <p:blipFill>
          <a:blip r:embed="rId1"/>
          <a:stretch/>
        </p:blipFill>
        <p:spPr>
          <a:xfrm>
            <a:off x="0" y="3809880"/>
            <a:ext cx="9220320" cy="1201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"/>
          <p:cNvPicPr/>
          <p:nvPr/>
        </p:nvPicPr>
        <p:blipFill>
          <a:blip r:embed="rId2"/>
          <a:stretch/>
        </p:blipFill>
        <p:spPr>
          <a:xfrm>
            <a:off x="6934320" y="1143000"/>
            <a:ext cx="2104920" cy="2666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"/>
          <p:cNvPicPr/>
          <p:nvPr/>
        </p:nvPicPr>
        <p:blipFill>
          <a:blip r:embed="rId3"/>
          <a:stretch/>
        </p:blipFill>
        <p:spPr>
          <a:xfrm>
            <a:off x="2666880" y="1066680"/>
            <a:ext cx="2249640" cy="2667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"/>
          <p:cNvPicPr/>
          <p:nvPr/>
        </p:nvPicPr>
        <p:blipFill>
          <a:blip r:embed="rId4"/>
          <a:stretch/>
        </p:blipFill>
        <p:spPr>
          <a:xfrm>
            <a:off x="0" y="1143000"/>
            <a:ext cx="2666880" cy="2633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0" descr=""/>
          <p:cNvPicPr/>
          <p:nvPr/>
        </p:nvPicPr>
        <p:blipFill>
          <a:blip r:embed="rId5"/>
          <a:stretch/>
        </p:blipFill>
        <p:spPr>
          <a:xfrm>
            <a:off x="4876920" y="11430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23"/>
          <p:cNvSpPr/>
          <p:nvPr/>
        </p:nvSpPr>
        <p:spPr>
          <a:xfrm>
            <a:off x="0" y="3048120"/>
            <a:ext cx="2666880" cy="7617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R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Прямоугольник 24"/>
          <p:cNvSpPr/>
          <p:nvPr/>
        </p:nvSpPr>
        <p:spPr>
          <a:xfrm>
            <a:off x="2666880" y="2819520"/>
            <a:ext cx="2210040" cy="9903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Прямоугольник 25"/>
          <p:cNvSpPr/>
          <p:nvPr/>
        </p:nvSpPr>
        <p:spPr>
          <a:xfrm>
            <a:off x="4876920" y="3048120"/>
            <a:ext cx="1981080" cy="7617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GY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Прямоугольник 26"/>
          <p:cNvSpPr/>
          <p:nvPr/>
        </p:nvSpPr>
        <p:spPr>
          <a:xfrm>
            <a:off x="6858000" y="2895480"/>
            <a:ext cx="213372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84360" y="0"/>
            <a:ext cx="7805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ыт 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a6"/>
                </a:solidFill>
                <a:latin typeface="Segoe Print"/>
              </a:rPr>
              <a:t>Хлеб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15.01.13,  14</a:t>
            </a:r>
            <a:r>
              <a:rPr b="1" lang="en-US" sz="4000" spc="-1" strike="noStrike">
                <a:solidFill>
                  <a:srgbClr val="0000a6"/>
                </a:solidFill>
                <a:latin typeface="Arial Black"/>
              </a:rPr>
              <a:t>:00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54120" y="336600"/>
            <a:ext cx="783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7189920" y="3962520"/>
            <a:ext cx="195408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Видимых изменений нет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3962520"/>
            <a:ext cx="228600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Как губка впитал в себя красители напит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2209680" y="3962520"/>
            <a:ext cx="251460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Как губка впитал краситель напитка, а сам напиток из ярко красного стал светло-розовы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4572000" y="3962520"/>
            <a:ext cx="228600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Как губка впитал в себя красители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13" descr=""/>
          <p:cNvPicPr/>
          <p:nvPr/>
        </p:nvPicPr>
        <p:blipFill>
          <a:blip r:embed="rId1"/>
          <a:stretch/>
        </p:blipFill>
        <p:spPr>
          <a:xfrm>
            <a:off x="6656400" y="990720"/>
            <a:ext cx="2487600" cy="2971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"/>
          <p:cNvPicPr/>
          <p:nvPr/>
        </p:nvPicPr>
        <p:blipFill>
          <a:blip r:embed="rId2"/>
          <a:stretch/>
        </p:blipFill>
        <p:spPr>
          <a:xfrm>
            <a:off x="76320" y="990720"/>
            <a:ext cx="2209680" cy="2971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"/>
          <p:cNvPicPr/>
          <p:nvPr/>
        </p:nvPicPr>
        <p:blipFill>
          <a:blip r:embed="rId3"/>
          <a:stretch/>
        </p:blipFill>
        <p:spPr>
          <a:xfrm>
            <a:off x="4419720" y="990720"/>
            <a:ext cx="2273040" cy="2949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"/>
          <p:cNvPicPr/>
          <p:nvPr/>
        </p:nvPicPr>
        <p:blipFill>
          <a:blip r:embed="rId4"/>
          <a:stretch/>
        </p:blipFill>
        <p:spPr>
          <a:xfrm>
            <a:off x="2286000" y="990720"/>
            <a:ext cx="2106720" cy="25146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6"/>
          <p:cNvSpPr/>
          <p:nvPr/>
        </p:nvSpPr>
        <p:spPr>
          <a:xfrm>
            <a:off x="0" y="3200400"/>
            <a:ext cx="2286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R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Прямоугольник 17"/>
          <p:cNvSpPr/>
          <p:nvPr/>
        </p:nvSpPr>
        <p:spPr>
          <a:xfrm>
            <a:off x="2286000" y="2666880"/>
            <a:ext cx="2133720" cy="129564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Прямоугольник 18"/>
          <p:cNvSpPr/>
          <p:nvPr/>
        </p:nvSpPr>
        <p:spPr>
          <a:xfrm>
            <a:off x="4419720" y="3276720"/>
            <a:ext cx="2286000" cy="68580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GY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оугольник 19"/>
          <p:cNvSpPr/>
          <p:nvPr/>
        </p:nvSpPr>
        <p:spPr>
          <a:xfrm>
            <a:off x="6705720" y="3352680"/>
            <a:ext cx="2438280" cy="60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53600" cy="1170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380880" y="2133720"/>
            <a:ext cx="49532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Употребление энергетических напитков дает нам энергию… и забирает  наше здоровье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6" descr="энергентики"/>
          <p:cNvPicPr/>
          <p:nvPr/>
        </p:nvPicPr>
        <p:blipFill>
          <a:blip r:embed="rId2"/>
          <a:stretch/>
        </p:blipFill>
        <p:spPr>
          <a:xfrm>
            <a:off x="5486400" y="2438280"/>
            <a:ext cx="320508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654120" y="163440"/>
            <a:ext cx="7802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Вывод из эксперимент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654120" y="979560"/>
            <a:ext cx="780264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Ингредиенты рассмотренных энергетических напитков «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Jaguar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»,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 «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Burn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»,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«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trike dark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оказывают негативное влияние на ткани растительного и животного происхождения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На основание  чего можно сделать вывод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кани пищеварительного тракта и других систем органов будут подвержены их неблагоприятному  воздействию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609480" y="380880"/>
            <a:ext cx="78026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ывод по проделанной работе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673200" y="1906560"/>
            <a:ext cx="78008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noAutofit/>
          </a:bodyPr>
          <a:p>
            <a:pPr marL="309600" indent="-3081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09600"/>
                <a:tab algn="l" pos="716040"/>
                <a:tab algn="l" pos="1123920"/>
                <a:tab algn="l" pos="1531800"/>
                <a:tab algn="l" pos="1938240"/>
                <a:tab algn="l" pos="2346480"/>
                <a:tab algn="l" pos="2754360"/>
                <a:tab algn="l" pos="3160800"/>
                <a:tab algn="l" pos="3568680"/>
                <a:tab algn="l" pos="3976560"/>
                <a:tab algn="l" pos="4384800"/>
                <a:tab algn="l" pos="4791240"/>
                <a:tab algn="l" pos="5199120"/>
                <a:tab algn="l" pos="5607000"/>
                <a:tab algn="l" pos="6013440"/>
                <a:tab algn="l" pos="6421320"/>
                <a:tab algn="l" pos="6829560"/>
                <a:tab algn="l" pos="7237440"/>
                <a:tab algn="l" pos="7643880"/>
                <a:tab algn="l" pos="8051760"/>
                <a:tab algn="l" pos="845964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Энергетические напитки</a:t>
            </a:r>
            <a:r>
              <a:rPr b="0" lang="en-US" sz="4800" spc="-1" strike="noStrike">
                <a:solidFill>
                  <a:srgbClr val="000080"/>
                </a:solidFill>
                <a:latin typeface="Times New Roman"/>
              </a:rPr>
              <a:t> — это безалкогольные или алкогольные  напитки, стимулирующие центральную нервную систему человека и повышающие работоспособность  за счёт энергии, которую берут в долг у организма человека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9600" indent="-3081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09600"/>
                <a:tab algn="l" pos="716040"/>
                <a:tab algn="l" pos="1123920"/>
                <a:tab algn="l" pos="1531800"/>
                <a:tab algn="l" pos="1938240"/>
                <a:tab algn="l" pos="2346480"/>
                <a:tab algn="l" pos="2754360"/>
                <a:tab algn="l" pos="3160800"/>
                <a:tab algn="l" pos="3568680"/>
                <a:tab algn="l" pos="3976560"/>
                <a:tab algn="l" pos="4384800"/>
                <a:tab algn="l" pos="4791240"/>
                <a:tab algn="l" pos="5199120"/>
                <a:tab algn="l" pos="5607000"/>
                <a:tab algn="l" pos="6013440"/>
                <a:tab algn="l" pos="6421320"/>
                <a:tab algn="l" pos="6829560"/>
                <a:tab algn="l" pos="7237440"/>
                <a:tab algn="l" pos="7643880"/>
                <a:tab algn="l" pos="8051760"/>
                <a:tab algn="l" pos="845964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21130200">
            <a:off x="457200" y="-1519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 rot="1229400">
            <a:off x="594324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886200" y="0"/>
            <a:ext cx="1552680" cy="3119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 rot="20765400">
            <a:off x="-151920" y="2133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 rot="1022400">
            <a:off x="5867280" y="220932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 rot="21019800">
            <a:off x="1447920" y="358092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7"/>
          <a:stretch/>
        </p:blipFill>
        <p:spPr>
          <a:xfrm rot="611400">
            <a:off x="4495680" y="3962160"/>
            <a:ext cx="3276720" cy="21128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5943600"/>
            <a:ext cx="8381880" cy="914400"/>
          </a:xfrm>
          <a:custGeom>
            <a:avLst/>
            <a:gdLst>
              <a:gd name="textAreaLeft" fmla="*/ 1120680 w 8381880"/>
              <a:gd name="textAreaRight" fmla="*/ 7261200 w 838188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13" y="0"/>
                </a:lnTo>
                <a:arcTo wR="675" hR="675" stAng="16200000" swAng="5400000"/>
                <a:lnTo>
                  <a:pt x="5588" y="2700"/>
                </a:lnTo>
                <a:lnTo>
                  <a:pt x="16012" y="2700"/>
                </a:lnTo>
                <a:lnTo>
                  <a:pt x="1601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712" y="18900"/>
                </a:lnTo>
                <a:lnTo>
                  <a:pt x="18712" y="20925"/>
                </a:lnTo>
                <a:arcTo wR="675" hR="675" stAng="0" swAng="5400000"/>
                <a:lnTo>
                  <a:pt x="3563" y="21600"/>
                </a:lnTo>
                <a:arcTo wR="675" hR="675" stAng="5400000" swAng="5400000"/>
                <a:lnTo>
                  <a:pt x="288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588" y="675"/>
                </a:moveTo>
                <a:arcTo wR="675" hR="675" stAng="0" swAng="5400000"/>
                <a:lnTo>
                  <a:pt x="3563" y="1350"/>
                </a:lnTo>
                <a:arcTo wR="675" hR="675" stAng="16200000" swAng="-5400000"/>
                <a:arcTo wR="675" hR="675" stAng="10800000" swAng="-5400000"/>
                <a:lnTo>
                  <a:pt x="5588" y="2700"/>
                </a:lnTo>
              </a:path>
              <a:path fill="none" w="21600" h="21600">
                <a:moveTo>
                  <a:pt x="16012" y="675"/>
                </a:moveTo>
                <a:arcTo wR="675" hR="675" stAng="10800000" swAng="-5400000"/>
                <a:lnTo>
                  <a:pt x="18037" y="1350"/>
                </a:lnTo>
                <a:arcTo wR="675" hR="675" stAng="16200000" swAng="5400000"/>
                <a:arcTo wR="675" hR="675" stAng="0" swAng="5400000"/>
                <a:lnTo>
                  <a:pt x="16012" y="2700"/>
                </a:lnTo>
              </a:path>
              <a:path fill="none" w="21600" h="21600">
                <a:moveTo>
                  <a:pt x="2888" y="2025"/>
                </a:moveTo>
                <a:lnTo>
                  <a:pt x="2888" y="18900"/>
                </a:lnTo>
              </a:path>
              <a:path fill="none" w="21600" h="21600">
                <a:moveTo>
                  <a:pt x="18712" y="2025"/>
                </a:moveTo>
                <a:lnTo>
                  <a:pt x="18712" y="18900"/>
                </a:lnTo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6"/>
                </a:solidFill>
                <a:latin typeface="Microsoft Sans Serif"/>
              </a:rPr>
              <a:t>Мы за 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525600" y="1195560"/>
            <a:ext cx="78022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80"/>
                </a:solidFill>
                <a:latin typeface="Arial Black"/>
              </a:rPr>
              <a:t>Берегите своё здоровье - это самая значимая вещь в нашей жизни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7" descr=""/>
          <p:cNvPicPr/>
          <p:nvPr/>
        </p:nvPicPr>
        <p:blipFill>
          <a:blip r:embed="rId2"/>
          <a:stretch/>
        </p:blipFill>
        <p:spPr>
          <a:xfrm>
            <a:off x="1060560" y="1285920"/>
            <a:ext cx="6656400" cy="902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ыяснить ситуацию по употреблению энергетиков и отношению к ним среди учащихся 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152280" y="3683160"/>
            <a:ext cx="3810240" cy="3174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 rot="1115400">
            <a:off x="4365360" y="3456000"/>
            <a:ext cx="452736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Изучить литера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Найти информацию в С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Провести соц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Проанализировать результаты соц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Провести эксперимент по выявлению негативного влияния энергетиков на организм человек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1150920" y="457200"/>
            <a:ext cx="684216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907920" y="2614680"/>
            <a:ext cx="7102440" cy="112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04920" y="228600"/>
            <a:ext cx="7924680" cy="1295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Tahoma"/>
              </a:rPr>
              <a:t>Классификация</a:t>
            </a:r>
            <a:r>
              <a:rPr b="0" lang="en-US" sz="6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0000cc"/>
                </a:solidFill>
                <a:latin typeface="Tahoma"/>
              </a:rPr>
              <a:t>напитков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9" name="Прямая со стрелкой 6"/>
          <p:cNvCxnSpPr/>
          <p:nvPr/>
        </p:nvCxnSpPr>
        <p:spPr>
          <a:xfrm>
            <a:off x="7085520" y="1523880"/>
            <a:ext cx="1143720" cy="365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8"/>
          <p:cNvCxnSpPr/>
          <p:nvPr/>
        </p:nvCxnSpPr>
        <p:spPr>
          <a:xfrm>
            <a:off x="4724280" y="1523520"/>
            <a:ext cx="45792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>
            <a:off x="3885120" y="1523520"/>
            <a:ext cx="75240" cy="274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12"/>
          <p:cNvCxnSpPr/>
          <p:nvPr/>
        </p:nvCxnSpPr>
        <p:spPr>
          <a:xfrm flipH="1">
            <a:off x="1369800" y="1525680"/>
            <a:ext cx="3600" cy="121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Прямоугольник 13"/>
          <p:cNvSpPr/>
          <p:nvPr/>
        </p:nvSpPr>
        <p:spPr>
          <a:xfrm>
            <a:off x="228600" y="2743200"/>
            <a:ext cx="35812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Спортивны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990720" y="4267080"/>
            <a:ext cx="33526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Энергетически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оугольник 15"/>
          <p:cNvSpPr/>
          <p:nvPr/>
        </p:nvSpPr>
        <p:spPr>
          <a:xfrm>
            <a:off x="4648320" y="3200400"/>
            <a:ext cx="350496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Здоровы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16"/>
          <p:cNvSpPr/>
          <p:nvPr/>
        </p:nvSpPr>
        <p:spPr>
          <a:xfrm>
            <a:off x="4572000" y="5181480"/>
            <a:ext cx="396252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ahoma"/>
              </a:rPr>
              <a:t>Нугрицевтик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46160" y="500040"/>
            <a:ext cx="8242200" cy="1432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феин (экстраты гуараны, ча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имуляторы (теобромин, теофиллин, алкалоиды, какао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итамины (углеводы, глюкоза, сахароза, адаптоген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0" y="533520"/>
          <a:ext cx="9144000" cy="6665760"/>
        </p:xfrm>
        <a:graphic>
          <a:graphicData uri="http://schemas.openxmlformats.org/drawingml/2006/table">
            <a:tbl>
              <a:tblPr/>
              <a:tblGrid>
                <a:gridCol w="1523880"/>
                <a:gridCol w="3048120"/>
                <a:gridCol w="457200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мпо-ненты   Э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де содержи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ействие вещества на организм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у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мышечных тканях и в сердце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нижает уровень холестерина и сахара в крови, снимает стресс и заряжает энерги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а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тропический кустарник, содержит кофеин, растёт в Бразилии  и Венесуэ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ит из мышечных тканей молочную кислоту, уменьшая боль при физических нагрузках и очищают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лато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организме и отвечает за суточный ритм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н понижает уровен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 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охог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лестерина в кро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ф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фе, 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ывает привыкание, а затем и зависим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зелёном ча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могает справиться с чувством голода и способствует снижению в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лиев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(витамине В6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лучшает работу головного моз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нит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ходится в клетке человека, способствующий быстрому окислению жирных кисл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иливает обмен веществ и снижает утомляемость мыш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нь-ш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лекаственных растен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рется с усталостью, депрессией и стресс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+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нимают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ение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уют  умственную деятельность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Энергетические напитки содержат комплекс витаминов глюк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Благодаря удобной упаковке энергетические напитки можно носить с собой и употреблять в любой ситуации (на танцполе, в машине), чего нельзя сказать о кофе или ча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Содержимое 3" descr=""/>
          <p:cNvPicPr/>
          <p:nvPr/>
        </p:nvPicPr>
        <p:blipFill>
          <a:blip r:embed="rId1"/>
          <a:stretch/>
        </p:blipFill>
        <p:spPr>
          <a:xfrm>
            <a:off x="4260960" y="804960"/>
            <a:ext cx="4902120" cy="605952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450720" y="-189000"/>
            <a:ext cx="82425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5:45:40Z</dcterms:created>
  <dc:creator>Школа</dc:creator>
  <dc:description/>
  <dc:language>en-US</dc:language>
  <cp:lastModifiedBy>admin</cp:lastModifiedBy>
  <dcterms:modified xsi:type="dcterms:W3CDTF">2013-05-05T05:00:24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