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EB7-1A22-4E1E-8567-3096D2CB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74A-88C0-42A3-999B-FF4FF5C8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144-D0B2-4EC6-A2CE-C7F8B7FF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9FC-D5F8-42A3-8936-3BF29914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E49-DC67-45B4-B7EA-89DBF491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15E-8786-470A-AADC-36B0D21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8E5-37E8-4EA2-A28A-ECAE2666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54B-6700-4FF9-9ED5-FB8A8989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2F8-1840-4902-9963-50051FA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DC7-E1C1-42C3-9611-3A7CF8E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278-C593-40F1-BD9C-8871424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DB3-C5EE-4C2D-AA96-19AB9C97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46705-88F3-493C-92E6-50F39DB66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Arial"/>
              </a:rPr>
              <a:t>Наши проек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80"/>
                </a:solidFill>
                <a:latin typeface="Arial"/>
              </a:rPr>
              <a:t>Фонта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2000" y="1295280"/>
            <a:ext cx="8352000" cy="590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71280"/>
            <a:ext cx="90709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Малинина М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24000" y="1152360"/>
            <a:ext cx="7775640" cy="604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Верёвкин Дани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1080" y="1224000"/>
            <a:ext cx="8207280" cy="5975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Атанян Со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36800" y="1204920"/>
            <a:ext cx="7962840" cy="6067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Гафарова Наз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7:18:46Z</dcterms:created>
  <dc:creator/>
  <dc:description/>
  <dc:language>en-US</dc:language>
  <cp:lastModifiedBy/>
  <dcterms:modified xsi:type="dcterms:W3CDTF">2013-02-22T17:28:16Z</dcterms:modified>
  <cp:revision>2</cp:revision>
  <dc:subject/>
  <dc:title/>
</cp:coreProperties>
</file>