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3DC-FD78-4F20-8EAE-DC9AD435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1279-7C80-4D8C-96A5-FF56AF6F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8A9-D474-4081-820A-74BE326E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BF2-642D-4A80-AE65-0191AAE7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182-C941-49F9-8635-E14CA3F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CEA-84CE-4233-963B-D8D106FC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55D-00DB-43C5-963F-D5FE3B5B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0B0-E8D2-467C-95AC-6EB2A722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FCE-9A63-4AB4-944C-53EEEA66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7DC-895E-4516-8C0F-1FA4306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AD2-76E1-42BF-9223-21C745F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D66-BCD5-40C4-92D2-0CC24109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EC2FF-F1A7-4F95-B73E-4A4E567216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80"/>
                </a:solidFill>
                <a:latin typeface="Arial"/>
              </a:rPr>
              <a:t>Наши проек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80"/>
                </a:solidFill>
                <a:latin typeface="Arial"/>
              </a:rPr>
              <a:t>Фонтан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2000" y="1295280"/>
            <a:ext cx="8352000" cy="590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71280"/>
            <a:ext cx="9070920" cy="1492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Малинина М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24000" y="1152360"/>
            <a:ext cx="7775640" cy="6048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Верёвкин Дани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1080" y="1224000"/>
            <a:ext cx="8207280" cy="5975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Атанян Со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36800" y="1204920"/>
            <a:ext cx="7962840" cy="6067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Гафарова Наз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7:18:46Z</dcterms:created>
  <dc:creator/>
  <dc:description/>
  <dc:language>en-US</dc:language>
  <cp:lastModifiedBy/>
  <dcterms:modified xsi:type="dcterms:W3CDTF">2013-02-22T17:28:16Z</dcterms:modified>
  <cp:revision>2</cp:revision>
  <dc:subject/>
  <dc:title/>
</cp:coreProperties>
</file>