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602-3B67-4F34-A4AD-9984476A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D8D-04FE-4A03-A9B7-220138B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4BD-658B-4925-9D98-0334813A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218-0B1D-49C9-83FC-ED966110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301-5691-4F6C-93CB-DE38851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813-BB3C-412C-8C1C-BBA19F2F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976-A66A-4FEB-A2FE-BD1C948B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F7B-629A-48E5-9827-4F5102B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669-72D9-4D12-9A03-25946D8A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85F-7DE0-43D1-A633-47938EE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0FB-772F-431F-A04E-B5ECF8E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179-3847-4618-B8F3-79BE7A13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B62-DB50-48A4-9E1F-9376F825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r.edu.27.ru/dlrstore/9d171500-2996-4e3d-b780-f58133880517/bird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fotoslovar.ucoz.ru/_bl/0/90682596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thumb/d/dd/MattiParkkonen_Orava.jpg/729px-MattiParkkonen_Orava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club.foto.ru/gallery/images/photo/2007/12/29/1015184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tariowildflower.com/images/common_burdock_seed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55.radikal.ru/i147/0909/04/662eb86802d5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leningrad.su/jj/2007/dach10-7.jpg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349000"/>
            <a:ext cx="828036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явление ароморфозов и идиоадаптаций у растени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учиться определять ароморфозы, идиоадаптации у растени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32 из 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8240" y="189000"/>
            <a:ext cx="2900520" cy="367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2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0"/>
            <a:ext cx="5076720" cy="362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3068640"/>
            <a:ext cx="4422960" cy="36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5 из 5545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00536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4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449520" cy="337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5 из 4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549360"/>
            <a:ext cx="3168720" cy="235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0 из 1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3573360"/>
            <a:ext cx="4032360" cy="302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40 из 340"/>
          <p:cNvPicPr/>
          <p:nvPr/>
        </p:nvPicPr>
        <p:blipFill>
          <a:blip r:embed="rId7"/>
          <a:stretch/>
        </p:blipFill>
        <p:spPr>
          <a:xfrm>
            <a:off x="4859280" y="620640"/>
            <a:ext cx="360036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Картинка 2 из 4339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275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12 из 175"/>
          <p:cNvPicPr/>
          <p:nvPr/>
        </p:nvPicPr>
        <p:blipFill>
          <a:blip r:embed="rId2"/>
          <a:stretch/>
        </p:blipFill>
        <p:spPr>
          <a:xfrm>
            <a:off x="108000" y="3197160"/>
            <a:ext cx="4392720" cy="36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3457440" cy="276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3 из 3306"/>
          <p:cNvPicPr/>
          <p:nvPr/>
        </p:nvPicPr>
        <p:blipFill>
          <a:blip r:embed="rId4"/>
          <a:stretch/>
        </p:blipFill>
        <p:spPr>
          <a:xfrm>
            <a:off x="4859280" y="3284640"/>
            <a:ext cx="40514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3691080"/>
            <a:ext cx="450036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82840" cy="642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34196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60560" cy="501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скунс"/>
          <p:cNvPicPr/>
          <p:nvPr/>
        </p:nvPicPr>
        <p:blipFill>
          <a:blip r:embed="rId2"/>
          <a:stretch/>
        </p:blipFill>
        <p:spPr>
          <a:xfrm>
            <a:off x="4356000" y="3645000"/>
            <a:ext cx="4500720" cy="293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endrobates_8"/>
          <p:cNvPicPr/>
          <p:nvPr/>
        </p:nvPicPr>
        <p:blipFill>
          <a:blip r:embed="rId3"/>
          <a:stretch/>
        </p:blipFill>
        <p:spPr>
          <a:xfrm>
            <a:off x="4356000" y="476280"/>
            <a:ext cx="44625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b_DSC_1025"/>
          <p:cNvPicPr/>
          <p:nvPr/>
        </p:nvPicPr>
        <p:blipFill>
          <a:blip r:embed="rId1"/>
          <a:stretch/>
        </p:blipFill>
        <p:spPr>
          <a:xfrm>
            <a:off x="250920" y="3357720"/>
            <a:ext cx="4681440" cy="317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СКОРПИОН ПЁСТРЫЙ"/>
          <p:cNvPicPr/>
          <p:nvPr/>
        </p:nvPicPr>
        <p:blipFill>
          <a:blip r:embed="rId2"/>
          <a:stretch/>
        </p:blipFill>
        <p:spPr>
          <a:xfrm>
            <a:off x="468360" y="189000"/>
            <a:ext cx="3865680" cy="28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konek"/>
          <p:cNvPicPr/>
          <p:nvPr/>
        </p:nvPicPr>
        <p:blipFill>
          <a:blip r:embed="rId3"/>
          <a:stretch/>
        </p:blipFill>
        <p:spPr>
          <a:xfrm>
            <a:off x="5148360" y="34290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Чудеса камуфляжа (8 фото)"/>
          <p:cNvPicPr/>
          <p:nvPr/>
        </p:nvPicPr>
        <p:blipFill>
          <a:blip r:embed="rId4"/>
          <a:stretch/>
        </p:blipFill>
        <p:spPr>
          <a:xfrm>
            <a:off x="4716360" y="333360"/>
            <a:ext cx="3970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7:34:53Z</dcterms:created>
  <dc:creator>Пользователь</dc:creator>
  <dc:description/>
  <dc:language>en-US</dc:language>
  <cp:lastModifiedBy>Пользователь</cp:lastModifiedBy>
  <dcterms:modified xsi:type="dcterms:W3CDTF">2010-11-29T20:33:05Z</dcterms:modified>
  <cp:revision>3</cp:revision>
  <dc:subject/>
  <dc:title>Слайд 1</dc:title>
</cp:coreProperties>
</file>