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6114-4BC5-4CA2-BC22-52DC54B00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0781-5B3E-49F0-BDE1-FC6931F23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2D46-B077-440E-AC9C-AFD6B3F09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5F4B-070A-4074-AFAC-DB28489BC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00FF-AB4C-497A-9C64-17C8F8C8E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8679-B36A-4FFB-A716-C177DAE6F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3CDE-DA52-4ECC-BBF5-1998DBCD7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B130-7EE6-4738-8E08-328A0FCD1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5B4C-8E72-4F58-8D04-8ECA868A1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63FC-F0D2-4A84-BD1F-DC61557E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9BE5-AB70-4EEA-AF75-80DBE687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766A-4F7C-41A9-95D6-774E19FC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C0847-8137-440E-A015-433DC5EAA8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or.edu.27.ru/dlrstore/9d171500-2996-4e3d-b780-f58133880517/birds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fotoslovar.ucoz.ru/_bl/0/90682596.jpg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upload.wikimedia.org/wikipedia/commons/thumb/d/dd/MattiParkkonen_Orava.jpg/729px-MattiParkkonen_Orava.jpg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club.foto.ru/gallery/images/photo/2007/12/29/1015184.jpg" TargetMode="External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ontariowildflower.com/images/common_burdock_seed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s55.radikal.ru/i147/0909/04/662eb86802d5.jpg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www.leningrad.su/jj/2007/dach10-7.jpg" TargetMode="External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аборатор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4920" y="2349000"/>
            <a:ext cx="8280360" cy="32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ема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выявление ароморфозов и идиоадаптаций у растений и живот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Цель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научиться определять ароморфозы, идиоадаптации у растений и живот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Картинка 32 из 7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8240" y="189000"/>
            <a:ext cx="2900520" cy="3671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Картинка 126 из 6400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51280" y="0"/>
            <a:ext cx="5076720" cy="36291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Картинка 9 из 6400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356000" y="3068640"/>
            <a:ext cx="4422960" cy="36320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Картинка 5 из 55457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95280" y="4005360"/>
            <a:ext cx="359892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Картинка 4 из 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3284640"/>
            <a:ext cx="3449520" cy="3371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Картинка 15 из 43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71640" y="549360"/>
            <a:ext cx="3168720" cy="23540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Картинка 10 из 19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356000" y="3573360"/>
            <a:ext cx="4032360" cy="3027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Картинка 40 из 340"/>
          <p:cNvPicPr/>
          <p:nvPr/>
        </p:nvPicPr>
        <p:blipFill>
          <a:blip r:embed="rId7"/>
          <a:stretch/>
        </p:blipFill>
        <p:spPr>
          <a:xfrm>
            <a:off x="4859280" y="620640"/>
            <a:ext cx="3600360" cy="22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Картинка 2 из 4339"/>
          <p:cNvPicPr/>
          <p:nvPr/>
        </p:nvPicPr>
        <p:blipFill>
          <a:blip r:embed="rId1"/>
          <a:stretch/>
        </p:blipFill>
        <p:spPr>
          <a:xfrm>
            <a:off x="179280" y="333360"/>
            <a:ext cx="5077080" cy="2752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Картинка 12 из 175"/>
          <p:cNvPicPr/>
          <p:nvPr/>
        </p:nvPicPr>
        <p:blipFill>
          <a:blip r:embed="rId2"/>
          <a:stretch/>
        </p:blipFill>
        <p:spPr>
          <a:xfrm>
            <a:off x="108000" y="3197160"/>
            <a:ext cx="4392720" cy="3660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435640" y="260280"/>
            <a:ext cx="3457440" cy="2766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Картинка 3 из 3306"/>
          <p:cNvPicPr/>
          <p:nvPr/>
        </p:nvPicPr>
        <p:blipFill>
          <a:blip r:embed="rId4"/>
          <a:stretch/>
        </p:blipFill>
        <p:spPr>
          <a:xfrm>
            <a:off x="4859280" y="3284640"/>
            <a:ext cx="4051440" cy="30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427640" y="3691080"/>
            <a:ext cx="4500360" cy="3166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08000" y="189000"/>
            <a:ext cx="4182840" cy="6424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932360" y="115920"/>
            <a:ext cx="34196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3760560" cy="5013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скунс"/>
          <p:cNvPicPr/>
          <p:nvPr/>
        </p:nvPicPr>
        <p:blipFill>
          <a:blip r:embed="rId2"/>
          <a:stretch/>
        </p:blipFill>
        <p:spPr>
          <a:xfrm>
            <a:off x="4356000" y="3645000"/>
            <a:ext cx="4500720" cy="2935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Dendrobates_8"/>
          <p:cNvPicPr/>
          <p:nvPr/>
        </p:nvPicPr>
        <p:blipFill>
          <a:blip r:embed="rId3"/>
          <a:stretch/>
        </p:blipFill>
        <p:spPr>
          <a:xfrm>
            <a:off x="4356000" y="476280"/>
            <a:ext cx="446256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7" descr="b_DSC_1025"/>
          <p:cNvPicPr/>
          <p:nvPr/>
        </p:nvPicPr>
        <p:blipFill>
          <a:blip r:embed="rId1"/>
          <a:stretch/>
        </p:blipFill>
        <p:spPr>
          <a:xfrm>
            <a:off x="250920" y="3357720"/>
            <a:ext cx="4681440" cy="3174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СКОРПИОН ПЁСТРЫЙ"/>
          <p:cNvPicPr/>
          <p:nvPr/>
        </p:nvPicPr>
        <p:blipFill>
          <a:blip r:embed="rId2"/>
          <a:stretch/>
        </p:blipFill>
        <p:spPr>
          <a:xfrm>
            <a:off x="468360" y="189000"/>
            <a:ext cx="3865680" cy="2860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konek"/>
          <p:cNvPicPr/>
          <p:nvPr/>
        </p:nvPicPr>
        <p:blipFill>
          <a:blip r:embed="rId3"/>
          <a:stretch/>
        </p:blipFill>
        <p:spPr>
          <a:xfrm>
            <a:off x="5148360" y="3429000"/>
            <a:ext cx="3809880" cy="2981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Чудеса камуфляжа (8 фото)"/>
          <p:cNvPicPr/>
          <p:nvPr/>
        </p:nvPicPr>
        <p:blipFill>
          <a:blip r:embed="rId4"/>
          <a:stretch/>
        </p:blipFill>
        <p:spPr>
          <a:xfrm>
            <a:off x="4716360" y="333360"/>
            <a:ext cx="3970440" cy="26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9T17:34:53Z</dcterms:created>
  <dc:creator>Пользователь</dc:creator>
  <dc:description/>
  <dc:language>en-US</dc:language>
  <cp:lastModifiedBy>Пользователь</cp:lastModifiedBy>
  <dcterms:modified xsi:type="dcterms:W3CDTF">2010-11-29T20:33:05Z</dcterms:modified>
  <cp:revision>3</cp:revision>
  <dc:subject/>
  <dc:title>Слайд 1</dc:title>
</cp:coreProperties>
</file>