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645-9AFC-42F2-B02D-1055136E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301-F716-498E-B264-760FA385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73D-BE20-411E-A5DE-326D6ACB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A87-A23C-4004-8BE2-CA07708C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E48A-28FB-4E83-9241-B2AF3BE0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F115-6244-4095-B53C-F14A8FAA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3416-33DA-4A4A-B9FF-6C25001F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378B-CA86-40BE-AA2F-7119EE9E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FA47-3EFD-4EB5-B06F-0DB195E4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D8B2-19AE-4D1A-9BA9-CD845E2E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3E49-3878-4833-8AA4-6E851E21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3E5-7ADA-438D-AFF5-7C346917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E52B-E7FD-4AC6-845B-DD6F0572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5F30-AB42-4667-850E-718F6479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2F13-57A8-41C3-B41B-D41E8D14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9A92-9D58-4C6C-BC18-1592EFE0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6E56-D125-42B8-871D-132649AC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192-1D3F-4731-8BCB-2816BE87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A59-B57E-4554-AA6E-DD0DCCDD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617-85C0-4F94-AFA1-82C25898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F68-95B4-4655-9780-932B3B78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25A-AC4A-4E3E-9754-AAD2A0D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C21-FE82-426D-9536-C16813BB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D26-2326-40A0-A99D-5E84082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0F39-4AA8-48DF-8D44-F5B1B65779C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79E2-9DE9-419A-B4C5-4A5746F615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55640" y="260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ехнологическая карта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052640"/>
            <a:ext cx="8353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рок комплексного применения зн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оц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карян А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997360"/>
            <a:ext cx="828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3284640"/>
            <a:ext cx="842472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ывать аккурат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формировать навыки самостоятельной работы и самопровер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вива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ать над совершенствованием математически грамотной реч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вышать эмоциональный настрой учащихся путем привлечения наглядности и технических средств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 урока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онтальная работа с использованием презент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ндивидуальная раб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льтимедийный проек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.Я. Виленкин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.И.  Жохов «Математи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5 класс для общеобразовательных шко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70828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общить знания по теме «Проценты». Закрепить умение находить % от числ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числа по его 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а также вычислять  процентное отношение двух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68360" y="4724280"/>
            <a:ext cx="934920" cy="36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40360" y="3789360"/>
            <a:ext cx="1008000" cy="36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3213000"/>
            <a:ext cx="100800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24720" y="2565360"/>
            <a:ext cx="1008000" cy="287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1989000"/>
            <a:ext cx="934920" cy="28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76280"/>
            <a:ext cx="874872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Работа над определением типов задач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на каждую парту раздаются одинаковые задания, в которых о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олжны определить типы задач на проценты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а) На клумбе посадили 36 луковиц тюльпанов, это 48% всех купленных луковиц. Сколько всего луковиц купили? (2 ти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б) Рабочий по плану должен изготовить 250 деталей, но он перевыполнил план на 12%.Сколько деталей он сделал? (1 т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) При обработке 80 т риса получили 60 т крупы. Найдите процент выхода крупы при обработке риса. (3 т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) Рыбак поймал 14 лещей, что составляет 28% всего улова. Сколько всего рыб поймал рыбак?       (2 т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е) Масса медвежонка составляет 15% массы белого медведя. Найдите массу медвежонка, если белый медведь весит 120 кг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 ти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92360" y="549360"/>
            <a:ext cx="611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ШЕНИЕ ЗАДАЧ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59120" y="2733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6286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1125360"/>
            <a:ext cx="7993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ДАЧА 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рактористы вспахали в первый день 12% пол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о второй день 24% поля. После этого им осталось вспахать 320 га. Сколько гектаров занимает п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ЕШЕНИЕ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равним с решением у доск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-(12+24)=6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20 га       –   6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поле  -  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56000" y="43657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20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64 * 100 = 500(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58053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вет: Поле занимает 500 гект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333360"/>
            <a:ext cx="87138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ЗАДАЧА 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двух сосудах по 7,5 л. машинного масла. Вначале из первого сосуда взяли 20% имевшегося там масла и налили его во второй сосуд. Затем из второго сосуда взяли 20% оказавшегося там масла и налили его в первый сосуд. В каком сосуде масла стало больше и на сколько ли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прос: К какому типу задач на проценты относится эта задача? (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ахождение процента от чис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59280" y="1557360"/>
            <a:ext cx="863280" cy="576360"/>
          </a:xfrm>
          <a:prstGeom prst="rightArrow">
            <a:avLst>
              <a:gd name="adj1" fmla="val 50000"/>
              <a:gd name="adj2" fmla="val 37445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89000"/>
            <a:ext cx="79200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341360"/>
            <a:ext cx="792000" cy="1368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,5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35280" y="189000"/>
            <a:ext cx="79200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1341360"/>
            <a:ext cx="792000" cy="1368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,5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189000"/>
            <a:ext cx="79200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720" y="260280"/>
            <a:ext cx="79200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43280" y="3141720"/>
            <a:ext cx="630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,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: 100 * 20 = 1,5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л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ли 7,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5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5(л) –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зяли из 1и добавили во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,5 - 1,5 = 6(л) -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тало в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,5 + 1,5 =9 (л) –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тало во 2-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40360" y="1700280"/>
            <a:ext cx="792000" cy="1008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08720" y="1052640"/>
            <a:ext cx="792000" cy="1728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43280" y="5157720"/>
            <a:ext cx="1224000" cy="647640"/>
          </a:xfrm>
          <a:prstGeom prst="rightArrow">
            <a:avLst>
              <a:gd name="adj1" fmla="val 50000"/>
              <a:gd name="adj2" fmla="val 47248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867280" y="1773360"/>
            <a:ext cx="792360" cy="433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47640" y="189000"/>
            <a:ext cx="79236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189000"/>
            <a:ext cx="79200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3645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5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,8(л) –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зяли из 2 и добавили в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 - 1,8 = 7,2(л) -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тало во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 + 1,8 =7,8 (л) –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стало во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1197000"/>
            <a:ext cx="792360" cy="1512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,8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1413000"/>
            <a:ext cx="792000" cy="129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,2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484280"/>
            <a:ext cx="33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ольше стало в первом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,8-7,2 = 0,6(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55640" y="1700280"/>
            <a:ext cx="770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бят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следующем уроке мы будем писать к/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дома выполнит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Comic Sans MS"/>
              </a:rPr>
              <a:t>к/р 12 вариант 4 на стр.  138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дактических материа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сем спасибо за урок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908000" y="2349360"/>
            <a:ext cx="59770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МОЛОД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50920" y="0"/>
          <a:ext cx="8712000" cy="4530600"/>
        </p:xfrm>
        <a:graphic>
          <a:graphicData uri="http://schemas.openxmlformats.org/drawingml/2006/table">
            <a:tbl>
              <a:tblPr/>
              <a:tblGrid>
                <a:gridCol w="1563480"/>
                <a:gridCol w="1646280"/>
                <a:gridCol w="1644840"/>
                <a:gridCol w="1841400"/>
                <a:gridCol w="20160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орма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польз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рганизационный момент (2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р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ушают цели уро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знакомятся с ходом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общает тему и цель уро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вторение ранее изученных ф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тематический диктан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23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дивидуальна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р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айды 6 -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меняют ранее полученные знания по теме. Проверяют правильность своего реш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еди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чтобы каждый работал индивидуаль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сит проговаривать основные правила при провер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шение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5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ронтальна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индивиду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айд 11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е учеников поочередно работают у доски – остальные в тетрад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ет вопросы по ходу решения. Обращает внимание на грамотное оформление задачи. Вовлекает остальных учеников в процесс решения зада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50920" y="4508640"/>
            <a:ext cx="158436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 м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4508640"/>
            <a:ext cx="16570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4508640"/>
            <a:ext cx="158436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4508640"/>
            <a:ext cx="187164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оварива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ли в теч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говари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авил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казы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и  впечат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т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ывают д/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48360" y="4508640"/>
            <a:ext cx="201636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ет вопрос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ходе уро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дач реша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 оценки за ур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ет д/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5 клас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16000" y="1700280"/>
            <a:ext cx="6769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ЦЕН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одзаголовок 2"/>
          <p:cNvSpPr/>
          <p:nvPr/>
        </p:nvSpPr>
        <p:spPr>
          <a:xfrm>
            <a:off x="395280" y="2133720"/>
            <a:ext cx="82152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ЦЕЛЬ УРОКА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: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обобщить знания по теме «Проценты». Закрепить умение находить % от числа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числа по его %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а также вычислять  процентное отношение двух чисел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3"/>
          <p:cNvSpPr/>
          <p:nvPr/>
        </p:nvSpPr>
        <p:spPr>
          <a:xfrm>
            <a:off x="846720" y="2133720"/>
            <a:ext cx="759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ЧЕ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КТА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3068640"/>
            <a:ext cx="60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йти % от числа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1 тип задач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428920" y="1643040"/>
            <a:ext cx="397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 от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от 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% от 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% от 8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% от 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7" descr="01_1.jpg"/>
          <p:cNvPicPr/>
          <p:nvPr/>
        </p:nvPicPr>
        <p:blipFill>
          <a:blip r:embed="rId1"/>
          <a:stretch/>
        </p:blipFill>
        <p:spPr>
          <a:xfrm>
            <a:off x="324000" y="907920"/>
            <a:ext cx="110304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Найти число по его %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2 тип задач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970920" y="1413000"/>
            <a:ext cx="775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 которого равны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его равны 5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 которого равны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% его равны 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% которого равны 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7" descr="01_1.jpg"/>
          <p:cNvPicPr/>
          <p:nvPr/>
        </p:nvPicPr>
        <p:blipFill>
          <a:blip r:embed="rId1"/>
          <a:stretch/>
        </p:blipFill>
        <p:spPr>
          <a:xfrm>
            <a:off x="0" y="692280"/>
            <a:ext cx="11034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Сколько % составляет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3 тип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971640" y="1413000"/>
            <a:ext cx="7583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от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от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от 1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от 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7 от 7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5268960" y="2143080"/>
                <a:ext cx="295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7" name="Rectangle 10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7" descr="01_1.jpg"/>
          <p:cNvPicPr/>
          <p:nvPr/>
        </p:nvPicPr>
        <p:blipFill>
          <a:blip r:embed="rId1"/>
          <a:stretch/>
        </p:blipFill>
        <p:spPr>
          <a:xfrm>
            <a:off x="179280" y="260280"/>
            <a:ext cx="1103400" cy="135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Times New Roman"/>
              </a:rPr>
              <a:t>Проверяем 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084720" y="1557360"/>
            <a:ext cx="25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5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1,2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7,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76720" y="1557360"/>
            <a:ext cx="253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1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5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2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 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 10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55640" y="1557360"/>
            <a:ext cx="25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5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5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3,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 10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 5,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j0232133"/>
          <p:cNvPicPr/>
          <p:nvPr/>
        </p:nvPicPr>
        <p:blipFill>
          <a:blip r:embed="rId1"/>
          <a:stretch/>
        </p:blipFill>
        <p:spPr>
          <a:xfrm>
            <a:off x="7751880" y="189000"/>
            <a:ext cx="139212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1:59:04Z</dcterms:created>
  <dc:creator>Дильмагамбетовы</dc:creator>
  <dc:description/>
  <dc:language>en-US</dc:language>
  <cp:lastModifiedBy>Яша</cp:lastModifiedBy>
  <dcterms:modified xsi:type="dcterms:W3CDTF">2013-05-03T12:38:05Z</dcterms:modified>
  <cp:revision>23</cp:revision>
  <dc:subject/>
  <dc:title>Слайд 1</dc:title>
</cp:coreProperties>
</file>