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956-16F7-4647-9920-FC379563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16B-00C9-4301-9657-3417E79C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A7E-BE3B-40CB-9FBC-E3EAF2ED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357-9281-4A0B-941C-22DEE05D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4FCF-747D-408E-8246-6738E936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4EC1-2CA6-4D8B-B83A-B7BD739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0026-9002-4C7D-B090-A60FFCB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60A-18D2-4E3D-AF1D-5610D372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A96-93AC-4EA4-8D44-BB283DBA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F6A-0704-463A-8AC8-E5E70D38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A4C5-6F1B-4A15-9209-BD00DD5A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675-E5F8-418D-8E19-1F9DA58F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AC25-ECA9-47B8-B0A5-B2D5B2F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2A1-4B56-454E-9714-96E7BA8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C9C-D10E-4561-A0DD-93856A0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BA0B-819A-4DE4-B1A2-8950DC15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6C4D-603F-4F43-8941-A47FE007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4D4-3223-4F3A-99D9-8B2B29A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3B4-42C5-4DD1-940D-C7F8110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3B0-E9E1-4431-9D03-0C210A3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45E-7D99-4EB4-8C51-2D7ECBC1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C0C-E8B2-4E8C-9BCC-DF93581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220-C768-4EF1-B7F2-980962F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37B-34E0-4BD1-BC05-C15B626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5E7-59CF-4941-8B97-434FB6135E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FCE3-AC10-46E6-A1B4-8EC26AC964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260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052640"/>
            <a:ext cx="8353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рок комплексного применения зн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арян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997360"/>
            <a:ext cx="828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3284640"/>
            <a:ext cx="84247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аккурат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ормировать навыки самостоятельной работы и самопровер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ть над совершенствованием математически грамотной реч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вышать эмоциональный настрой учащихся путем привлечения наглядности и технических средств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урока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нтальная работа с использованием презент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ндивидуа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льтимедийный прое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.Я. Виленки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.И.  Жохов «Математи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5 класс для общеобразовательных шко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7082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бщить знания по теме «Проценты». Закрепить умение находить % от числ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числа по его 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 также вычислять  процентное отношение дву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4724280"/>
            <a:ext cx="93492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3789360"/>
            <a:ext cx="100800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3213000"/>
            <a:ext cx="1008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565360"/>
            <a:ext cx="1008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1989000"/>
            <a:ext cx="934920" cy="2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76280"/>
            <a:ext cx="87487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Работа над определением типов задач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на каждую парту раздаются одинаковые задания, в которых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лжны определить типы задач на процен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На клумбе посадили 36 луковиц тюльпанов, это 48% всех купленных луковиц. Сколько всего луковиц купили? (2 ти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Рабочий по плану должен изготовить 250 деталей, но он перевыполнил план на 12%.Сколько деталей он сделал? (1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и обработке 80 т риса получили 60 т крупы. Найдите процент выхода крупы при обработке риса. (3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) Рыбак поймал 14 лещей, что составляет 28% всего улова. Сколько всего рыб поймал рыбак?       (2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) Масса медвежонка составляет 15% массы белого медведя. Найдите массу медвежонка, если белый медведь весит 120 кг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92360" y="549360"/>
            <a:ext cx="611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 ЗАДАЧ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59120" y="2733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62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125360"/>
            <a:ext cx="7993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ктористы вспахали в первый день 12% пол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о второй день 24% поля. После этого им осталось вспахать 320 га. Сколько гектаров занимает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Ш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авним с решением у до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-(12+24)=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20 га       –   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оле  -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4365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0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64 * 100 = 500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580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 Поле занимает 500 гект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333360"/>
            <a:ext cx="87138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двух сосудах по 7,5 л. машинного масла. Вначале из первого сосуда взяли 20% имевшегося там масла и налили его во второй сосуд. Затем из второго сосуда взяли 20% оказавшегося там масла и налили его в первый сосуд. В каком сосуде масла стало больше и на сколько ли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прос: К какому типу задач на проценты относится эта задача?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ахождение процента от чис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59280" y="1557360"/>
            <a:ext cx="863280" cy="576360"/>
          </a:xfrm>
          <a:prstGeom prst="rightArrow">
            <a:avLst>
              <a:gd name="adj1" fmla="val 50000"/>
              <a:gd name="adj2" fmla="val 3744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341360"/>
            <a:ext cx="792000" cy="1368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5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1341360"/>
            <a:ext cx="792000" cy="1368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5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60280"/>
            <a:ext cx="79200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3141720"/>
            <a:ext cx="63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 100 * 20 = 1,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л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ли 7,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5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зяли из 1и добавили в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 - 1,5 = 6(л) -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 + 1,5 =9 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2-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1700280"/>
            <a:ext cx="792000" cy="1008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1052640"/>
            <a:ext cx="792000" cy="1728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15772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867280" y="1773360"/>
            <a:ext cx="79236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189000"/>
            <a:ext cx="79236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36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8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зяли из 2 и добавили в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 - 1,8 = 7,2(л) -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 + 1,8 =7,8 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1197000"/>
            <a:ext cx="792360" cy="151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8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1413000"/>
            <a:ext cx="792000" cy="129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2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484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льше стало в перво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8-7,2 = 0,6(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1700280"/>
            <a:ext cx="770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я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следующем уроке мы будем писать к/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дома выполнит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к/р 12 вариант 4 на стр.  138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дактических материа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сем спасибо за уро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8000" y="2349360"/>
            <a:ext cx="5977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МОЛОД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0"/>
          <a:ext cx="8712000" cy="4530600"/>
        </p:xfrm>
        <a:graphic>
          <a:graphicData uri="http://schemas.openxmlformats.org/drawingml/2006/table">
            <a:tbl>
              <a:tblPr/>
              <a:tblGrid>
                <a:gridCol w="1563480"/>
                <a:gridCol w="1646280"/>
                <a:gridCol w="1644840"/>
                <a:gridCol w="1841400"/>
                <a:gridCol w="20160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поль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ганизационный момент (2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шают цели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знакомятся с ходом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общает тему и цель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вторение ранее изученных ф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ческий диктан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23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дивиду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айды 6 -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меняют ранее полученные знания по теме. Проверяют правильность своего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еди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чтобы каждый работал индивидуаль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сит проговаривать основные правила при провер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шение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индивиду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айд 11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учеников поочередно работают у доски – остальные в тетрад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ет вопросы по ходу решения. Обращает внимание на грамотное оформление задачи. Вовлекает остальных учеников в процесс решения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50920" y="450864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508640"/>
            <a:ext cx="16570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450864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4508640"/>
            <a:ext cx="187164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оварива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ли в теч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говари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каз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и  впечат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т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ывают д/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4508640"/>
            <a:ext cx="2016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вопро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ходе 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дач реш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 оценки за ур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д/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16000" y="1700280"/>
            <a:ext cx="6769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одзаголовок 2"/>
          <p:cNvSpPr/>
          <p:nvPr/>
        </p:nvSpPr>
        <p:spPr>
          <a:xfrm>
            <a:off x="395280" y="2133720"/>
            <a:ext cx="82152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ЦЕЛЬ УРОКА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бобщить знания по теме «Проценты». Закрепить умение находить % от числа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числа по его %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а также вычислять  процентное отношение двух чисел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846720" y="2133720"/>
            <a:ext cx="75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3068640"/>
            <a:ext cx="60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ти % от числ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1 тип задач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428920" y="1643040"/>
            <a:ext cx="397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 от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от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 от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% от 8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% от 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7" descr="01_1.jpg"/>
          <p:cNvPicPr/>
          <p:nvPr/>
        </p:nvPicPr>
        <p:blipFill>
          <a:blip r:embed="rId1"/>
          <a:stretch/>
        </p:blipFill>
        <p:spPr>
          <a:xfrm>
            <a:off x="324000" y="907920"/>
            <a:ext cx="110304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Найти число по его %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2 тип задач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70920" y="1413000"/>
            <a:ext cx="775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которого равны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его равны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которого равны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% его равны 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 которого равны 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7" descr="01_1.jpg"/>
          <p:cNvPicPr/>
          <p:nvPr/>
        </p:nvPicPr>
        <p:blipFill>
          <a:blip r:embed="rId1"/>
          <a:stretch/>
        </p:blipFill>
        <p:spPr>
          <a:xfrm>
            <a:off x="0" y="692280"/>
            <a:ext cx="11034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Сколько % составляет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3 тип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971640" y="1413000"/>
            <a:ext cx="7583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т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от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от 1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т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7 от 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5268960" y="2143080"/>
                <a:ext cx="295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7" descr="01_1.jpg"/>
          <p:cNvPicPr/>
          <p:nvPr/>
        </p:nvPicPr>
        <p:blipFill>
          <a:blip r:embed="rId1"/>
          <a:stretch/>
        </p:blipFill>
        <p:spPr>
          <a:xfrm>
            <a:off x="179280" y="260280"/>
            <a:ext cx="110340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Проверяем 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084720" y="1557360"/>
            <a:ext cx="25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1,2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7,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557360"/>
            <a:ext cx="253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5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 1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55640" y="1557360"/>
            <a:ext cx="25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3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1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 5,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j0232133"/>
          <p:cNvPicPr/>
          <p:nvPr/>
        </p:nvPicPr>
        <p:blipFill>
          <a:blip r:embed="rId1"/>
          <a:stretch/>
        </p:blipFill>
        <p:spPr>
          <a:xfrm>
            <a:off x="7751880" y="189000"/>
            <a:ext cx="1392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1:59:04Z</dcterms:created>
  <dc:creator>Дильмагамбетовы</dc:creator>
  <dc:description/>
  <dc:language>en-US</dc:language>
  <cp:lastModifiedBy>Яша</cp:lastModifiedBy>
  <dcterms:modified xsi:type="dcterms:W3CDTF">2013-05-03T12:38:05Z</dcterms:modified>
  <cp:revision>23</cp:revision>
  <dc:subject/>
  <dc:title>Слайд 1</dc:title>
</cp:coreProperties>
</file>