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FDAD-3DF5-4144-9A44-F20B573043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C7FE-9C02-41DE-85E5-9776954027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81A5-9A16-4D9F-92AF-591FEB28A57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94FE-74D8-479D-9203-0850A0BE2F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F2AE-D304-4DA5-BDDE-0A60A8F75CB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A2A-B1FC-429D-96D8-4DD5A416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61E-1EE0-4D3E-AFD3-F26FF1BE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C6B-B2B7-4FC9-8C84-6FCDB938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2C3-5F38-49C3-A489-B99D0B5D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13C-ADB8-4D50-A19A-927EC3F0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265-50F8-444D-B9A3-E70B7130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BA0-18EF-47CB-9DC3-4459DF74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881-31C0-4E30-A007-CF6BD43D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DBD-45F7-4D2C-86EB-633F08E2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A1D-5081-48B1-8A54-B52BCAF4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FC2-DA2E-4933-8311-9E525010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7D8-4AF9-40BF-BEC7-FADAFE9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19FA-A53B-4A65-AFAD-5C35499C0B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egamults.ru/_fr/4/9919845.gif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rsd.ca/bretonhi/Staff%20Folder/Tigger%20rhonda.gif" TargetMode="External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Map of the Hundred Acre Wood with all the characters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 rot="21009000">
            <a:off x="2050920" y="1341000"/>
            <a:ext cx="51721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howcard Gothic"/>
              </a:rPr>
              <a:t>100 acre wood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howcard Gothic"/>
              <a:ea typeface="Showcard Gothic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5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Each daily  adventure in the forest gave Milne materials for his famous book 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”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Winnie-the-Pooh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”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, published in 192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1319959235_814"/>
          <p:cNvPicPr/>
          <p:nvPr/>
        </p:nvPicPr>
        <p:blipFill>
          <a:blip r:embed="rId1"/>
          <a:stretch/>
        </p:blipFill>
        <p:spPr>
          <a:xfrm rot="21360000">
            <a:off x="-390600" y="1904760"/>
            <a:ext cx="4891320" cy="3668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4ppd50"/>
          <p:cNvPicPr/>
          <p:nvPr/>
        </p:nvPicPr>
        <p:blipFill>
          <a:blip r:embed="rId2"/>
          <a:stretch/>
        </p:blipFill>
        <p:spPr>
          <a:xfrm rot="481200">
            <a:off x="4599000" y="284760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414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After  the book 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“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Winnie-the-Pooh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”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 A.A. Milne wrote other books 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“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Now We Are Six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”</a:t>
            </a:r>
            <a:r>
              <a:rPr b="0" i="1" lang="ru-RU" sz="3600" spc="-1" strike="noStrike">
                <a:solidFill>
                  <a:srgbClr val="000066"/>
                </a:solidFill>
                <a:latin typeface="Cambria"/>
              </a:rPr>
              <a:t> (1927) 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 and 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“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The House at Pooh Corner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”</a:t>
            </a:r>
            <a:r>
              <a:rPr b="0" i="1" lang="ru-RU" sz="3600" spc="-1" strike="noStrike">
                <a:solidFill>
                  <a:srgbClr val="000066"/>
                </a:solidFill>
                <a:latin typeface="Cambria"/>
              </a:rPr>
              <a:t> (1928)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. They are very popular today as they were many years ago when they were writte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C:\Users\Антон\Pictures\Now_We_Are_Six3.jpg"/>
          <p:cNvPicPr/>
          <p:nvPr/>
        </p:nvPicPr>
        <p:blipFill>
          <a:blip r:embed="rId1"/>
          <a:stretch/>
        </p:blipFill>
        <p:spPr>
          <a:xfrm rot="1116000">
            <a:off x="6443640" y="2060640"/>
            <a:ext cx="3706920" cy="5178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Антон\Pictures\House_at_Pooh_Corner,_The_Deluxe_Edition.jpg"/>
          <p:cNvPicPr/>
          <p:nvPr/>
        </p:nvPicPr>
        <p:blipFill>
          <a:blip r:embed="rId2"/>
          <a:stretch/>
        </p:blipFill>
        <p:spPr>
          <a:xfrm rot="21190200">
            <a:off x="3634920" y="-1035000"/>
            <a:ext cx="35258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0" y="0"/>
            <a:ext cx="241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What happened to Winni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C:\Users\Антон\Pictures\реальный Винни и др.jpg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0" y="2421000"/>
            <a:ext cx="234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The bear was p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into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glass cas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with the oth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animal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1.Who originally wrot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the Winnie-the-Pooh st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Walt Disney   A. Milne    B. Zakho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1773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2.Where was A.Milne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England    France      Russi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0" y="2997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3.A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.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Milne had got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two sons     a daughter    the only 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0" y="436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4.What is Winnie-the-Poo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a bear      a fox        a pi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5546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5.What is Winnie’s favourite f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apples      honey      cak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Map of the Hundred Acre Wood with all the characters"/>
          <p:cNvPicPr/>
          <p:nvPr/>
        </p:nvPicPr>
        <p:blipFill>
          <a:blip r:embed="rId2"/>
          <a:stretch/>
        </p:blipFill>
        <p:spPr>
          <a:xfrm>
            <a:off x="250920" y="0"/>
            <a:ext cx="8675640" cy="6853320"/>
          </a:xfrm>
          <a:prstGeom prst="rect">
            <a:avLst/>
          </a:prstGeom>
          <a:ln w="0">
            <a:noFill/>
          </a:ln>
        </p:spPr>
      </p:pic>
      <p:sp>
        <p:nvSpPr>
          <p:cNvPr id="84" name="WordArt 7"/>
          <p:cNvSpPr txBox="1"/>
          <p:nvPr/>
        </p:nvSpPr>
        <p:spPr>
          <a:xfrm rot="21009000">
            <a:off x="2050920" y="1341000"/>
            <a:ext cx="51721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howcard Gothic"/>
              </a:rPr>
              <a:t>100 acre wood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howcard Gothic"/>
              <a:ea typeface="Showcard Gothic"/>
            </a:endParaRPr>
          </a:p>
        </p:txBody>
      </p:sp>
    </p:spTree>
  </p:cSld>
  <p:transition spd="med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15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1155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1155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ANd9GcRSc4uVNV3yuqJfNdmtl3rfh1f5wg35o1lYbm27LXXLP-Bb9DV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0" y="15573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Comic Sans MS"/>
              </a:rPr>
              <a:t>Any noise annoys an oyster</a:t>
            </a:r>
            <a:br>
              <a:rPr sz="6000"/>
            </a:br>
            <a:r>
              <a:rPr b="0" lang="en-US" sz="6000" spc="-1" strike="noStrike">
                <a:solidFill>
                  <a:srgbClr val="0000cc"/>
                </a:solidFill>
                <a:latin typeface="Comic Sans MS"/>
              </a:rPr>
              <a:t>But a noisy oyster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Comic Sans MS"/>
              </a:rPr>
              <a:t>annoys an oyster mor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zoom_1655118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324000" y="85680"/>
            <a:ext cx="8569080" cy="67438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95280" y="3429000"/>
            <a:ext cx="849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If two witches were </a:t>
            </a:r>
            <a:r>
              <a:rPr b="0" lang="ru-RU" sz="5400" spc="-1" strike="noStrike">
                <a:solidFill>
                  <a:srgbClr val="000066"/>
                </a:solidFill>
                <a:latin typeface="Comic Sans MS"/>
              </a:rPr>
              <a:t>                   </a:t>
            </a: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watching two watches,</a:t>
            </a:r>
            <a:br>
              <a:rPr sz="5400"/>
            </a:b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Which witch would watch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which watch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witchs-wishes"/>
          <p:cNvPicPr/>
          <p:nvPr/>
        </p:nvPicPr>
        <p:blipFill>
          <a:blip r:embed="rId2">
            <a:lum bright="44000"/>
          </a:blip>
          <a:stretch/>
        </p:blipFill>
        <p:spPr>
          <a:xfrm rot="342000">
            <a:off x="1186920" y="259920"/>
            <a:ext cx="5473800" cy="6166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0" y="18900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I wish to wish th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wish you wish to wish,</a:t>
            </a:r>
            <a:br>
              <a:rPr sz="5400"/>
            </a:b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but if you wish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the wish the witch wishes,</a:t>
            </a:r>
            <a:br>
              <a:rPr sz="5400"/>
            </a:b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I won’t wish the wish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1b6d"/>
                </a:solidFill>
                <a:latin typeface="Comic Sans MS"/>
              </a:rPr>
              <a:t>you wish to wish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ANd9GcS5ljWQTNkJukVHDJB0KMJNGGqXM7DXXD9J4Y8mJafMP793xfa2kA"/>
          <p:cNvPicPr/>
          <p:nvPr/>
        </p:nvPicPr>
        <p:blipFill>
          <a:blip r:embed="rId2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50920" y="250020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If you tell Tom to tell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a tongue-twister</a:t>
            </a:r>
            <a:br>
              <a:rPr sz="5400"/>
            </a:b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His tongue will be twiste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as tongue-twister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Comic Sans MS"/>
              </a:rPr>
              <a:t>twists tongu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Map of the Hundred Acre Wood with all the characters"/>
          <p:cNvPicPr/>
          <p:nvPr/>
        </p:nvPicPr>
        <p:blipFill>
          <a:blip r:embed="rId2"/>
          <a:stretch/>
        </p:blipFill>
        <p:spPr>
          <a:xfrm>
            <a:off x="250920" y="0"/>
            <a:ext cx="8675640" cy="6853320"/>
          </a:xfrm>
          <a:prstGeom prst="rect">
            <a:avLst/>
          </a:prstGeom>
          <a:ln w="0">
            <a:noFill/>
          </a:ln>
        </p:spPr>
      </p:pic>
      <p:sp>
        <p:nvSpPr>
          <p:cNvPr id="94" name="WordArt 7"/>
          <p:cNvSpPr txBox="1"/>
          <p:nvPr/>
        </p:nvSpPr>
        <p:spPr>
          <a:xfrm rot="21009000">
            <a:off x="2050920" y="1341000"/>
            <a:ext cx="51721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howcard Gothic"/>
              </a:rPr>
              <a:t>100 acre wood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howcard Gothic"/>
              <a:ea typeface="Showcard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Антон\Pictures\винниоч.бол..jpg"/>
          <p:cNvPicPr/>
          <p:nvPr/>
        </p:nvPicPr>
        <p:blipFill>
          <a:blip r:embed="rId1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0" y="189000"/>
            <a:ext cx="51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Bookman Old Style"/>
              </a:rPr>
              <a:t>WINNIE-THE-POOH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Bookman Old Style"/>
              </a:rPr>
              <a:t>BY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66"/>
                </a:solidFill>
                <a:latin typeface="Bookman Old Style"/>
              </a:rPr>
              <a:t>A. A. MIL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 rot="630000">
            <a:off x="377640" y="5605560"/>
            <a:ext cx="18842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b6d"/>
                </a:solidFill>
                <a:latin typeface="Comic Sans MS"/>
              </a:rPr>
              <a:t>Eey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4786200" y="396360"/>
            <a:ext cx="435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He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often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los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es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his tail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 and asks his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friends to find his lost tail for hi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m. 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He often says “Thanks for noticin</a:t>
            </a: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g</a:t>
            </a: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 me” and “Oh, well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2" descr="Картинка 7 из 667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2920"/>
            <a:ext cx="476892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1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3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5786280" y="536040"/>
            <a:ext cx="3033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He is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a wise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animal.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He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often gives advice. He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also loves telling stories.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He can read and write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the-book-of-pooh-owl_2"/>
          <p:cNvPicPr/>
          <p:nvPr/>
        </p:nvPicPr>
        <p:blipFill>
          <a:blip r:embed="rId2"/>
          <a:stretch/>
        </p:blipFill>
        <p:spPr>
          <a:xfrm>
            <a:off x="0" y="0"/>
            <a:ext cx="5000760" cy="6000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5"/>
          <p:cNvSpPr/>
          <p:nvPr/>
        </p:nvSpPr>
        <p:spPr>
          <a:xfrm rot="1014600">
            <a:off x="1347480" y="6024240"/>
            <a:ext cx="117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6d"/>
                </a:solidFill>
                <a:latin typeface="Comic Sans MS"/>
              </a:rPr>
              <a:t>Ow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 flipH="1" rot="282000">
            <a:off x="2412720" y="6197400"/>
            <a:ext cx="26229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b6d"/>
                </a:solidFill>
                <a:latin typeface="Comic Sans MS"/>
              </a:rPr>
              <a:t>Tig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000760" y="-642240"/>
            <a:ext cx="37828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He is a very Bouncy Animal. He l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ik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es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to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bounce, bounce and bounce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1b6d"/>
                </a:solidFill>
                <a:latin typeface="Comic Sans MS"/>
              </a:rPr>
              <a:t>He h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a</a:t>
            </a:r>
            <a:r>
              <a:rPr b="0" lang="fr-FR" sz="4000" spc="-1" strike="noStrike">
                <a:solidFill>
                  <a:srgbClr val="001b6d"/>
                </a:solidFill>
                <a:latin typeface="Comic Sans MS"/>
              </a:rPr>
              <a:t>s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black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 and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 orange stripes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 and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 a springy tail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9" descr="Картинка 1 из 157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357800" cy="616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 rot="21252000">
            <a:off x="773280" y="5774760"/>
            <a:ext cx="1800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58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1b6d"/>
                </a:solidFill>
                <a:latin typeface="Comic Sans MS"/>
              </a:rPr>
              <a:t>Pigl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643720" y="-4320"/>
            <a:ext cx="350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He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 is a 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very small but 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very brave animal.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 He is the 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best friend 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of 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Winnie the Pooh. 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H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e l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ikes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 bright colo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u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rs and especially balloons</a:t>
            </a:r>
            <a:r>
              <a:rPr b="0" lang="en-US" sz="3600" spc="-1" strike="noStrike">
                <a:solidFill>
                  <a:srgbClr val="001b6d"/>
                </a:solidFill>
                <a:latin typeface="Comic Sans MS"/>
              </a:rPr>
              <a:t>.</a:t>
            </a:r>
            <a:r>
              <a:rPr b="0" lang="ru-RU" sz="3600" spc="-1" strike="noStrike">
                <a:solidFill>
                  <a:srgbClr val="001b6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1" descr="piglet"/>
          <p:cNvPicPr/>
          <p:nvPr/>
        </p:nvPicPr>
        <p:blipFill>
          <a:blip r:embed="rId2"/>
          <a:stretch/>
        </p:blipFill>
        <p:spPr>
          <a:xfrm>
            <a:off x="0" y="0"/>
            <a:ext cx="5072040" cy="585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4572000" y="31680"/>
            <a:ext cx="4572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He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doesn’t like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when 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anyo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disturbs or interrupts him while he is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busy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. His favourite food is the carrot and other vegetables, he </a:t>
            </a:r>
            <a:r>
              <a:rPr b="0" lang="en-US" sz="4000" spc="-1" strike="noStrike">
                <a:solidFill>
                  <a:srgbClr val="001b6d"/>
                </a:solidFill>
                <a:latin typeface="Comic Sans MS"/>
              </a:rPr>
              <a:t>tries not to meet</a:t>
            </a:r>
            <a:r>
              <a:rPr b="0" lang="ru-RU" sz="4000" spc="-1" strike="noStrike">
                <a:solidFill>
                  <a:srgbClr val="001b6d"/>
                </a:solidFill>
                <a:latin typeface="Comic Sans MS"/>
              </a:rPr>
              <a:t> Pooh during lunch ti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6" descr="ANd9GcQ1ZhzsjBAjsIU2850sKvmMiSEqD4ElhbaBHjH8uk4aTzFDDEkbWQ"/>
          <p:cNvPicPr/>
          <p:nvPr/>
        </p:nvPicPr>
        <p:blipFill>
          <a:blip r:embed="rId2"/>
          <a:stretch/>
        </p:blipFill>
        <p:spPr>
          <a:xfrm>
            <a:off x="0" y="0"/>
            <a:ext cx="4071960" cy="58579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 rot="160800">
            <a:off x="1643040" y="5857560"/>
            <a:ext cx="19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6d"/>
                </a:solidFill>
                <a:latin typeface="Comic Sans MS"/>
              </a:rPr>
              <a:t>Rabb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9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Map of the Hundred Acre Wood with all the characters"/>
          <p:cNvPicPr/>
          <p:nvPr/>
        </p:nvPicPr>
        <p:blipFill>
          <a:blip r:embed="rId2"/>
          <a:stretch/>
        </p:blipFill>
        <p:spPr>
          <a:xfrm>
            <a:off x="250920" y="0"/>
            <a:ext cx="8675640" cy="6853320"/>
          </a:xfrm>
          <a:prstGeom prst="rect">
            <a:avLst/>
          </a:prstGeom>
          <a:ln w="0">
            <a:noFill/>
          </a:ln>
        </p:spPr>
      </p:pic>
      <p:sp>
        <p:nvSpPr>
          <p:cNvPr id="111" name="WordArt 7"/>
          <p:cNvSpPr txBox="1"/>
          <p:nvPr/>
        </p:nvSpPr>
        <p:spPr>
          <a:xfrm rot="21009000">
            <a:off x="2050920" y="1341000"/>
            <a:ext cx="517212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howcard Gothic"/>
              </a:rPr>
              <a:t>100 acre wood</a:t>
            </a:r>
            <a:endParaRPr b="0" lang="en-US" sz="54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howcard Gothic"/>
              <a:ea typeface="Showcard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8"/>
          <p:cNvSpPr/>
          <p:nvPr/>
        </p:nvSpPr>
        <p:spPr>
          <a:xfrm>
            <a:off x="0" y="0"/>
            <a:ext cx="363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Alan Alexander Milne was born in London in 1882. His father was the headmaster of a small preparatory school. Milne</a:t>
            </a:r>
            <a:r>
              <a:rPr b="0" i="1" lang="ru-RU" sz="36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was the</a:t>
            </a:r>
            <a:r>
              <a:rPr b="0" i="1" lang="ru-RU" sz="36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younge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of the family</a:t>
            </a:r>
            <a:r>
              <a:rPr b="0" i="1" lang="en-US" sz="3600" spc="-1" strike="noStrike">
                <a:solidFill>
                  <a:srgbClr val="000066"/>
                </a:solidFill>
                <a:latin typeface="Calibri"/>
              </a:rPr>
              <a:t>’</a:t>
            </a:r>
            <a:r>
              <a:rPr b="0" i="1" lang="en-US" sz="3600" spc="-1" strike="noStrike">
                <a:solidFill>
                  <a:srgbClr val="000066"/>
                </a:solidFill>
                <a:latin typeface="Cambria"/>
              </a:rPr>
              <a:t>s three s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C:\Users\Антон\Pictures\Милн3.jpg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He went to Cambridge to become a mathematician. But he never di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C:\Users\Антон\Pictures\TrinityCollegeCamGreatCourt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0" y="189000"/>
            <a:ext cx="42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Milne has go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the only child </a:t>
            </a:r>
            <a:r>
              <a:rPr b="0" i="1" lang="ru-RU" sz="4000" spc="-1" strike="noStrike">
                <a:solidFill>
                  <a:srgbClr val="000066"/>
                </a:solidFill>
                <a:latin typeface="Cambria"/>
              </a:rPr>
              <a:t>- </a:t>
            </a: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Christopher Robi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C:\Users\Антон\Pictures\Милны с пухом.jpg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4"/>
          <p:cNvSpPr/>
          <p:nvPr/>
        </p:nvSpPr>
        <p:spPr>
          <a:xfrm>
            <a:off x="0" y="260280"/>
            <a:ext cx="4000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The Milnes bought him a teddy bear for the first  birth- day. The teddy bear was soon named Winnie after a real-life bear that lived at London Zo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C:\Users\Антон\Pictures\250px-Teddy_bear_27.jpg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Alan Milne wrote a lot of poems for </a:t>
            </a:r>
            <a:r>
              <a:rPr b="0" i="1" lang="ru-RU" sz="4000" spc="-1" strike="noStrike">
                <a:solidFill>
                  <a:srgbClr val="000066"/>
                </a:solidFill>
                <a:latin typeface="Cambria"/>
              </a:rPr>
              <a:t>    </a:t>
            </a: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Christopher Robin and about hi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C:\Users\Антон\Pictures\Complete_Tales_and_Poems_of_Winnie-The-Pooh.jpg"/>
          <p:cNvPicPr/>
          <p:nvPr/>
        </p:nvPicPr>
        <p:blipFill>
          <a:blip r:embed="rId1"/>
          <a:stretch/>
        </p:blipFill>
        <p:spPr>
          <a:xfrm rot="21369600">
            <a:off x="-19080" y="1757520"/>
            <a:ext cx="3436920" cy="487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Антон\Pictures\My_First_Winnie-The-Pooh.jpg"/>
          <p:cNvPicPr/>
          <p:nvPr/>
        </p:nvPicPr>
        <p:blipFill>
          <a:blip r:embed="rId2"/>
          <a:stretch/>
        </p:blipFill>
        <p:spPr>
          <a:xfrm rot="288600">
            <a:off x="3070080" y="1700280"/>
            <a:ext cx="3111480" cy="4951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Users\Антон\Pictures\книга6.jpg"/>
          <p:cNvPicPr/>
          <p:nvPr/>
        </p:nvPicPr>
        <p:blipFill>
          <a:blip r:embed="rId3"/>
          <a:stretch/>
        </p:blipFill>
        <p:spPr>
          <a:xfrm rot="21150600">
            <a:off x="5965560" y="1741320"/>
            <a:ext cx="3174840" cy="479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xit" presetID="16" presetSubtype="42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Антон\Pictures\Kilnwood_Farm_Entrance_-_geograph_org_uk_-_316499.jpg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Антон\Pictures\494px-East_Sussex_UK_locator_map_2010_svg.png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0" y="0"/>
            <a:ext cx="3924360" cy="73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In  1925 the Milnes bought a farm in Sussex. They used it for weekends away from London. From this old house it was a short walk over a bridge into the Ashdown Forest.</a:t>
            </a:r>
            <a:r>
              <a:rPr b="1" lang="en-US" sz="36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Cambria"/>
              </a:rPr>
              <a:t>Christopher Robin and his teddy, known by name Winnie, played t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2" descr="C:\Users\Антон\Pictures\крис и винни в лесу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00:20Z</dcterms:created>
  <dc:creator>Сулейманова Т.Ю.</dc:creator>
  <dc:description/>
  <dc:language>en-US</dc:language>
  <cp:lastModifiedBy>надежда</cp:lastModifiedBy>
  <dcterms:modified xsi:type="dcterms:W3CDTF">2012-05-09T09:17:10Z</dcterms:modified>
  <cp:revision>166</cp:revision>
  <dc:subject/>
  <dc:title>Презентация.ppt</dc:title>
</cp:coreProperties>
</file>