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C58-B066-49C2-9CD3-16E6EFC9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CA6-7B04-4DA3-A04A-D4D9C1B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A72-1BA7-4663-B51D-D176C577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7CD-04F7-482C-989C-B6A1E961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D5F-D77B-4E93-AD3E-32785000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AB2-94B3-4329-A35F-0916AB4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458-9465-49E6-8181-ABAB84DF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B45-8CC8-4DEE-8540-47685FE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1E2-6BA4-4844-9EFC-CE6A6F4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0AE-A7D8-41D8-A5CF-D3ED241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64B-D2CA-49CC-9E35-3480FAA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9F8-F57F-4A78-B184-56B3D69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02545-E953-4B85-BBE1-542CD82A69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80"/>
                </a:solidFill>
                <a:latin typeface="Arial"/>
              </a:rPr>
              <a:t>Мы рису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80"/>
                </a:solidFill>
                <a:latin typeface="Arial"/>
              </a:rPr>
              <a:t>зим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80"/>
                </a:solidFill>
                <a:latin typeface="Arial"/>
              </a:rPr>
              <a:t>Работы учащихся 2 В клас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2000" y="720720"/>
            <a:ext cx="864108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" y="431640"/>
            <a:ext cx="86392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6360"/>
            <a:ext cx="87836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0720" y="571680"/>
            <a:ext cx="863928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6720" y="955800"/>
            <a:ext cx="869328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6360" y="431640"/>
            <a:ext cx="899928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0720" y="503280"/>
            <a:ext cx="8712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9440" y="216000"/>
            <a:ext cx="89262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89996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8496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3640" y="863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5080" y="863640"/>
            <a:ext cx="827892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000" y="647640"/>
            <a:ext cx="856800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6360" y="720720"/>
            <a:ext cx="8856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85676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0720" y="576360"/>
            <a:ext cx="849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8:43:25Z</dcterms:created>
  <dc:creator/>
  <dc:description/>
  <dc:language>en-US</dc:language>
  <cp:lastModifiedBy/>
  <dcterms:modified xsi:type="dcterms:W3CDTF">2013-01-26T19:09:25Z</dcterms:modified>
  <cp:revision>1</cp:revision>
  <dc:subject/>
  <dc:title/>
</cp:coreProperties>
</file>