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C80-C4C2-46D4-B370-25470D17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5AF4-9CBB-408C-BC4B-7F3DB014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1FAA-4144-4E13-9A88-256CCC1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89F-E84E-428E-BE24-4359A011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EA3-E0E9-4C28-A2EF-A4C1B43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6C8-0D03-4E05-B676-926062C9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F8B-AD75-4F40-81C5-E6D09B12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73E-A7DC-4DD2-ABAF-308FF89F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680-FEE0-442B-B8CC-F16642E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29A-AC70-4A4C-ABEC-52B8EEA6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572-365A-47ED-84FD-D95B4FCC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7ED-6CFB-4103-9F04-0A5E87D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357F2-A20C-421E-8EED-8908C8ABD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05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80"/>
                </a:solidFill>
                <a:latin typeface="Arial"/>
              </a:rPr>
              <a:t>Мы рисуем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80"/>
                </a:solidFill>
                <a:latin typeface="Arial"/>
              </a:rPr>
              <a:t>зим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80"/>
                </a:solidFill>
                <a:latin typeface="Arial"/>
              </a:rPr>
              <a:t>Работы учащихся 2 В клас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2000" y="720720"/>
            <a:ext cx="864108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92000" y="431640"/>
            <a:ext cx="86392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6360"/>
            <a:ext cx="878364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0720" y="571680"/>
            <a:ext cx="863928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66720" y="955800"/>
            <a:ext cx="869328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6360" y="431640"/>
            <a:ext cx="899928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0720" y="503280"/>
            <a:ext cx="871236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9440" y="216000"/>
            <a:ext cx="89262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3280" y="503280"/>
            <a:ext cx="899964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0720" y="647640"/>
            <a:ext cx="8496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3640" y="863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5080" y="863640"/>
            <a:ext cx="8278920" cy="59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92000" y="647640"/>
            <a:ext cx="8568000" cy="63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6360" y="720720"/>
            <a:ext cx="8856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20720" y="647640"/>
            <a:ext cx="856764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20720" y="576360"/>
            <a:ext cx="849636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8:43:25Z</dcterms:created>
  <dc:creator/>
  <dc:description/>
  <dc:language>en-US</dc:language>
  <cp:lastModifiedBy/>
  <dcterms:modified xsi:type="dcterms:W3CDTF">2013-01-26T19:09:25Z</dcterms:modified>
  <cp:revision>1</cp:revision>
  <dc:subject/>
  <dc:title/>
</cp:coreProperties>
</file>