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863-4C9B-4221-9204-94A1E5C9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3BD-8267-421D-B2B0-133B9C54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612-6C99-4E5F-88B7-ACF10E9F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A7D-0FE1-459F-8493-C7F2332F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5EE-09A2-4943-ACDD-70EEB2CC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6B9-D655-46D7-9912-68E929F6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4B3-0A9A-499A-AFB6-DA5E150E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D03-B581-4E51-A792-842AF60F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1520-5D31-4571-80DC-129E9D92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E22-4719-4E4A-B35A-6C108F57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45C-51C5-431C-9E63-B107D524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7B3-51CA-43BC-A73A-338B1AEB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765F6-A3D6-4BD5-BC84-841003DB5A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83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Народы Росси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роект учащих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2 В клас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-38160"/>
            <a:ext cx="90712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Татары</a:t>
            </a: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554501 человек на территор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72000" y="4751280"/>
            <a:ext cx="4248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0360" y="1800360"/>
            <a:ext cx="684072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1640" y="503280"/>
            <a:ext cx="5616720" cy="424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32360" y="4535640"/>
            <a:ext cx="38163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0800" y="503280"/>
            <a:ext cx="895356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10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Русские</a:t>
            </a: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115889107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640" y="1152360"/>
            <a:ext cx="8783640" cy="57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60400" y="563400"/>
            <a:ext cx="8572680" cy="598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7640" y="647640"/>
            <a:ext cx="8712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904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 проекте использованы презен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 уроку окружающ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ышева Павла,  Атанян Соф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сегян Ваге,  Борисовой Анастас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тева Семёна,  Иванова Артё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мовцевой Ольги,  Малининой Марии, Мустафина Владислава, Свинина Владислава, Сидоровой Елизаветы, Черкасовой Елиза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-287640"/>
            <a:ext cx="9070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Мордв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сленность (на территории России) 843350 чело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08000" y="1584360"/>
            <a:ext cx="7920000" cy="57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6360" y="846000"/>
            <a:ext cx="885672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1640" y="42840"/>
            <a:ext cx="907128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Белорусы</a:t>
            </a:r>
            <a:br>
              <a:rPr sz="6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07970 на территории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00360" y="1800360"/>
            <a:ext cx="655164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3280" y="6937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43640" y="2448000"/>
            <a:ext cx="403200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576360"/>
            <a:ext cx="8831160" cy="62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640" y="500040"/>
            <a:ext cx="8640720" cy="655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-381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49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Армян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51897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0720" y="1440000"/>
            <a:ext cx="5400720" cy="554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256360" y="3600360"/>
            <a:ext cx="4789440" cy="403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632720" y="1511280"/>
            <a:ext cx="13683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08000" y="503280"/>
            <a:ext cx="4103640" cy="669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59280" y="503280"/>
            <a:ext cx="3600720" cy="66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21:14:05Z</dcterms:created>
  <dc:creator/>
  <dc:description/>
  <dc:language>en-US</dc:language>
  <cp:lastModifiedBy/>
  <dcterms:modified xsi:type="dcterms:W3CDTF">2013-01-26T22:14:35Z</dcterms:modified>
  <cp:revision>2</cp:revision>
  <dc:subject/>
  <dc:title/>
</cp:coreProperties>
</file>