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6852B-4355-4EB2-A981-2F6C9D688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678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88678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32510-99F1-48AB-BFA6-64EB16EED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684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6840" y="40579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84242-7A23-46EC-80F8-0B42C772C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1360" y="17683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9440" y="17683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1360" y="40579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9440" y="40579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3D28F-2CB8-424B-AB57-788985975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678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50770-781A-4B40-A91D-B0A1C4DE9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678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90901-9749-4793-81A7-C36003A56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20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6840" y="1768320"/>
            <a:ext cx="432720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777F8-F921-411A-B86D-A8750417E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497EE-EBBB-409B-9174-7C8660BF6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58607-1EDD-4D0A-ABFF-06E861FE7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6840" y="1768320"/>
            <a:ext cx="432720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0B43E-DDB2-4F23-A891-854A6DEC3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20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684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6840" y="40579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D027A-3212-4ED6-99CB-C342450C9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684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88678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D43D2-299B-46B3-8552-A135C543D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678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9AF127-9237-4A81-B947-98C374386CA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3280" y="301680"/>
            <a:ext cx="9070920" cy="585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5832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7200" spc="-1" strike="noStrike">
                <a:solidFill>
                  <a:srgbClr val="ff0000"/>
                </a:solidFill>
                <a:latin typeface="Arial"/>
              </a:rPr>
              <a:t>Народы России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Arial"/>
              </a:rPr>
              <a:t>Проект учащихся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Arial"/>
              </a:rPr>
              <a:t>2 В класс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31640" y="-38160"/>
            <a:ext cx="907128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Calibri"/>
              </a:rPr>
              <a:t>Татары</a:t>
            </a:r>
            <a:br>
              <a:rPr sz="44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5554501 человек на территории Росс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472000" y="4751280"/>
            <a:ext cx="4248360" cy="25196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60360" y="1800360"/>
            <a:ext cx="6840720" cy="475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31640" y="503280"/>
            <a:ext cx="5616720" cy="42480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832360" y="4535640"/>
            <a:ext cx="3816360" cy="273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550800" y="503280"/>
            <a:ext cx="8953560" cy="669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4360" y="10620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Bef>
                <a:spcPts val="649"/>
              </a:spcBef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Calibri"/>
              </a:rPr>
              <a:t>Русские</a:t>
            </a:r>
            <a:r>
              <a:rPr b="1" lang="ru-RU" sz="5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115889107 челове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647640" y="1152360"/>
            <a:ext cx="8783640" cy="575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860400" y="563400"/>
            <a:ext cx="8572680" cy="5988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647640" y="647640"/>
            <a:ext cx="8712360" cy="648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503280" y="301680"/>
            <a:ext cx="9070920" cy="585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5904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В проекте использованы презентаци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к уроку окружающего мир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лышева Павла,  Атанян Софи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арсегян Ваге,  Борисовой Анастаси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остева Семёна,  Иванова Артём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омовцевой Ольги,  Малининой Марии, Мустафина Владислава, Свинина Владислава, Сидоровой Елизаветы, Черкасовой Елизаве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02920" y="-287640"/>
            <a:ext cx="9070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Bef>
                <a:spcPts val="649"/>
              </a:spcBef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Calibri"/>
              </a:rPr>
              <a:t>Мордва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численность (на территории России) 843350 челове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008000" y="1584360"/>
            <a:ext cx="7920000" cy="5722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576360" y="846000"/>
            <a:ext cx="8856720" cy="613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31640" y="42840"/>
            <a:ext cx="9071280" cy="161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Calibri"/>
              </a:rPr>
              <a:t>Белорусы</a:t>
            </a:r>
            <a:br>
              <a:rPr sz="60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807970 на территории Росс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800360" y="1800360"/>
            <a:ext cx="6551640" cy="554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03280" y="693720"/>
            <a:ext cx="7620120" cy="57150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543640" y="2448000"/>
            <a:ext cx="4032000" cy="489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00120" y="576360"/>
            <a:ext cx="8831160" cy="626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47640" y="500040"/>
            <a:ext cx="8640720" cy="6556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31640" y="-38160"/>
            <a:ext cx="907128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Bef>
                <a:spcPts val="649"/>
              </a:spcBef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Calibri"/>
              </a:rPr>
              <a:t>Армяне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 51897 челове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720720" y="1440000"/>
            <a:ext cx="5400720" cy="55432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256360" y="3600360"/>
            <a:ext cx="4789440" cy="40323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7632720" y="1511280"/>
            <a:ext cx="1368360" cy="18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008000" y="503280"/>
            <a:ext cx="4103640" cy="6696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5759280" y="503280"/>
            <a:ext cx="3600720" cy="6624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6T21:14:05Z</dcterms:created>
  <dc:creator/>
  <dc:description/>
  <dc:language>en-US</dc:language>
  <cp:lastModifiedBy/>
  <dcterms:modified xsi:type="dcterms:W3CDTF">2013-01-26T22:14:35Z</dcterms:modified>
  <cp:revision>2</cp:revision>
  <dc:subject/>
  <dc:title/>
</cp:coreProperties>
</file>