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137-A1DD-4C3F-8D16-275395CD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4D1-C1AF-4C65-83D7-18A8B06C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E82-1787-49D2-989D-059F0837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48D-F3DE-440D-AF88-A35BA112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1659-C5D2-4AD4-AE63-A22B76F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7271-EB54-48EB-B860-98B7B60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31E8-FBD0-41F0-B505-134929D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9C5-AE60-41CE-9184-67B6FA3B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11A-EE49-4CF7-8BBF-8290AA58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9A69-9148-4292-85A8-D93B8110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C2B-632C-4A86-92D8-EEB356F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68F-03E9-4D55-80D2-8C75E1B5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592-66F2-4777-9C58-52BC16B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7685-139D-486F-AE1C-4F3A924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D705-A049-4764-8E2A-94D84CF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73B5-A767-4743-870F-2944EDE7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95D-8234-4F13-A6C0-6F15F964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3C1-3EC3-4D2F-B17C-BFF577E3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376-2BD4-45EF-BD56-C5E5D83C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2D2-B8A1-489A-BD34-4C2755BA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B25-A2C5-4D54-8292-4D162A05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767-3423-4359-ACAA-918C1D1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D96-9023-4226-8939-69847C6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3FE-9031-4A6B-B67A-A63D241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154-C40B-4264-B5B5-BE4F127438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334-43CD-4C58-B391-BEB28A3946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Обобщение знаний по теме «Европейская часть России»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79640" y="5373720"/>
            <a:ext cx="28400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асильева Е.А. – учитель географии МБОУ СОШ п.Солидарность Елецкого муниципального райо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Цели и задачи: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основе полученных знаний об экономических районах России определить их роль в историческом, социально – экономическом и культурном развитии стра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репить умения по составлению общей и сравнительной оценки экономического развития разных территор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ботать навыки  проверочной работы в форме  проведения тестирования в виде  творческого зад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ть креативность в выполнении домашнего зад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Фронтальная беседа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ы знаете об экономическом районировании территории Росс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ам известно о делении России на экономические зо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ем они отличаются и 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равните европейскую и азиатскую части России по площади территории, доле населения, плотности населения,  производству промышленной и сельскохозяйственной продукции, густоте транспортной сети и сделайте выв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Работа по физической карте России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верка знания крупных объект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ирод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Показать по физической карте Росс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возвышенност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ре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озер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мор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Тестирование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245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–   Централь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–  Центрально–Чернозёмный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–  Северо – Запад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–  Европейский Сев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–  Волго – Вят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 –  Поволж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 –  Северный Кавка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 –  Ураль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) самый большой экономический район Европейской России по площад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рритор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)  самый маленький по площади территории экономический район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) в каком районе насчитывается самое большое количество субъектов РФ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г) какой район производит 85% тканей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) в каком районе добывается 49% железных руд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) какой район производит 30% заготовок деловой древесин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) в каком районе производится 82% автомобилей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) в каком районе сельскохозяйственные угодья составляют 70% территори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) старый промышленный район, сыгравший  важную роль во всех войнах, г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нимала участие  Россия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) в каком районе расположен город Нижний Новгород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Проверка тест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301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-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-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-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-6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-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-8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-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2491920"/>
            <a:ext cx="4330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-10 баллов – «5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-8 баллов – «4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6 баллов – «3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нее 3 баллов – «2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11280" y="692280"/>
          <a:ext cx="8229600" cy="5581440"/>
        </p:xfrm>
        <a:graphic>
          <a:graphicData uri="http://schemas.openxmlformats.org/drawingml/2006/table">
            <a:tbl>
              <a:tblPr/>
              <a:tblGrid>
                <a:gridCol w="1235160"/>
                <a:gridCol w="4824360"/>
                <a:gridCol w="2170080"/>
              </a:tblGrid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тес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является административным центром республики Удмуртия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удым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Иже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Перм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лицей, какой автономной республики является город Уф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Татар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Удмур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Башкорто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% от численности населения Урала составляют русские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80%; 2 – 90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 минеральное сырье добывают вблизи города Березник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аменный угол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медь; 3 – железные руды;4 – поваренную 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городе работает завод - гигант «Уралмаш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Челяби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Екатери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Нижний Таг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476280"/>
          <a:ext cx="8229600" cy="6057720"/>
        </p:xfrm>
        <a:graphic>
          <a:graphicData uri="http://schemas.openxmlformats.org/drawingml/2006/table">
            <a:tbl>
              <a:tblPr/>
              <a:tblGrid>
                <a:gridCol w="1522440"/>
                <a:gridCol w="4968720"/>
                <a:gridCol w="173844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тес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является центром производства стрелкового оружия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Перм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У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Ку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Иже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веке был основан Екатеринбург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XV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XV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славится театром оперы и балет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У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Оре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Перм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называется процесс перевода военного производства на выпуск мирной продукци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онве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реконстр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инвест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, какой области находится крупнейш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рождение газ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урга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Оренбург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Свердловс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Проверка тест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-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–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–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–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-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баллов – «5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-9 баллов – «4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7 баллов – «3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нее 4 баллов «2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20:11:08Z</dcterms:created>
  <dc:creator>User</dc:creator>
  <dc:description/>
  <dc:language>en-US</dc:language>
  <cp:lastModifiedBy>User</cp:lastModifiedBy>
  <dcterms:modified xsi:type="dcterms:W3CDTF">2012-03-05T20:59:30Z</dcterms:modified>
  <cp:revision>2</cp:revision>
  <dc:subject/>
  <dc:title>Обобщение знаний по теме «Европейская часть России» </dc:title>
</cp:coreProperties>
</file>