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C9D-C4D2-415C-88DE-86A07C8F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8AE-7213-43E6-ABA7-4580ED66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7D5-CB49-4BFE-BCA0-D5B55F2C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826-52EF-4F9F-BB57-07B226D0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DC4B-DE5D-4AA3-A662-5F6D47F0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6BD0-9763-46FB-9F5E-EEB63F20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436F-BF37-451B-818C-88D820AF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D972-A83A-45F1-B1FD-5E39CF03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1FE0-30D2-413E-9C70-F7E48614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EDEF-5FEA-4299-AA30-137E86C6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7EF4-939A-409C-B139-7F13A456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EBD8-9F7C-4780-9AD2-C957F37F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BF70-151F-4F4A-B0C0-BAF70DA4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2B50-6451-4FE5-B073-D0C3BDEB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407C-97BA-4E91-9038-AE71C858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70B5-8B5B-4353-AB0C-CE7DAF75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4C19-E386-4DBF-9860-B668546D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7C3-4F8A-4EAA-BC60-F0AE8677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5F8-A1AD-4135-9180-94B57445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B18-C66C-451E-A1A6-97E4A15F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826-E4B7-419E-87DD-DE76BE2B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4A4-25EB-4F30-BA14-E0712600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E0A-19FC-4DE1-941C-EF12CD9C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C3F-99F9-493F-B6CC-75AA6BF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CCF9-97EF-4708-96F3-4EEADDE1407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5A5E-E9AC-41FB-837D-F09A34DF42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Обобщение знаний по теме «Европейская часть России»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579640" y="5373720"/>
            <a:ext cx="284004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асильева Е.А. – учитель географии МБОУ СОШ п.Солидарность Елецкого муниципального район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Цели и задачи: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основе полученных знаний об экономических районах России определить их роль в историческом, социально – экономическом и культурном развитии стра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крепить умения по составлению общей и сравнительной оценки экономического развития разных территор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ботать навыки  проверочной работы в форме  проведения тестирования в виде  творческого задани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вать креативность в выполнении домашнего зад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Фронтальная беседа: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 вы знаете об экономическом районировании территории Росс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то вам известно о делении России на экономические зон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Чем они отличаются и поче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равните европейскую и азиатскую части России по площади территории, доле населения, плотности населения,  производству промышленной и сельскохозяйственной продукции, густоте транспортной сети и сделайте выво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Работа по физической карте России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оверка знания крупных объект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ироды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Показать по физической карте России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возвышенностей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рек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озер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море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00"/>
                </a:solidFill>
                <a:latin typeface="Garamond"/>
              </a:rPr>
              <a:t>Тестирование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245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–   Централь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 –  Центрально–Чернозёмный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 –  Северо – Запад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 –  Европейский Севе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 –  Волго – Вят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 –  Поволж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 –  Северный Кавка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 –  Уральск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11280" y="1600200"/>
            <a:ext cx="4753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а) самый большой экономический район Европейской России по площад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территор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б)  самый маленький по площади территории экономический район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в) в каком районе насчитывается самое большое количество субъектов РФ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г) какой район производит 85% тканей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д) в каком районе добывается 49% железных руд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е) какой район производит 30% заготовок деловой древесины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) в каком районе производится 82% автомобилей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з) в каком районе сельскохозяйственные угодья составляют 70% территории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и) старый промышленный район, сыгравший  важную роль во всех войнах, г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ринимала участие  Россия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к) в каком районе расположен город Нижний Новгород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Проверка тестов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301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-4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-3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-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-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-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-4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ж-6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-7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-8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-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2491920"/>
            <a:ext cx="43308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-10 баллов – «5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-8 баллов – «4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6 баллов – «3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енее 3 баллов – «2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11280" y="692280"/>
          <a:ext cx="8229600" cy="5581440"/>
        </p:xfrm>
        <a:graphic>
          <a:graphicData uri="http://schemas.openxmlformats.org/drawingml/2006/table">
            <a:tbl>
              <a:tblPr/>
              <a:tblGrid>
                <a:gridCol w="1235160"/>
                <a:gridCol w="4824360"/>
                <a:gridCol w="2170080"/>
              </a:tblGrid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 тес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ы ответо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 город является административным центром республики Удмуртия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Кудымк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Иже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Перм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лицей, какой автономной республики является город Уфа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Татар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Удмур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Башкортост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лько % от численности населения Урала составляют русские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80%; 2 – 90%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е минеральное сырье добывают вблизи города Березники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каменный уголь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медь; 3 – железные руды;4 – поваренную с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м городе работает завод - гигант «Уралмаш»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Челябин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Екатеринб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Нижний Таг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476280"/>
          <a:ext cx="8229600" cy="6057720"/>
        </p:xfrm>
        <a:graphic>
          <a:graphicData uri="http://schemas.openxmlformats.org/drawingml/2006/table">
            <a:tbl>
              <a:tblPr/>
              <a:tblGrid>
                <a:gridCol w="1522440"/>
                <a:gridCol w="4968720"/>
                <a:gridCol w="1738440"/>
              </a:tblGrid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 тест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ианты ответов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 город является центром производства стрелкового оружия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Перм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У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Кург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Иже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м веке был основан Екатеринбург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V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XV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XV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ой город славится театром оперы и балета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Уф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Оренб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Перм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называется процесс перевода военного производства на выпуск мирной продукции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конвер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реконстру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инвести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территории, какой области находится крупнейш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рождение газа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Курган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Оренбург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Свердловск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9900"/>
                </a:solidFill>
                <a:latin typeface="Garamond"/>
              </a:rPr>
              <a:t>Проверка тестов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-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-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 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–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–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 –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–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–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-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707920"/>
            <a:ext cx="403848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баллов – «5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-9 баллов – «4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7 баллов – «3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Менее 4 баллов «2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Vasilyeva E.A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20:11:08Z</dcterms:created>
  <dc:creator>User</dc:creator>
  <dc:description/>
  <dc:language>en-US</dc:language>
  <cp:lastModifiedBy>User</cp:lastModifiedBy>
  <dcterms:modified xsi:type="dcterms:W3CDTF">2012-03-05T20:59:30Z</dcterms:modified>
  <cp:revision>2</cp:revision>
  <dc:subject/>
  <dc:title>Обобщение знаний по теме «Европейская часть России» </dc:title>
</cp:coreProperties>
</file>