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AA0-D5BD-4344-A419-C2EE00B1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038-A4BD-4E6C-BEDF-3FF34E46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D4A-EFA8-4F2E-B40B-C87A613B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F59-97C8-4BE0-9F1B-C5C76D3C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C069-47B4-441C-A60F-3B986163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AADC-FD50-4FE7-A6E9-75B61C4D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414B-56C3-44B2-8E52-7C5BD55F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E8AB-F81B-43F4-BF22-AA657D99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149F-9D11-4CB4-AF9B-D02EDDF2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DFBE-B633-488C-8662-9BCD7FEB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5B9A-9D8D-4EEC-85F6-2F8BDC6D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699-D1FE-4FCE-9255-B96D5A82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406A-FE61-4DCB-954E-5BA4A020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D248-5F0F-4620-B779-35D0F9EF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E56B-2995-4218-AF62-18619EAC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7F32-E848-4341-9A67-F7005D46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DD62-31C8-4CC0-8E26-9ACE4898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D80-D3B4-48FF-BFC2-89CBD230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B6C-5EE2-4F28-AA3F-3CFFCC25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3748-0C81-4B3A-8B54-3BD90725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B3F0-8A1D-4DD6-8741-EE6E5971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1AC-CCEE-41BF-953B-D4E91C9A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0D4-560B-4396-95F2-A2B5E36B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777-4AFB-428A-9AAE-4A9BAB8F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661D-A39F-4B49-9843-BB8D744E7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1D55-65FE-4A21-87FA-855442A80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microsnsk.ru/galery/micro-046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pictures/wiki/files/79/Ovules_in_flower.png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trangtinvietnam.com/images/news/2010_03/7720/ttvn4_1267762805-trung-rung-1.jp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ahoma"/>
              </a:rPr>
              <a:t>Образование половых клеток. МЕЙОЗ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Презентация учителя МОУ «СОШ № 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г. Ртищево Саратовской облас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Калюгиной Н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Гаметы – половые клет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Яйцекле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Сперматозои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00720" y="2708280"/>
            <a:ext cx="4505040" cy="2854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Картинка 23 из 42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708280"/>
            <a:ext cx="41227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ОВОГЕНЕЗ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– это формирование яйцеклетки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в яичника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в завязи пес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Картинка 93 из 42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2565360"/>
            <a:ext cx="3891240" cy="4032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Картинка 206 из 426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708280"/>
            <a:ext cx="4753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СПЕРМАТОГЕНЕЗ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– это формирование сперматозоидов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В семенни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56000" y="1981080"/>
            <a:ext cx="433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В пыльнике тычин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Картинка 91 из 315"/>
          <p:cNvPicPr/>
          <p:nvPr/>
        </p:nvPicPr>
        <p:blipFill>
          <a:blip r:embed="rId2"/>
          <a:stretch/>
        </p:blipFill>
        <p:spPr>
          <a:xfrm>
            <a:off x="395280" y="2565360"/>
            <a:ext cx="3438360" cy="378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Картинка 10 из 14688"/>
          <p:cNvPicPr/>
          <p:nvPr/>
        </p:nvPicPr>
        <p:blipFill>
          <a:blip r:embed="rId3"/>
          <a:stretch/>
        </p:blipFill>
        <p:spPr>
          <a:xfrm>
            <a:off x="4284720" y="2565360"/>
            <a:ext cx="4695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Гаметогенез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– образование половых клето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Картинка 106 из 180"/>
          <p:cNvPicPr/>
          <p:nvPr/>
        </p:nvPicPr>
        <p:blipFill>
          <a:blip r:embed="rId2"/>
          <a:stretch/>
        </p:blipFill>
        <p:spPr>
          <a:xfrm>
            <a:off x="468360" y="1844640"/>
            <a:ext cx="79912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Мейоз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- способ образования гаме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Картинка 80 из 2111"/>
          <p:cNvPicPr/>
          <p:nvPr/>
        </p:nvPicPr>
        <p:blipFill>
          <a:blip r:embed="rId2"/>
          <a:stretch/>
        </p:blipFill>
        <p:spPr>
          <a:xfrm>
            <a:off x="826920" y="1773360"/>
            <a:ext cx="727416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Картинка 4 из 315"/>
          <p:cNvPicPr/>
          <p:nvPr/>
        </p:nvPicPr>
        <p:blipFill>
          <a:blip r:embed="rId2"/>
          <a:stretch/>
        </p:blipFill>
        <p:spPr>
          <a:xfrm>
            <a:off x="395280" y="476280"/>
            <a:ext cx="83534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Значение гаметогенез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Образуются половые кле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Гаметы имеют ГАПЛОИДНЫЙ набор хромо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оддержание постоянства числа хромосом в ряду поколений одного ви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Давайте повторим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Что такое гаметогенез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Что образуется в результате Овогенез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Что образуется в пыльнике тычин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Что такое Мейоз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4:17:54Z</dcterms:created>
  <dc:creator>Пользователь</dc:creator>
  <dc:description/>
  <dc:language>en-US</dc:language>
  <cp:lastModifiedBy>Пользователь</cp:lastModifiedBy>
  <dcterms:modified xsi:type="dcterms:W3CDTF">2011-03-07T12:40:02Z</dcterms:modified>
  <cp:revision>4</cp:revision>
  <dc:subject/>
  <dc:title>Образование половых клеток.</dc:title>
</cp:coreProperties>
</file>