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5E7-5293-49E0-A297-981FC36B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D74-90FF-49E6-A0E3-F6949378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C16-45F1-428E-8FC5-A90F1F78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4EE-3EC0-4F4F-869A-26883034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D245-66AF-41C1-BD67-797066EA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7CFB-B6C0-41DA-A152-8DD0BAC0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5E90-B914-405D-9314-16A896D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2A8E-CB11-4D36-B3B8-65D0C6F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6A5A-EBFC-45E6-AA4A-494EC1C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2A0C-D445-4C5C-BE8A-D257591E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2182-4CFB-4494-ACCE-DA4EAA9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4F4-24DA-4332-9B9B-8FF5661A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0BFC-BC0F-426D-AFCE-678EC18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2B3A-EBC0-4D1A-A2A7-10D7F4DF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0E24-4D40-474A-9266-1AC62F9F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0847-9877-4D07-B43B-B24502FB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C0B-CCD6-4502-914D-CEB50E93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7EC-5AD7-4637-A953-8804113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8F1-080F-4DF6-9867-97274617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98C-B938-4E29-B591-BDEFD264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01C-784C-4E6A-8298-E26C3D2F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5D7-EB45-4275-B520-F60E910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E3B-DFD6-4569-B0B2-00220D22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A19-F451-450F-9F6C-A93D5D8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6CB2-1EE1-4418-8893-DEB32CD74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2A5-2DD1-4A43-B747-63A04490C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icrosnsk.ru/galery/micro-046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pictures/wiki/files/79/Ovules_in_flower.png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www.trangtinvietnam.com/images/news/2010_03/7720/ttvn4_1267762805-trung-rung-1.jpg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ahoma"/>
              </a:rPr>
              <a:t>Образование половых клеток. МЕЙОЗ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Презентация учителя МОУ «СОШ № 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г. Ртищево Саратовской област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Калюгиной Н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аметы – половые клет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Яйцекле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Сперматозои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2708280"/>
            <a:ext cx="4505040" cy="285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Картинка 23 из 42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708280"/>
            <a:ext cx="412272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ОВ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это формирование яйцеклетк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яичник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завязи пе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Картинка 93 из 42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565360"/>
            <a:ext cx="3891240" cy="4032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206 из 426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2708280"/>
            <a:ext cx="4753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СПЕРМАТ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это формирование сперматозоидов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семенни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1981080"/>
            <a:ext cx="433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пыльнике тычи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Картинка 91 из 315"/>
          <p:cNvPicPr/>
          <p:nvPr/>
        </p:nvPicPr>
        <p:blipFill>
          <a:blip r:embed="rId2"/>
          <a:stretch/>
        </p:blipFill>
        <p:spPr>
          <a:xfrm>
            <a:off x="395280" y="2565360"/>
            <a:ext cx="3438360" cy="3781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0 из 14688"/>
          <p:cNvPicPr/>
          <p:nvPr/>
        </p:nvPicPr>
        <p:blipFill>
          <a:blip r:embed="rId3"/>
          <a:stretch/>
        </p:blipFill>
        <p:spPr>
          <a:xfrm>
            <a:off x="4284720" y="2565360"/>
            <a:ext cx="4695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Гаметогене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– образование половых кле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Картинка 106 из 180"/>
          <p:cNvPicPr/>
          <p:nvPr/>
        </p:nvPicPr>
        <p:blipFill>
          <a:blip r:embed="rId2"/>
          <a:stretch/>
        </p:blipFill>
        <p:spPr>
          <a:xfrm>
            <a:off x="468360" y="1844640"/>
            <a:ext cx="79912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Мейоз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- способ образования гаме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Картинка 80 из 2111"/>
          <p:cNvPicPr/>
          <p:nvPr/>
        </p:nvPicPr>
        <p:blipFill>
          <a:blip r:embed="rId2"/>
          <a:stretch/>
        </p:blipFill>
        <p:spPr>
          <a:xfrm>
            <a:off x="826920" y="1773360"/>
            <a:ext cx="7274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Картинка 4 из 315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Значение гаметогене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Образуются половые клет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Гаметы имеют ГАПЛОИДНЫЙ набор хромос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оддержание постоянства числа хромосом в ряду поколений одного ви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Давайте повтор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такое гаметогенез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образуется в результате Овогенез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образуется в пыльнике тычин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Что такое Мейоз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4:17:54Z</dcterms:created>
  <dc:creator>Пользователь</dc:creator>
  <dc:description/>
  <dc:language>en-US</dc:language>
  <cp:lastModifiedBy>Пользователь</cp:lastModifiedBy>
  <dcterms:modified xsi:type="dcterms:W3CDTF">2011-03-07T12:40:02Z</dcterms:modified>
  <cp:revision>4</cp:revision>
  <dc:subject/>
  <dc:title>Образование половых клеток.</dc:title>
</cp:coreProperties>
</file>