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2FC-5841-4B20-B28B-427602FA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9E2-14F7-4DE4-A794-5228D536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1420-7215-4D45-B0BF-CCECC424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F96-17BF-4E0F-839B-A790A7D8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C570-A2D2-4FA1-AEBA-DAB990D9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41A0-949E-4233-BB6F-84152C5B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E52C-F863-49A1-A7A5-F0F8C2AC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8165-207A-45FF-A22B-73B73B39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2439-22AB-4993-8C17-1DA9C05D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F54A-E851-4EC5-8446-BA44217E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AF53-93C0-4803-BA9F-20A58B0E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A59-BC2A-4679-891E-179331C5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0D12-1968-46ED-A842-DF67E6C1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44F2-3544-43BD-96C3-87E07B7D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BF7B-8CAA-4018-9082-A7E0648A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7688-17D7-4A52-91E8-E958301E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5E4C-A101-4C5A-A18C-8D24CE0C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D7F-420D-48F1-BAEA-52D3D3C0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0570-4452-4940-AE29-3DDBDA9F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424-040E-4983-983F-A14AC6F2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73C-5070-4348-AF10-76FDBB46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8DDD-07D5-4DE5-B233-BB6330C9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53D9-BF6B-409E-95F1-702B44C2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AC5-8BD1-41BB-9FE1-D4DA4E86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D2E4-1AE8-43CF-A615-2FE48512537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9492-754E-486D-9D19-70D2151D556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untoosh.com/wall/space/earth_a_3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opa.gov.tr/hopam/haber/kose/haber_img/suerzyonu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age.shutterstock.com/display_pic_with_logo/147427/147427,1248241555,1/stock-photo-desert-rough-land-dry-crack-erosion-34069102.jpg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lementy.ru/images/news/deforestation1.jpg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tem.iki.rssi.ru/images/logging.gif" TargetMode="External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1.hubimg.com/u/3891544_f520.jpg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2.asset.yvimg.kz/userimages/bimmer/OB6u0FOJwGpoA4B2B4oN9MTv2B7sfs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gidroenergy07.narod.ru/img/9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tranchedevienalgerie.free.fr/87.98.222.182/0/13/52/68/les_torch__res_hassi_messaoud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g1.liveinternet.ru/images/foto/b/3/648/2982648/f_16728998.jpg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angelpub.com/2010/40/6081/traffic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akak.ru/steps/pictures/000/036/316_large.jpg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www.concurringopinions.com/archives/CarbonEmissions.jpg" TargetMode="External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datai/ekologija/Klimat-1/0004-002-Parnikovyj-effekt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izvestia.ru/inauka/22225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reedesktopwallpaper.narod.ru/Nature/000/003_1024x768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g1.liveinternet.ru/images/foto/b/3/864/3576864/f_19001685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mygeos.com/wp-content/uploads/2009/09/p11.jpg" TargetMode="External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новные экологические проблемы биосфер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6237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обальные проблемы человечест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80000" y="4868640"/>
            <a:ext cx="3384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втор учитель биологии МОУ СОШ № 4 г. Ртищево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аратовской области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Калюгина Н.В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Картинка 17 из 278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270828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Загрязнение атмосферы и эрозия почвы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92360" y="1752480"/>
            <a:ext cx="3600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Эрозия - от лат.«erodere» — разъедать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Картинка 4 из 3051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773360"/>
            <a:ext cx="4752720" cy="3800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Картинка 103 из 3051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4720" y="3544920"/>
            <a:ext cx="4643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окращение площади лесов, особенно тропических и опустынивание этих территор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252720" y="1773360"/>
            <a:ext cx="4319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ырубка тропических лесов- «лёгких» планет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чаги                           вырубки лес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 Сибир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Картинка 10 из 27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1700280"/>
            <a:ext cx="5076720" cy="3390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Картинка 116 из 1221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11640" y="3213000"/>
            <a:ext cx="47163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Сокращение биоразнообразия  в природе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Картинка 9 из 129"/>
          <p:cNvPicPr/>
          <p:nvPr/>
        </p:nvPicPr>
        <p:blipFill>
          <a:blip r:embed="rId2"/>
          <a:stretch/>
        </p:blipFill>
        <p:spPr>
          <a:xfrm>
            <a:off x="2987640" y="1052640"/>
            <a:ext cx="3305160" cy="3671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Картинка 5 из 23"/>
          <p:cNvPicPr/>
          <p:nvPr/>
        </p:nvPicPr>
        <p:blipFill>
          <a:blip r:embed="rId3"/>
          <a:stretch/>
        </p:blipFill>
        <p:spPr>
          <a:xfrm>
            <a:off x="324000" y="278136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Картинка 19 из 148"/>
          <p:cNvPicPr/>
          <p:nvPr/>
        </p:nvPicPr>
        <p:blipFill>
          <a:blip r:embed="rId4"/>
          <a:stretch/>
        </p:blipFill>
        <p:spPr>
          <a:xfrm>
            <a:off x="4716360" y="3716280"/>
            <a:ext cx="414036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304920"/>
            <a:ext cx="77486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пасите нас!!!!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Картинка 205 из 178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2205000"/>
            <a:ext cx="4953240" cy="3295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Картинка 79 из 129"/>
          <p:cNvPicPr/>
          <p:nvPr/>
        </p:nvPicPr>
        <p:blipFill>
          <a:blip r:embed="rId4"/>
          <a:stretch/>
        </p:blipFill>
        <p:spPr>
          <a:xfrm>
            <a:off x="5651640" y="189000"/>
            <a:ext cx="2762280" cy="2838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Картинка 29 из 148"/>
          <p:cNvPicPr/>
          <p:nvPr/>
        </p:nvPicPr>
        <p:blipFill>
          <a:blip r:embed="rId5"/>
          <a:stretch/>
        </p:blipFill>
        <p:spPr>
          <a:xfrm>
            <a:off x="5940360" y="3429000"/>
            <a:ext cx="29671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Увеличение численности населения Земли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32360" y="1915920"/>
            <a:ext cx="36352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о прогнозам, в 2050 году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численность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населения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Земли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достигне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9,2 млрд... Челове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Картинка 23 из 278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700280"/>
            <a:ext cx="40370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окращение исчерпаемых  невозовновимых ресурсов Земли, в том числе энергетических.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Картинка 9 из 178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916280"/>
            <a:ext cx="4248360" cy="3179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Картинка 189 из 1780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1484280"/>
            <a:ext cx="4402080" cy="2879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Картинка 1 из 746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492360" y="3838680"/>
            <a:ext cx="40338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Разрушение озонового слоя Земли.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Картинка 55 из 1780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557360"/>
            <a:ext cx="3960720" cy="3960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Картинка 1 из 405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4226040"/>
            <a:ext cx="4160520" cy="2631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Картинка 100 из 607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16360" y="1197000"/>
            <a:ext cx="42847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«Парниковый эффект»-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глобальное  потепление климата Земли из-за  повышения содержания углекислого газа в атмосфер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Картинка 1 из 607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333360"/>
            <a:ext cx="8748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Картинка 3 из 607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89000"/>
            <a:ext cx="85690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Сокращение в мире запасов пресной воды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76720" y="1699920"/>
            <a:ext cx="3888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римерно 75% мировых запасов пресной воды заключено в ледниках и айсбергах; почти вся остальная вода, в основном, находится под землей в водоносных слоях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Картинка 71 из 219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989000"/>
            <a:ext cx="50770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Загрязнение Мирового океан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Картинка 16 из 13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1628640"/>
            <a:ext cx="4825800" cy="321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Картинка 8 из 21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0000" y="2852640"/>
            <a:ext cx="3353040" cy="3810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Картинка 2 из 594"/>
          <p:cNvPicPr/>
          <p:nvPr/>
        </p:nvPicPr>
        <p:blipFill>
          <a:blip r:embed="rId6"/>
          <a:stretch/>
        </p:blipFill>
        <p:spPr>
          <a:xfrm>
            <a:off x="324000" y="3645000"/>
            <a:ext cx="40320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5:53:32Z</dcterms:created>
  <dc:creator>Пользователь</dc:creator>
  <dc:description/>
  <dc:language>en-US</dc:language>
  <cp:lastModifiedBy>Наталья</cp:lastModifiedBy>
  <dcterms:modified xsi:type="dcterms:W3CDTF">2012-01-04T16:03:14Z</dcterms:modified>
  <cp:revision>3</cp:revision>
  <dc:subject/>
  <dc:title> Основные экологические проблемы биосферы </dc:title>
</cp:coreProperties>
</file>