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3FD-F33F-47C2-89E6-34279D5C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F7C-74EA-49A7-9D32-D329C378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919-D070-4850-8D6E-BB08AB7E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896-C39B-433B-A941-8C114001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724C-D930-49FF-8327-612C758A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DF12-11E8-4EEC-9AB3-9F3F43E7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6ECE-C51D-4C63-8A77-9E40AEE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D658-925E-48C3-9476-C2F5CFFE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775A-97D5-4C55-92BB-EC5DFF2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1406-C482-4DA8-B630-05BC1196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D42-175E-4BB4-9086-E5B6841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AD2-6F58-4732-9A0E-D2C9915C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8533-B597-4269-9F4A-7FDEDC1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0A84-B450-496B-96A5-80B3A155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08E0-EF78-4C71-80EA-01AE0DB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CDC4-4B99-48E2-9368-5A38F16C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0884-3375-42E9-8D93-F8E5EDA9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897-06C9-4999-AD34-3FB186FF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209-361F-4CCD-A6C4-E64CF820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4D4-BC8D-407E-90BB-D7E2F64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89C-63BF-49ED-A8E2-665F16D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6D7-05D7-4067-A9A4-B3B060C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C7E-0FA3-4A1D-90CC-9F1386D8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F52-3BEB-4F3B-B138-6A3E411D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3DF9-F7A0-41C5-B463-DB1738BAC5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009F-EA2E-44B3-857D-4F85468E8E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untoosh.com/wall/space/earth_a_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opa.gov.tr/hopam/haber/kose/haber_img/suerzyonu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.shutterstock.com/display_pic_with_logo/147427/147427,1248241555,1/stock-photo-desert-rough-land-dry-crack-erosion-34069102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lementy.ru/images/news/deforestation1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tem.iki.rssi.ru/images/logging.gif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1.hubimg.com/u/3891544_f520.jp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2.asset.yvimg.kz/userimages/bimmer/OB6u0FOJwGpoA4B2B4oN9MTv2B7sfs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idroenergy07.narod.ru/img/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tranchedevienalgerie.free.fr/87.98.222.182/0/13/52/68/les_torch__res_hassi_messaoud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1.liveinternet.ru/images/foto/b/3/648/2982648/f_16728998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angelpub.com/2010/40/6081/traffic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kak.ru/steps/pictures/000/036/316_large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concurringopinions.com/archives/CarbonEmissions.jpg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ekologija/Klimat-1/0004-002-Parnikovyj-effekt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izvestia.ru/inauka/2222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reedesktopwallpaper.narod.ru/Nature/000/003_1024x768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1.liveinternet.ru/images/foto/b/3/864/3576864/f_19001685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mygeos.com/wp-content/uploads/2009/09/p11.jpg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новные экологические проблемы биосфе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23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обальные проблемы человеч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80000" y="4868640"/>
            <a:ext cx="3384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тор учитель биологии МОУ СОШ № 4 г. Ртищево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аратовской област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алюгина Н.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Картинка 17 из 27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7082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Загрязнение атмосферы и эрозия почвы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92360" y="1752480"/>
            <a:ext cx="3600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Эрозия - от лат.«erodere» — разъеда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Картинка 4 из 305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4752720" cy="380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103 из 305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3544920"/>
            <a:ext cx="4643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кращение площади лесов, особенно тропических и опустынивание этих территор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252720" y="1773360"/>
            <a:ext cx="4319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ырубка тропических лесов- «лёгких» плане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чаги                           вырубки лес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Сибир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Картинка 10 из 2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700280"/>
            <a:ext cx="5076720" cy="3390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116 из 122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3213000"/>
            <a:ext cx="4716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Сокращение биоразнообразия  в природе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Картинка 9 из 129"/>
          <p:cNvPicPr/>
          <p:nvPr/>
        </p:nvPicPr>
        <p:blipFill>
          <a:blip r:embed="rId2"/>
          <a:stretch/>
        </p:blipFill>
        <p:spPr>
          <a:xfrm>
            <a:off x="2987640" y="1052640"/>
            <a:ext cx="3305160" cy="3671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а 5 из 23"/>
          <p:cNvPicPr/>
          <p:nvPr/>
        </p:nvPicPr>
        <p:blipFill>
          <a:blip r:embed="rId3"/>
          <a:stretch/>
        </p:blipFill>
        <p:spPr>
          <a:xfrm>
            <a:off x="324000" y="278136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9 из 148"/>
          <p:cNvPicPr/>
          <p:nvPr/>
        </p:nvPicPr>
        <p:blipFill>
          <a:blip r:embed="rId4"/>
          <a:stretch/>
        </p:blipFill>
        <p:spPr>
          <a:xfrm>
            <a:off x="4716360" y="3716280"/>
            <a:ext cx="4140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304920"/>
            <a:ext cx="7748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пасите нас!!!!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Картинка 205 из 178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205000"/>
            <a:ext cx="4953240" cy="3295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артинка 79 из 129"/>
          <p:cNvPicPr/>
          <p:nvPr/>
        </p:nvPicPr>
        <p:blipFill>
          <a:blip r:embed="rId4"/>
          <a:stretch/>
        </p:blipFill>
        <p:spPr>
          <a:xfrm>
            <a:off x="5651640" y="189000"/>
            <a:ext cx="2762280" cy="283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29 из 148"/>
          <p:cNvPicPr/>
          <p:nvPr/>
        </p:nvPicPr>
        <p:blipFill>
          <a:blip r:embed="rId5"/>
          <a:stretch/>
        </p:blipFill>
        <p:spPr>
          <a:xfrm>
            <a:off x="5940360" y="3429000"/>
            <a:ext cx="2967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Увеличение численности населения Земли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32360" y="1915920"/>
            <a:ext cx="36352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 прогнозам, в 2050 году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численност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населения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Земл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достигне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,2 млрд... Чело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Картинка 23 из 27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00280"/>
            <a:ext cx="403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кращение исчерпаемых  невозовновимых ресурсов Земли, в том числе энергетических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Картинка 9 из 178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916280"/>
            <a:ext cx="4248360" cy="317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189 из 178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484280"/>
            <a:ext cx="4402080" cy="28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1 из 746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360" y="3838680"/>
            <a:ext cx="40338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азрушение озонового слоя Земли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Картинка 55 из 178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55736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1 из 405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4226040"/>
            <a:ext cx="4160520" cy="2631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00 из 60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16360" y="1197000"/>
            <a:ext cx="42847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«Парниковый эффект»-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лобальное  потепление климата Земли из-за  повышения содержания углекислого газа в атмосфер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Картинка 1 из 60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3336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Картинка 3 из 60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85690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Сокращение в мире запасов пресной воды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6720" y="1699920"/>
            <a:ext cx="38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мерно 75% мировых запасов пресной воды заключено в ледниках и айсбергах; почти вся остальная вода, в основном, находится под землей в водоносных слоях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Картинка 71 из 21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98900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грязнение Мирового океан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Картинка 16 из 1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1628640"/>
            <a:ext cx="4825800" cy="32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8 из 21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2852640"/>
            <a:ext cx="3353040" cy="3810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2 из 594"/>
          <p:cNvPicPr/>
          <p:nvPr/>
        </p:nvPicPr>
        <p:blipFill>
          <a:blip r:embed="rId6"/>
          <a:stretch/>
        </p:blipFill>
        <p:spPr>
          <a:xfrm>
            <a:off x="324000" y="3645000"/>
            <a:ext cx="4032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5:53:32Z</dcterms:created>
  <dc:creator>Пользователь</dc:creator>
  <dc:description/>
  <dc:language>en-US</dc:language>
  <cp:lastModifiedBy>Наталья</cp:lastModifiedBy>
  <dcterms:modified xsi:type="dcterms:W3CDTF">2012-01-04T16:03:14Z</dcterms:modified>
  <cp:revision>3</cp:revision>
  <dc:subject/>
  <dc:title> Основные экологические проблемы биосферы </dc:title>
</cp:coreProperties>
</file>