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413-7646-4329-A80C-89B00099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0C2-FD44-4041-AA28-F01141AF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CF1-DA6D-4E14-ABBE-3075A4B2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9AD-2B1A-4013-808D-AF22FE4F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2A6F-9B67-45A4-AC3F-45E28976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8016-2254-456C-AA4A-4B0A150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061F-6EBB-4E11-B1C0-D4CB489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0D7-DD24-43D0-B24D-9783AA28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5480-1767-43B1-BC06-EB6F6E18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6146-3F2E-4940-9858-16FD03B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B084-7289-4751-80D3-03C01A0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4309-0CC5-4E28-AFA4-48DA168D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93E-6BA4-402F-85B5-106E5883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7FEE-2E00-4423-A869-FDB8BC3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7FEF-99EC-483E-8960-0F00CF5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E1AF-6A6B-43BA-B62A-808EB30E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036C-078C-4BC7-933F-2ABE02A5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7CA-8DAD-4FEB-AEA0-0F2725C2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3B5-02F1-4F8B-A9B2-34BE3D1A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92C-2811-4810-9613-330B580F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C95-6A19-4E61-9075-CEFFDD05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644-199B-4C1D-913A-E313117C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CB6-E316-4D54-885A-1A85DD7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B75-4477-4337-95E5-F474F2B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CF23-E268-4D33-A3A4-E0AFFFDC73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976-ED0D-474D-863E-84429A8F47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Основы учения о наследственности и изменчив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79640" y="198108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ГЕНЕ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4581000"/>
            <a:ext cx="403848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учитель биологии МОУ СОШ № 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Ртищево Саратовской области Калюгина Н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28576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Законы генетик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32360" y="162864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364000" y="4292640"/>
            <a:ext cx="34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4176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то отвечает за нашу наследственность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240360" cy="38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88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446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ГЕНЕТИК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наука о наследственности и изменчив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Хромос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8102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Генетика как нау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вый научный тру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писал чешский мона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Грегор Мендел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в 1865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1773360"/>
            <a:ext cx="3598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Российские генетик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Н. И. Вави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И. В. Мичу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84472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273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ороды собак и кошек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171680" cy="381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238720" y="1773360"/>
            <a:ext cx="3149640" cy="2189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272200" y="4114800"/>
            <a:ext cx="32605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Изменение признаков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456000" cy="360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37450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Трансгенные растения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00000" y="4221000"/>
            <a:ext cx="345600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219640" y="1844640"/>
            <a:ext cx="33847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Генетически-модифицированные продукт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257508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08720" y="170028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4360" y="4292640"/>
            <a:ext cx="243180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27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Мутаци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3889440" cy="25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324000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3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95280" y="148428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7:38:52Z</dcterms:created>
  <dc:creator>Пользователь</dc:creator>
  <dc:description/>
  <dc:language>en-US</dc:language>
  <cp:lastModifiedBy>Наталья</cp:lastModifiedBy>
  <dcterms:modified xsi:type="dcterms:W3CDTF">2012-01-04T15:52:31Z</dcterms:modified>
  <cp:revision>6</cp:revision>
  <dc:subject/>
  <dc:title>Основы учения о наследственности и изменчивости</dc:title>
</cp:coreProperties>
</file>