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E7A-3FB2-4B83-A89F-759222D1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1AF-8766-40D6-9509-71C57C88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208-2F91-48B7-A9D9-69BD4304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C0D-B451-4EC3-8A74-F87BB2B2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54D4-DB0A-4E1F-8A47-1297680E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5986-0889-4E95-B99B-E3FD1AC2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A2D5-2CD2-4964-8990-EA8DE424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1202-0C18-4158-858A-8039FFC9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2040-886F-462E-B36B-1EA6816D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A715-9D60-4E41-9E4C-28FB3056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2212-CF34-429D-B7FA-93514717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9F6-A39B-46D9-8403-6E680642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85B8-1C4F-41DB-A80D-6059C8EA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8B57-D4FD-4ECA-965D-31EF8589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113D-19F9-4A6B-9A2F-66028171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E78C-5FC1-48E8-8A7B-F6A7F07E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45D9-DB99-4278-904C-468BAFFF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E05-8492-4E17-98B0-E6D597DC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BD6-3C20-4C32-8E2D-7CB08DD1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935-D7F9-4B7A-B120-B9551F6E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212-8F10-4061-8F6C-F140EE1A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54C-0890-4CC3-A583-41301D8A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C68-2D6E-43EE-9562-5B365003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A81-0B8C-435B-8193-AB249BB0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F1EA-AD6A-4568-99A1-EC8D5CB784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505F-506B-4FE6-9CA0-79CD811B8F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Основы учения о наследственности и изменчивост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79640" y="198108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ГЕНЕ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4581000"/>
            <a:ext cx="40384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 учитель биологии МОУ СОШ № 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Ртищево Саратовской области Калюгина Н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28576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Законы генетик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168720" cy="251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3456000" cy="2376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Кто отвечает за нашу наследственность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240360" cy="381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889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446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ГЕНЕ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то наука о наследственности и изменчив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Хромос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38102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Генетика как нау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вый научный тру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писал чешский мона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Грегор Мендел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в 1865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598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Российские генетик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Н. И. Вави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И. В. Мичур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284472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27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Породы собак и коше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4171680" cy="381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238720" y="1773360"/>
            <a:ext cx="3149640" cy="2189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272200" y="4114800"/>
            <a:ext cx="32605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Изменение признако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456000" cy="360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3745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Трансгенные растени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00000" y="4221000"/>
            <a:ext cx="345600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177336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219640" y="1844640"/>
            <a:ext cx="33847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Генетически-модифицированные продук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575080" cy="1981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08720" y="1700280"/>
            <a:ext cx="2539800" cy="1904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4360" y="4292640"/>
            <a:ext cx="243180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995640" y="3357720"/>
            <a:ext cx="27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Мутаци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3889440" cy="25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3240000" cy="23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364000" y="4076640"/>
            <a:ext cx="3384720" cy="2449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95280" y="1484280"/>
            <a:ext cx="3384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7:38:52Z</dcterms:created>
  <dc:creator>Пользователь</dc:creator>
  <dc:description/>
  <dc:language>en-US</dc:language>
  <cp:lastModifiedBy>Наталья</cp:lastModifiedBy>
  <dcterms:modified xsi:type="dcterms:W3CDTF">2012-01-04T15:52:31Z</dcterms:modified>
  <cp:revision>6</cp:revision>
  <dc:subject/>
  <dc:title>Основы учения о наследственности и изменчивости</dc:title>
</cp:coreProperties>
</file>