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1A5-3C7A-4325-B7C9-9321CA93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069-574A-423D-BF43-C13946F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CCE-6E3E-4C7A-AB4D-51519D65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4BD-2E53-410B-BF59-692155EA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A4F-97BB-449D-9B50-C9C70F4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F7B-EBD8-41B0-B35E-0E560DA2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212-77BE-4240-8807-FAB46058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D6A-4FC6-42E7-B559-AEC86040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0BF-E235-4261-B07D-774B2BA7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C6F-5B36-4411-867A-FC7410E1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DA9-A6CE-4108-85D0-DFAF8942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091-1051-49AC-AF9C-4C4E3318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033E-9359-483E-8046-10F7992BB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дел: Современное тетральное искусств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 класс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тв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4076280"/>
            <a:ext cx="7489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одный артист ССС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слан Мубаря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32400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584352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и в 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ьм "Салават Юлаев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ссер Яков Протазан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23148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грады и з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публиканская премия имени Салавата Юлаева (1980г., посмер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ден Ленина  (194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нак Почета» (1944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ден Трудового Красного Знамени (195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й артист СССР (195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й артист РСФСР (194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луженный артист РСФСР (1944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луженный артист БАССР (193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в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мориальная доска по улице Ленин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байский БГТ им. А.Мубаря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ица А.Мубарякова в У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й дом им. А.Мубаря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мия Союза театральных деятелей имени Арслана Мубаря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3036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мена поко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барякова Гюлли Арслан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84720" y="2492280"/>
            <a:ext cx="2667240" cy="337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2103120" cy="294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4292640"/>
            <a:ext cx="2799000" cy="193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16360" y="2781360"/>
            <a:ext cx="32400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р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слан Мубаряков умер 5 мая 1977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38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399960" y="-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282240" y="0"/>
            <a:ext cx="9829080" cy="6629400"/>
            <a:chOff x="-282240" y="0"/>
            <a:chExt cx="9829080" cy="6629400"/>
          </a:xfrm>
        </p:grpSpPr>
        <p:sp>
          <p:nvSpPr>
            <p:cNvPr id="83" name=""/>
            <p:cNvSpPr/>
            <p:nvPr/>
          </p:nvSpPr>
          <p:spPr>
            <a:xfrm>
              <a:off x="3603600" y="2857320"/>
              <a:ext cx="1942560" cy="685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рслан Котлыахметович Мубаряк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1908-1977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2000" y="0"/>
              <a:ext cx="228600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стоящее им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тлоахметов Арс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баряк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167760" y="1599840"/>
              <a:ext cx="228564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мер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5 мая 1977 го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75000" y="4800600"/>
              <a:ext cx="2285640" cy="1828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грады и з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спубликанская премия имени Салавата Юлаева (1980г., посмертно) Орден Ленина  (1949г.) «Знак Почета» (1944г.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рден Трудового Красного Знамени (1955г.) Народный артист СССР (1955г.) Народный артист РСФСР (1949г.) Заслуженный артист РСФСР (1944г.) Заслуженный артист БАССР (1935г.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46600" y="0"/>
              <a:ext cx="228600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0-1927 - Серменевская  шко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7-1931 – БГТИ, класс В.Г.Муртазина -Иманск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18120" y="3428640"/>
              <a:ext cx="228564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сновные роли в теат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учшие роли: Шатмурат, Салават Юлаев, Кахыма, Отелло и д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167760" y="4914720"/>
              <a:ext cx="2285640" cy="1594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я в истор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мориальная доска по улице Ленина 2 , Сибайский БГТ им. А.Мубаряко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ица А.Мубарякова в Уф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тский дом им. А.Мубаряко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мия Союза театральных деятелей имени Арслана Мубаряко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282240" y="3200400"/>
              <a:ext cx="2285640" cy="114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мена покол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чь: Мубарякова Гюлли Арсланов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167760" y="0"/>
              <a:ext cx="228564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одил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 декабря 1908 года в д.Ассы, воспитывался в Серменевском детском дом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4000" y="5371920"/>
              <a:ext cx="228600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оли в ки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льм "Салават Юлаев" Режиссер Яков Протаза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89520" y="1828800"/>
              <a:ext cx="2623680" cy="1252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бю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8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год заглавная роль в трагед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. Сулейманова-Инана «Акшан - батыр» и   в мелодраме М.Бурангулова «Башкирская свадьба»   (оба спектакля режиссера В.Г. Муртазина-Иманског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61200" y="342720"/>
              <a:ext cx="228564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б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 1934 до конца жизни работал в разных должностях в БАТД им. М.Гафу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117160" y="1143000"/>
              <a:ext cx="148572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946320" y="1143000"/>
              <a:ext cx="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089320" y="1143000"/>
              <a:ext cx="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546520" y="1257120"/>
              <a:ext cx="160020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546520" y="2857320"/>
              <a:ext cx="11430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46520" y="3543120"/>
              <a:ext cx="1257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03800" y="3543120"/>
              <a:ext cx="15998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3880" y="354312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232000" y="3543120"/>
              <a:ext cx="13716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003040" y="3428640"/>
              <a:ext cx="1600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117160" y="2400480"/>
              <a:ext cx="14857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овторить за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одобрать иллюстрации к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июня Президент Республики Башкортостан М.Г.Рахимов подписа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з о праздновании 100-ле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 дня рождения народного артиста СССР, лауреата Государственной премии Республики Башкортостан имени Салавата Юлае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слана Котлыахметовича Мубаряк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й внес значительный вклад в развитие национального театраль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1413000"/>
            <a:ext cx="57596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рслан Котлыахметович Мубаряк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908-1977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3860640"/>
            <a:ext cx="21463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360" y="3068640"/>
            <a:ext cx="3168720" cy="165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слан Котлыахметович Мубаря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908-197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620640"/>
            <a:ext cx="2736720" cy="1618560"/>
          </a:xfrm>
          <a:prstGeom prst="rect">
            <a:avLst/>
          </a:prstGeom>
          <a:solidFill>
            <a:srgbClr val="b3e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лся 15 декабря 1908 года в д.Ассы, воспитывался в Серменевском детском до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058920" y="227664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40000" y="2924280"/>
            <a:ext cx="3168720" cy="165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слан Котлыахметович Мубаря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908-197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62064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ился 15 декабря 1908 года в д.Ассы, воспитывался в Серменевском детском до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692280"/>
            <a:ext cx="3313080" cy="1631160"/>
          </a:xfrm>
          <a:prstGeom prst="rect">
            <a:avLst/>
          </a:prstGeom>
          <a:solidFill>
            <a:srgbClr val="b3e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оящее имя Котлоахметов Арс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баря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0072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34136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920-1927 - Серменевская 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927-1931 – БГТИ, класс В.Г.Муртазина -Иман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15904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59500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Г.Муртазин -Им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1 году возглавил межрайонный передвижной 2-й Башкирский государственный театр драмы с базой в г.Стерлитамак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с 1934 и до конца жизни работал в Башкирском академическом театре драмы  актером и режиссером, а также  художественным руководителем (1937-1938гг), главным режиссером (1950-1951гг), директором (1949-1955гг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765000"/>
            <a:ext cx="2087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б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 заглавная роль в трагед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 Сулейманова-Инана «Акшан - батыр» и   в мелодраме М.Бурангулова «Башкирская свадьб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ба спектакля режиссера В.Г. Муртазина-Иманског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роли в теа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549360"/>
          <a:ext cx="8229600" cy="597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ие р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тму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рлуга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Бикб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ват Ю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алава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Бикб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хы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хым-турэ, или 1812 г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Бикб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айберд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берегу Бел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Нигм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л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телл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.Шексп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Живой тру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Толс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йн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ядя Ван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Че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смет Ярлыкап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спетая песн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Кар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И.Ле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ловек с ружьем», «Третья патетиче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од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щик спектак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рлуга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Бикб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альян гармон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мет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называй фамил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баряков – 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угасимые серд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мэс йэрэктэ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Женуш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исэкэ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3,1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торая молодост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кенсе йэшле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16:07Z</dcterms:created>
  <dc:creator>User</dc:creator>
  <dc:description/>
  <dc:language>en-US</dc:language>
  <cp:lastModifiedBy>User</cp:lastModifiedBy>
  <dcterms:modified xsi:type="dcterms:W3CDTF">2008-12-04T19:55:03Z</dcterms:modified>
  <cp:revision>5</cp:revision>
  <dc:subject/>
  <dc:title>Раздел: Современное тетральное искусство 9 класс III четверть</dc:title>
</cp:coreProperties>
</file>