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A4009-09C5-4512-9801-7697AB69A8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635040"/>
                <a:tab algn="l" pos="1270080"/>
                <a:tab algn="l" pos="1903320"/>
                <a:tab algn="l" pos="253836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</a:tabLst>
            </a:pPr>
            <a:fld id="{8D0FBF3B-3ACF-4ABF-9F3D-4BDD5CF98271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Верхний колонтитул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лованова И.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5175-C080-423E-8D39-1DAAD913B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7CCB-EDCA-49A4-8B02-0CAAEE63C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AAE5-72B3-4939-BED7-A604805CB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1EFB-FD4F-4695-8062-34D778EE8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1EE4-B445-4DE3-94EE-0249B71E5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4D38-332C-47A6-AE9B-755B3994F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22DA-5EA5-4305-A1CA-A27F6E4B1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B1CA-C95C-4AEB-931F-7AAC36F9B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BC8A-033E-4980-8E0B-3624A8E62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2D06-E854-435F-AD6B-6280382F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E100-49F6-4D61-B270-4DC6BB76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46A9-5FD6-4A8D-B758-2A6114F1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FAD3D-32D5-4938-9C7B-539C17A214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moles.ee/06/Nov/21/3-1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49520" y="404640"/>
            <a:ext cx="754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Arial Black"/>
              </a:rPr>
              <a:t>Права  ребён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7272360" cy="4896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62120" y="793800"/>
            <a:ext cx="8076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072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Никто и никогда не смеет оскорблять и мучить ребенка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ждое государство, подписав Конвенцию, обещает защитить своего маленького гражданина и наказать того, кто жестоко обращается с детьми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763640" y="2349360"/>
            <a:ext cx="57610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9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8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8064360" cy="59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68360" y="717480"/>
            <a:ext cx="8294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ебенок имеет право спокойно жить в своем доме и чувствовать себя хозяином, как папа и мама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Никому не позволено врываться силой в чужой дом. Каждый человек должен чувствовать себя дома в безопас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195640" y="2781360"/>
            <a:ext cx="5292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31672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dc6ff"/>
                                      </p:to>
                                    </p:animClr>
                                    <p:animClr clrSpc="rgb">
                                      <p:cBhvr>
                                        <p:cTn id="17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dc6ff"/>
                                      </p:to>
                                    </p:animClr>
                                    <p:set>
                                      <p:cBhvr>
                                        <p:cTn id="17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7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7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7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11280" y="762120"/>
            <a:ext cx="792324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Verdana"/>
              </a:rPr>
              <a:t>Ребенок имеет прав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Verdana"/>
              </a:rPr>
              <a:t>на свое мн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В Конвенции так и записано: ребенок может свободно выражать свое мн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Правда, там добавлено: если при этом он никого не оскорбляет и не ругается плохими слов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80360" cy="60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826920" y="717480"/>
            <a:ext cx="770760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Ребенок не обязан бы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«как вс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Жил когда-то в Дании странный мальчик, длинный, нескладный, некрасивый. Он был сыном сапожника, но мечтал стать поэтом. Он вечно думал о чем-то своем, в мечтах путешествовал по разным удивительным странам, не замечая, что все над ним смеются. Потом мальчик вырос, но остался в душе все тем же странным ребенком. Теперь его имя знает весь мир. Его зовут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Ганс Христиан Андерс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692360" y="1557360"/>
            <a:ext cx="6480000" cy="46958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 какой сказки эти герои? Как вы думаете почему все обижали бедного утён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04920" y="45720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Все дети должны учиться, чтобы стать грамотными, умелыми, воспитанны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ждый ребенок имеет право на бесплатное образов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Конвенции записано также: государство должно следить, чтобы непременно все дети посещали школу, детский сад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чит, когда ты ходишь в детский сад, школу, то помогаешь своей стране выполнять Конвен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8353440" cy="61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8229600" cy="22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ава ребенка — свод прав детей, зафиксированных в международных документах по правам ребёнка. Согласно Конвенции о правах ребенка, ребенок - это лицо, не достигшее 18 лет. Государство взяло на себя обязательство защищать детей, поэтому они имеют такие же права, как и взрослые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908000" y="2708280"/>
            <a:ext cx="5616720" cy="3825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484360" y="2133720"/>
            <a:ext cx="5184720" cy="3889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807552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апа Карло купил «Азбуку» с крупными буквами и цветными картинками и отправил сына в школу. А Буратино куда пошёл?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х, знал бы он Конвенцию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508040" y="717480"/>
            <a:ext cx="6797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9440" y="549000"/>
            <a:ext cx="813132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Ребенок имеет право отдохнуть, поиграть, повеселитьс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2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аво на отдых, на игры, на праздники записано в Конвенции о правах реб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780000" y="1773360"/>
            <a:ext cx="5047920" cy="43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2" dur="2000" fill="hold"/>
                                        <p:tgtEl>
                                          <p:spTgt spid="8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748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атушка, сестры, можно и мне хоть одним глазком взглянуть на бал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Ха-ха-ха! Что тебе, замарашке, делать в королевском дворце?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476360" y="1557360"/>
            <a:ext cx="669780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4" dur="1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dc6ff"/>
                                      </p:to>
                                    </p:animClr>
                                    <p:animClr clrSpc="rgb">
                                      <p:cBhvr>
                                        <p:cTn id="245" dur="1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dc6ff"/>
                                      </p:to>
                                    </p:animClr>
                                    <p:set>
                                      <p:cBhvr>
                                        <p:cTn id="246" dur="1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82090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7" dur="2000" fill="hold"/>
                                        <p:tgtEl>
                                          <p:spTgt spid="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8137440" cy="59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1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dc6ff"/>
                                      </p:to>
                                    </p:animClr>
                                    <p:animClr clrSpc="rgb">
                                      <p:cBhvr>
                                        <p:cTn id="264" dur="1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dc6ff"/>
                                      </p:to>
                                    </p:animClr>
                                    <p:set>
                                      <p:cBhvr>
                                        <p:cTn id="265" dur="1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6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7993080" cy="58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dc6ff"/>
                                      </p:to>
                                    </p:animClr>
                                    <p:animClr clrSpc="rgb">
                                      <p:cBhvr>
                                        <p:cTn id="27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dc6ff"/>
                                      </p:to>
                                    </p:animClr>
                                    <p:set>
                                      <p:cBhvr>
                                        <p:cTn id="27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7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8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8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424720" cy="617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1116000" y="981000"/>
            <a:ext cx="705636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algn="ctr">
              <a:lnSpc>
                <a:spcPct val="116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  <a:ea typeface="Arial Unicode MS"/>
              </a:rPr>
              <a:t>Спасибо за внимание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2124000" y="1773360"/>
            <a:ext cx="522468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В презентации использованы:</a:t>
            </a:r>
            <a:br>
              <a:rPr sz="2000"/>
            </a:b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- Игровой дидактический материал «Береги Живое» студии «Весна. Дизайн» г. Киров.</a:t>
            </a:r>
            <a:br>
              <a:rPr sz="2000"/>
            </a:b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- Презентация Рыжковой Натальи, под руководством учителя истории и обществознания Поплавской В.И.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Портал готовых презентаций)</a:t>
            </a:r>
            <a:br>
              <a:rPr sz="2000"/>
            </a:b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- Презентация «Твои права» (Портал готовых презентаций)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9640" y="1844640"/>
            <a:ext cx="8209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 1989 году ООН приняла документ, который называется «Конвенция о правах ребен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онвенция – это международное соглашение. Государства пришли к соглашению, что будут соблюдать в своей стране права каждого ребенка.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И наше государство тоже подписалось под этим документом, а, значит, дало слово всему миру позаботиться о своих дет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Картинка 43 из 49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620640"/>
            <a:ext cx="1038240" cy="172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6327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Документ , в котором определены права и обязанности детей, называется «Конвенция о правах  ребенка».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В Конвенции идет речь о том, что у всех детей на Земле были одинаковые права.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Конвенция – большой документ, содержащий около 50 стате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4" descr="p230305.jpg"/>
          <p:cNvPicPr/>
          <p:nvPr/>
        </p:nvPicPr>
        <p:blipFill>
          <a:blip r:embed="rId1"/>
          <a:stretch/>
        </p:blipFill>
        <p:spPr>
          <a:xfrm>
            <a:off x="1332000" y="2997360"/>
            <a:ext cx="2214360" cy="327816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3" descr="2018650.jpg"/>
          <p:cNvPicPr/>
          <p:nvPr/>
        </p:nvPicPr>
        <p:blipFill>
          <a:blip r:embed="rId2"/>
          <a:stretch/>
        </p:blipFill>
        <p:spPr>
          <a:xfrm>
            <a:off x="5724360" y="2997360"/>
            <a:ext cx="2167200" cy="331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" dur="2000" fill="hold"/>
                                        <p:tgtEl>
                                          <p:spTgt spid="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990720" y="380880"/>
            <a:ext cx="7238880" cy="58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Главное право каждого человека – право на жизн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   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И маленький человек – ребенок – тоже имее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право жи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Каждая страна, говорится в Конвенции, должна заботится о новорожденных, помогать их мамам, строить больницы и поликлиники, где врачи спасут, вылечат маленького, если он заболе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1280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бочку с сыном посадили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смолили, покатили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пустили в Окиян –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к велел-де царь Салт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62472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бенок имеет право на имя и национальность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бенок имеет право, на сколько это возможно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ть, кто его родите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4" descr="i.jpeg"/>
          <p:cNvPicPr/>
          <p:nvPr/>
        </p:nvPicPr>
        <p:blipFill>
          <a:blip r:embed="rId1"/>
          <a:stretch/>
        </p:blipFill>
        <p:spPr>
          <a:xfrm>
            <a:off x="2124000" y="1700280"/>
            <a:ext cx="4745160" cy="41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3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 вы думаете, какое право нарушили у этой девочк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 называется эта сказ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68360" y="620640"/>
            <a:ext cx="39369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88360" cy="61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3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7" dur="2000" fill="hold"/>
                                        <p:tgtEl>
                                          <p:spTgt spid="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6T13:25:54Z</dcterms:created>
  <dc:creator>user</dc:creator>
  <dc:description/>
  <dc:language>en-US</dc:language>
  <cp:lastModifiedBy>user</cp:lastModifiedBy>
  <dcterms:modified xsi:type="dcterms:W3CDTF">2013-04-06T18:15:12Z</dcterms:modified>
  <cp:revision>8</cp:revision>
  <dc:subject/>
  <dc:title>Слайд 1</dc:title>
</cp:coreProperties>
</file>