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573F-A4D9-4EA7-B763-14916FF3F6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35040"/>
                <a:tab algn="l" pos="1270080"/>
                <a:tab algn="l" pos="1903320"/>
                <a:tab algn="l" pos="253836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</a:tabLst>
            </a:pPr>
            <a:fld id="{75A44280-9B43-4055-9718-0FD78B4D82A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Верхний колонтитул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лованова И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0814-65FA-4AE3-B632-FFF5847C0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F0A4-387D-41FB-B406-E3E00279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5027-70BE-402A-863E-205726E17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F6FF-D3E3-4823-A35A-625A06747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4DEB-E086-46C3-B584-19A92017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B254-B1CF-4238-B2A7-DF940677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8A71-0062-4364-80DF-205B73DD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AA53-79C8-48A3-9BBA-0C5233F6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5D3E-6F42-444F-892F-1E539763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95E1-427B-47DE-BFC4-6FB111FD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171D-D950-4B21-B312-6085BFEA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C8C8-60AA-4E58-95A2-EC767FB6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E4C4-7A50-4177-8539-B70152059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oles.ee/06/Nov/21/3-1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9520" y="404640"/>
            <a:ext cx="754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Arial Black"/>
              </a:rPr>
              <a:t>Права  ребён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272360" cy="489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62120" y="793800"/>
            <a:ext cx="8076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072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Никто и никогда не смеет оскорблять и мучить ребенк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ждое государство, подписав Конвенцию, обещает защитить своего маленького гражданина и наказать того, кто жестоко обращается с детьм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763640" y="2349360"/>
            <a:ext cx="5761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06436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717480"/>
            <a:ext cx="829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бенок имеет право спокойно жить в своем доме и чувствовать себя хозяином, как папа и мама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икому не позволено врываться силой в чужой дом. Каждый человек должен чувствовать себя дома в безопас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195640" y="2781360"/>
            <a:ext cx="5292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3167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dc6ff"/>
                                      </p:to>
                                    </p:animClr>
                                    <p:animClr clrSpc="rgb">
                                      <p:cBhvr>
                                        <p:cTn id="17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dc6ff"/>
                                      </p:to>
                                    </p:animClr>
                                    <p:set>
                                      <p:cBhvr>
                                        <p:cTn id="17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7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7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11280" y="762120"/>
            <a:ext cx="792324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Ребенок имеет прав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на свое мн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 Конвенции так и записано: ребенок может свободно выражать свое мн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равда, там добавлено: если при этом он никого не оскорбляет и не ругается плохими слов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0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26920" y="717480"/>
            <a:ext cx="770760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Ребенок не обязан бы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«как вс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Жил когда-то в Дании странный мальчик, длинный, нескладный, некрасивый. Он был сыном сапожника, но мечтал стать поэтом. Он вечно думал о чем-то своем, в мечтах путешествовал по разным удивительным странам, не замечая, что все над ним смеются. Потом мальчик вырос, но остался в душе все тем же странным ребенком. Теперь его имя знает весь мир. Его зовут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Ганс Христиан Андерс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6480000" cy="46958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 какой сказки эти герои? Как вы думаете почему все обижали бедного утён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Все дети должны учиться, чтобы стать грамотными, умелыми, воспитан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ждый ребенок имеет право на бесплатное образ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Конвенции записано также: государство должно следить, чтобы непременно все дети посещали школу, детский сад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чит, когда ты ходишь в детский сад, школу, то помогаешь своей стране выполнять Конвен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353440" cy="61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2960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ва ребенка — свод прав детей, зафиксированных в международных документах по правам ребёнка. Согласно Конвенции о правах ребенка, ребенок - это лицо, не достигшее 18 лет. Государство взяло на себя обязательство защищать детей, поэтому они имеют такие же права, как и взрослые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08000" y="2708280"/>
            <a:ext cx="5616720" cy="3825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484360" y="2133720"/>
            <a:ext cx="5184720" cy="3889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80755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па Карло купил «Азбуку» с крупными буквами и цветными картинками и отправил сына в школу. А Буратино куда пошёл?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х, знал бы он Конвенцию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08040" y="717480"/>
            <a:ext cx="6797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9440" y="549000"/>
            <a:ext cx="813132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Ребенок имеет право отдохнуть, поиграть, повеселитьс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2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во на отдых, на игры, на праздники записано в Конвенции о правах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780000" y="1773360"/>
            <a:ext cx="504792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2" dur="2000" fill="hold"/>
                                        <p:tgtEl>
                                          <p:spTgt spid="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748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тушка, сестры, можно и мне хоть одним глазком взглянуть на бал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Ха-ха-ха! Что тебе, замарашке, делать в королевском дворце?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6978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1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dc6ff"/>
                                      </p:to>
                                    </p:animClr>
                                    <p:animClr clrSpc="rgb">
                                      <p:cBhvr>
                                        <p:cTn id="245" dur="1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dc6ff"/>
                                      </p:to>
                                    </p:animClr>
                                    <p:set>
                                      <p:cBhvr>
                                        <p:cTn id="246" dur="1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2090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7" dur="20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813744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1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dc6ff"/>
                                      </p:to>
                                    </p:animClr>
                                    <p:animClr clrSpc="rgb">
                                      <p:cBhvr>
                                        <p:cTn id="264" dur="1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dc6ff"/>
                                      </p:to>
                                    </p:animClr>
                                    <p:set>
                                      <p:cBhvr>
                                        <p:cTn id="265" dur="1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99308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dc6ff"/>
                                      </p:to>
                                    </p:animClr>
                                    <p:animClr clrSpc="rgb">
                                      <p:cBhvr>
                                        <p:cTn id="27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dc6ff"/>
                                      </p:to>
                                    </p:animClr>
                                    <p:set>
                                      <p:cBhvr>
                                        <p:cTn id="27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7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8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617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1116000" y="981000"/>
            <a:ext cx="70563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116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Arial Unicode MS"/>
              </a:rPr>
              <a:t>Спасибо за внимание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522468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 презентации использованы: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 Игровой дидактический материал «Береги Живое» студии «Весна. Дизайн» г. Киров.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 Презентация Рыжковой Натальи, под руководством учителя истории и обществознания Поплавской В.И.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Портал готовых презентаций)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 Презентация «Твои права» (Портал готовых презентаций)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9640" y="1844640"/>
            <a:ext cx="820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 1989 году ООН приняла документ, который называется «Конвенция о правах ребен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онвенция – это международное соглашение. Государства пришли к соглашению, что будут соблюдать в своей стране права каждого ребенка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 наше государство тоже подписалось под этим документом, а, значит, дало слово всему миру позаботиться о своих дет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Картинка 43 из 49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620640"/>
            <a:ext cx="1038240" cy="17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63272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Документ , в котором определены права и обязанности детей, называется «Конвенция о правах  ребенка».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 Конвенции идет речь о том, что у всех детей на Земле были одинаковые права.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Конвенция – большой документ, содержащий около 50 стате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4" descr="p230305.jpg"/>
          <p:cNvPicPr/>
          <p:nvPr/>
        </p:nvPicPr>
        <p:blipFill>
          <a:blip r:embed="rId1"/>
          <a:stretch/>
        </p:blipFill>
        <p:spPr>
          <a:xfrm>
            <a:off x="1332000" y="2997360"/>
            <a:ext cx="2214360" cy="32781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2018650.jpg"/>
          <p:cNvPicPr/>
          <p:nvPr/>
        </p:nvPicPr>
        <p:blipFill>
          <a:blip r:embed="rId2"/>
          <a:stretch/>
        </p:blipFill>
        <p:spPr>
          <a:xfrm>
            <a:off x="5724360" y="2997360"/>
            <a:ext cx="2167200" cy="33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90720" y="380880"/>
            <a:ext cx="7238880" cy="58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Главное право каждого человека – право на жизн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  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И маленький человек – ребенок – тоже имее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право жи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Каждая страна, говорится в Конвенции, должна заботится о новорожденных, помогать их мамам, строить больницы и поликлиники, где врачи спасут, вылечат маленького, если он заболе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1280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бочку с сыном посадил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смолили, покатил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пустили в Окиян –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 велел-де царь Салт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62472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бенок имеет право на имя и национальность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бенок имеет право, на сколько это возможно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ть, кто его родит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4" descr="i.jpeg"/>
          <p:cNvPicPr/>
          <p:nvPr/>
        </p:nvPicPr>
        <p:blipFill>
          <a:blip r:embed="rId1"/>
          <a:stretch/>
        </p:blipFill>
        <p:spPr>
          <a:xfrm>
            <a:off x="2124000" y="1700280"/>
            <a:ext cx="474516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вы думаете, какое право нарушили у этой девочк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называется эта сказ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39369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8836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7" dur="2000" fill="hold"/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6T13:25:54Z</dcterms:created>
  <dc:creator>user</dc:creator>
  <dc:description/>
  <dc:language>en-US</dc:language>
  <cp:lastModifiedBy>user</cp:lastModifiedBy>
  <dcterms:modified xsi:type="dcterms:W3CDTF">2013-04-06T18:15:12Z</dcterms:modified>
  <cp:revision>8</cp:revision>
  <dc:subject/>
  <dc:title>Слайд 1</dc:title>
</cp:coreProperties>
</file>