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f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1554-59B9-4E9E-A22F-5AE0BABBA4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AA97-B224-4092-8016-87518D93FEE0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975A-17C7-42AE-8639-4B24636A5796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CB3F-5C57-41D5-9740-F937F69E5B72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135B-8F64-422E-A814-E7A67ECD00BE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0381-A96C-46E8-8C53-1E00AF784BD1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745B-68D1-4E8F-B1E0-FD032DA69C3C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1801-D5B0-45F8-89C3-AB8DBC9B6290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53DC-C58E-447D-BE6B-B2859C2371EF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3895-5251-43D6-8658-493082D6FE83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7C78-DFC0-4AB4-805C-8C14E9CBD61E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6DE7-28E6-419F-AE8F-55B996CA792F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E60E-8F9D-4126-AE81-4E52AC0FD813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6092-566F-4100-9E4E-C125126C92B0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2E1A-7BA3-4253-ACF3-9EA504CEF859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22D4-8788-4B65-B19B-94DA9B0E62A4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44AA-41EF-4D13-8D6E-861711BECAA7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C62E-5275-4F4A-BD5A-D47A719FFD80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1A92-78F0-4C5D-AF3A-68ABCB3ADBA4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A78E-94CA-4103-BAF0-843A4FE523CC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FB6F-726B-472B-84BE-2381EEA3AD9F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B35B-AC69-4878-B5AF-514AF312DB46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395E-654D-4EC0-8CE2-6C40F0397B78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4587-C2C4-4F64-9A5F-3A572279A8E2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A63A-CE54-46B0-A6F9-ED7700384DC2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9D2C-1346-4613-829F-DF941A0EE41B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5866-58BF-4DCD-96E2-03088E5F0F44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934E-2001-47C8-B2DA-D02AA848DA13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D72E-59AD-44FF-BA79-7A04089982BE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826C-BD39-4443-B381-23175929F521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1EE2-0F5D-48FB-B666-A64335787CAD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DF8E-53E5-4CD0-A6C7-A197A70FDC67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F45C-E7E9-421E-94AE-1F41AFFFA772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A35F-2F1F-4B06-9E0A-99F5E57CB62F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55EF-1945-43EE-948B-54A6295C4766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1AF5-8224-4021-97E0-4D1E95723880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4FD8-5511-48EC-A7CF-086E83734BDC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D1B2-1D7E-4329-A19E-FC3559E4351E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6282-D66C-47E5-8714-E0AE59537893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3E47-A4CD-4ACF-A331-EB1C66C13D38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AF19-A7E1-4A68-ABDF-1B25080F2A83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E6A3-BED1-4D45-8C3A-4307A9AF3EFF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6B06-DE47-4CB2-8B14-DF3C1FD2F419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63D6-DACE-40AB-9972-5E522B8C5657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72ED-8723-48C2-9DDD-96A8FDF33DCB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C5AF-582A-4C81-B406-494ED90E3DF2}" type="slidenum">
              <a:rPr b="0" lang="ru-RU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185-59F6-4D3D-B17F-FA56C3BA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9A9-E924-4B20-BE12-4EA11147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3B2-7000-4CC3-84ED-87757F6E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926-5805-4C24-97A7-BD704295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8B0-DD49-4A0B-BBD9-3CE3865B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546-6393-4369-B587-F0DFBF8A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C62-FBF2-4C4B-9EF4-BADE9E72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C9B-C63D-430C-AC1F-E138C8AA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842F-AC67-4EA8-84A7-AABDC536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C4B-08D6-47D5-9E80-C5DB99D0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1DC-5150-4FB7-B84E-251CD17E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87A-7635-49DE-A0AE-DB2CF883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9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9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9c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9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9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9c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FC24-6371-42AC-81D2-D7AD3B1F97FA}" type="slidenum">
              <a:rPr b="0" lang="ru-RU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1500120" y="4500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0" y="1429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1d0a"/>
                </a:solidFill>
                <a:latin typeface="Arial"/>
              </a:rPr>
              <a:t>МБОУ «Средняя общеобразовательная школа с углубленным изучением отдельных предметов №7»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857760" y="607212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1d0a"/>
                </a:solidFill>
                <a:latin typeface="Arial"/>
              </a:rPr>
              <a:t>г. Кашира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1d0a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0" y="1785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1d0a"/>
                </a:solidFill>
                <a:latin typeface="Arial"/>
              </a:rPr>
              <a:t>Проект на тему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1d0a"/>
                </a:solidFill>
                <a:latin typeface="Arial"/>
              </a:rPr>
              <a:t>«Психолого-педагогическое сопровождение детей с признаками одаренности в общеобразовательном учреждении»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4714920" y="400068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1d0a"/>
                </a:solidFill>
                <a:latin typeface="Arial"/>
              </a:rPr>
              <a:t>Выполнила: </a:t>
            </a:r>
            <a:r>
              <a:rPr b="0" lang="ru-RU" sz="1800" spc="-1" strike="noStrike">
                <a:solidFill>
                  <a:srgbClr val="201d0a"/>
                </a:solidFill>
                <a:latin typeface="Arial"/>
              </a:rPr>
              <a:t>учитель начальных классов  Михалева Надежда Николаевна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748800"/>
            <a:ext cx="91440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Инструментальный аспект поведения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одаренного ребенка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79280" y="2008080"/>
            <a:ext cx="8713800" cy="42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Наличие специфических стратегий деятельности (быстро осваивает; использует новые способы деятельности; проявляет новаторство, ставит новые цели деятельности)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формированность индивидуального стиля деятельности, склонность «все делать по-своему»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собый тип организации знаний: высокая структурированность; способность видеть изучаемый предмет в системе разнообразных связей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ысокий уровень способности к самообучению, с чем связана необходимость  создания вариативной, обогащенной и индивидуализированной образовательной среды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-14400" y="208116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14400" y="405432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25560" y="521352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-25560" y="324000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" y="692280"/>
            <a:ext cx="84582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Мотивационный аспект поведения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одаренного ребенка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79280" y="2060640"/>
            <a:ext cx="8569440" cy="39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овышенная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избирательная чувствительность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к определенным сторонам действительности (звукам, техническим устройствам и т.д.) либо формам собственной активности (физической, познавательной, и т.д.), сопровождающаяся переживанием чувства удовольствия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Повышенная познавательная потребность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Интенсивная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склонность к определенному виду деятельности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 и как следствие - поразительное упорство и трудолюбие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Высокая требовательность к результатам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собственного труда, склонность ставить сверхтрудные цели и настойчивость в их достижении, стремление к совершенству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-14400" y="212580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-14400" y="412920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-25560" y="494172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-25560" y="364500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Критерии выделения видов одаренности: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pic>
        <p:nvPicPr>
          <p:cNvPr id="139" name="Picture 4" descr="74"/>
          <p:cNvPicPr/>
          <p:nvPr/>
        </p:nvPicPr>
        <p:blipFill>
          <a:blip r:embed="rId1"/>
          <a:stretch/>
        </p:blipFill>
        <p:spPr>
          <a:xfrm>
            <a:off x="5148360" y="1773360"/>
            <a:ext cx="3384360" cy="42465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395280" y="1735200"/>
            <a:ext cx="4681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1. Вид деятельности и обеспечивающие ее сферы психики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(способности и задатки)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. Степень сформированности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(актуальная и потенциальная)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Форма проявлений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(явная и скрытая)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4. Широта проявлений в различных видах деятельности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(общая и специальная)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5. Особенности возрастного развития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(ранняя и поздняя)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680" y="692280"/>
            <a:ext cx="792504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Виды одаренности</a:t>
            </a:r>
            <a:br>
              <a:rPr sz="2400"/>
            </a:b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(по критерию – «Вид деятельности»)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90440" y="1844640"/>
            <a:ext cx="864072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практической деятельности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можно выделить одаренность в ремеслах, спортивную и организационную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познавательной деятельности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— интеллектуальную одаренность различных видов в зависимости от предметного содержания деятельности (например, одаренность в области естественных и гуманитарных наук). </a:t>
            </a: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    В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художественно-эстетической деятельности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— хореографическую, сценическую, литературно-поэтическую, изобразительную и музыкальную одаренность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коммуникативной деятельности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— лидерскую одаренность.</a:t>
            </a: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    В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духовно-ценностной деятельности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— одаренность, которая проявляется в создании новых духовных ценностей и служении людям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-14400" y="193824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-14400" y="274464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-25560" y="408456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-25560" y="523224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-9360" y="5580000"/>
            <a:ext cx="62532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680" y="692280"/>
            <a:ext cx="792504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Явная и скрытая одаренность</a:t>
            </a:r>
            <a:br>
              <a:rPr sz="2400"/>
            </a:b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(по критерию «Форма проявления»)</a:t>
            </a:r>
            <a:endParaRPr b="0" lang="en-US" sz="16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79280" y="2046240"/>
            <a:ext cx="8640720" cy="36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Явная одаренность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проявляется в деятельности ребенка достаточно ярко и отчетливо (как бы «сама по себе»), в том числе и при неблагоприятных условиях. Достижения ребенка столь очевидны, что его одаренность не вызывает сомнения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Скрытая одаренность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проявляется в замаскированной форме, она не замечается окружающими. Идентификация детей с таким типом одаренности — это длительный процесс, основанный на использовании комплекса методов анализа поведения ребенка, включении его в различные виды деятельности, вовлечении его в инновационные формы обучения и т.д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-14400" y="213192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-14400" y="361008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705960"/>
            <a:ext cx="89647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Общая и специальная одаренность </a:t>
            </a:r>
            <a:br>
              <a:rPr sz="2400"/>
            </a:b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(по критерию «Широта проявлений в различных видах деятельности»)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9280" y="2368440"/>
            <a:ext cx="8893440" cy="30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Общая одаренность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проявляется по отношению к различным видам деятельности. Это результат интеграции умственных способностей, мотивации и системы ценностей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Специальная одаренность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проявляется по отношению к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тдельным областям деятельности (поэзия, математика, спорт и т.д.)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ыделяют также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социальную одаренность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— одаренность в сфере лидерства и социального взаимодействия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(семья, политика, деловые отношения в рабочем коллективе)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-14400" y="242100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-25560" y="360504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-14400" y="442764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677880"/>
            <a:ext cx="79246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Ранняя и поздняя одаренность</a:t>
            </a:r>
            <a:br>
              <a:rPr sz="2400"/>
            </a:b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(по критерию «Особенности возрастного развития»)</a:t>
            </a:r>
            <a:endParaRPr b="0" lang="en-US" sz="18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06280" y="2133720"/>
            <a:ext cx="8569440" cy="36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Ранняя одаренность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(«вундеркинды»)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Поздняя одаренность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пределяющим здесь выступает темп психического развития ребенка. При этом ускоренное психическое развитие и ранняя одаренность не всегда связаны с высокими достижениями в более старшем возрасте. В свою очередь, отсутствие ярких проявлений одаренности в детском возрасте не означает отсутствие перспектив дальнейшего психического развития личности.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-14400" y="224316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-14400" y="267336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-14400" y="317340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560" y="533520"/>
            <a:ext cx="79246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Особенности личности одаренного ребенка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71280" y="1384200"/>
            <a:ext cx="8964720" cy="55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ыделяют одаренность с гармоничным и дисгармоничным типами развития.</a:t>
            </a:r>
            <a:br>
              <a:rPr sz="2000"/>
            </a:b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Одаренность с гармоничным типом развития: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- соответствующая возрасту физическая зрелость;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- высокие достижения в определенной предметной области;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- успехи в выбранной профессиональной деятельности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- стремление к творческой деятельности;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- повышенная самостоятельность,  развитые метакогнитивные навыки (целеполагание, выбор способов решения задач, самооценка  и пр.)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- огромная любознательность, страстная увлеченность любимым делом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- устойчиво высокая самооценка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- независимость (автономность)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 целом эта группа одаренных детей характеризуется высокой, по сравнению со сверстниками, адаптацией к школьному обучению и соответственно коллективу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179280" y="1557360"/>
            <a:ext cx="878544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Одаренность с дисгармоничным типом развития: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- высокий уровень отдельных способностей и достижений (нередко именно эти дети имеют показатели IQ от 130 до 180),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- неравномерность развития различных психических качеств, некоторые психические сферы (эмоциональная, социальная, физическая) часто отстают в развитии;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- наличие психологических, психосоматических и даже психопатологических проблем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- противоречивость самооценки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- возможная болезненная неудовлетворенность собой и результатами своего труда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- повышенная  эмоциональная чувствительность, реактивность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- проблемы, связанные с физическим развитием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- отчужденность от группы сверстников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4920" y="549360"/>
            <a:ext cx="79246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Особенности личности одаренного ребенка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Роль семьи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24000" y="1916280"/>
            <a:ext cx="8351640" cy="46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рактически обязательная особенность семьи любого особо одаренного ребенка - необычно высокое внимание к ребенку, которое является одним из важнейших факторов развития незаурядных способностей. Часто это приводит к симбиозу, т.е. тесному переплетению познавательных и личностных интересов родителей и ребенка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пределенная «детоцентричность» семьи одаренного ребенка, фанатическое желание родителей развить его способности имеет в ряде случаев и свои отрицательные стороны (попустительская позиция в отношении развития у своего ребенка ряда социальных и бытовых навыков,  родители нередко вмешиваются в учебный процесс и в отдельных случаях даже провоцируют конфликт с администрацией и педагогами)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285840" y="642960"/>
            <a:ext cx="5500800" cy="59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 Black"/>
              </a:rPr>
              <a:t>Психолого-педагогическое сопровождение детей </a:t>
            </a:r>
            <a:br>
              <a:rPr sz="3000"/>
            </a:br>
            <a:r>
              <a:rPr b="0" lang="ru-RU" sz="3000" spc="-1" strike="noStrike">
                <a:solidFill>
                  <a:srgbClr val="663300"/>
                </a:solidFill>
                <a:latin typeface="Arial Black"/>
              </a:rPr>
              <a:t>с признаками одаренности в общеобразовательном учреждении</a:t>
            </a:r>
            <a:endParaRPr b="0" lang="en-US" sz="30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500120" y="4500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93" name="Picture 2" descr="http://old.kaluga.er.ru/files/ru/sections_prod/1790_067ac0.jpg"/>
          <p:cNvPicPr/>
          <p:nvPr/>
        </p:nvPicPr>
        <p:blipFill>
          <a:blip r:embed="rId1"/>
          <a:stretch/>
        </p:blipFill>
        <p:spPr>
          <a:xfrm>
            <a:off x="5000760" y="0"/>
            <a:ext cx="4500360" cy="7072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640" y="60444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Взаимоотношения с педагогами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2349360"/>
            <a:ext cx="8280360" cy="31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302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онимание своеобразия личности одаренного ребенка с дисгармоническим типом развития является принципиально важным для успешной работы учителя с таким контингентом детей и подростков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302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 зависимости от позиции педагога повышенная критичность интеллектуально одаренного ребенка, его высокое умственное развитие может вызывать как уважение и понимание, так и неприятие ребенка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560" y="533520"/>
            <a:ext cx="79246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Выявление одаренных детей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17440" y="1628640"/>
            <a:ext cx="864252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ыявление одаренных детей — продолжительный процесс, связанный с анализом развития конкретного ребенка. Важно направлять усилия на постепенный, поэтапный поиск одаренных детей в процессе их обучения и развития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Любая форма отбора (селектирования) детей на основе показателей психометрических тестов (тестов интеллекта и креативности) не является инструментом диагностики одаренности вообще и интеллектуальной либо творческой одаренности в частности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сихометрические тесты скорее нужно применять не для и не до принятия решения о мере одаренности ребенка, а после процедуры его идентификации как одаренного в целях уяснения сильных и слабых его психологических качеств и организации необходимой ему индивидуализированной психолого-педагогической помощи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-14400" y="170028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-14400" y="321300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501336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70c0"/>
                </a:solidFill>
                <a:latin typeface="Arial"/>
              </a:rPr>
              <a:t>Стратегии идентификации и развития одарённости</a:t>
            </a:r>
            <a:endParaRPr b="0" lang="en-US" sz="40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2900"/>
                </a:solidFill>
                <a:latin typeface="Arial"/>
              </a:rPr>
              <a:t>1 – одарённость как диагноз (тестологическая парадигма) </a:t>
            </a:r>
            <a:endParaRPr b="0" lang="en-US" sz="32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2900"/>
                </a:solidFill>
                <a:latin typeface="Arial"/>
              </a:rPr>
              <a:t>2 – одарённость как ориентир</a:t>
            </a:r>
            <a:endParaRPr b="0" lang="en-US" sz="32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02900"/>
                </a:solidFill>
                <a:latin typeface="Arial"/>
              </a:rPr>
              <a:t>развития </a:t>
            </a:r>
            <a:endParaRPr b="0" lang="en-US" sz="32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2900"/>
                </a:solidFill>
                <a:latin typeface="Arial"/>
              </a:rPr>
              <a:t>(деятельностная парадигма)</a:t>
            </a:r>
            <a:endParaRPr b="0" lang="en-US" sz="32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9cf"/>
              </a:solidFill>
              <a:latin typeface="Arial"/>
            </a:endParaRPr>
          </a:p>
        </p:txBody>
      </p:sp>
      <p:pic>
        <p:nvPicPr>
          <p:cNvPr id="177" name="Picture 5" descr="214"/>
          <p:cNvPicPr/>
          <p:nvPr/>
        </p:nvPicPr>
        <p:blipFill>
          <a:blip r:embed="rId1"/>
          <a:stretch/>
        </p:blipFill>
        <p:spPr>
          <a:xfrm>
            <a:off x="6659640" y="2205000"/>
            <a:ext cx="248436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«Одаренность как диагноз»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Искаженные стратегии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образовательной практики: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елекция;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резервация;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эксплуатация;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тигматизация;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имуляция или имитация;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редукция;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ложная идентификация;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искаженные ожидания…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pic>
        <p:nvPicPr>
          <p:cNvPr id="180" name="Picture 2" descr="99"/>
          <p:cNvPicPr/>
          <p:nvPr/>
        </p:nvPicPr>
        <p:blipFill>
          <a:blip r:embed="rId1"/>
          <a:stretch/>
        </p:blipFill>
        <p:spPr>
          <a:xfrm>
            <a:off x="4643280" y="1989000"/>
            <a:ext cx="396108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«</a:t>
            </a:r>
            <a:r>
              <a:rPr b="1" lang="ru-RU" sz="2800" spc="-1" strike="noStrike">
                <a:solidFill>
                  <a:srgbClr val="0070c0"/>
                </a:solidFill>
                <a:latin typeface="Arial Black"/>
              </a:rPr>
              <a:t>Одаренность</a:t>
            </a: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 как ориентир развития»: </a:t>
            </a:r>
            <a:r>
              <a:rPr b="1" lang="ru-RU" sz="1600" spc="-1" strike="noStrike">
                <a:solidFill>
                  <a:srgbClr val="0070c0"/>
                </a:solidFill>
                <a:latin typeface="Arial Black"/>
              </a:rPr>
              <a:t>стратегии образования</a:t>
            </a:r>
            <a:endParaRPr b="0" lang="en-US" sz="16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– включение в деятельность</a:t>
            </a:r>
            <a:endParaRPr b="0" lang="en-US" sz="24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2 – совмещение обучения </a:t>
            </a:r>
            <a:endParaRPr b="0" lang="en-US" sz="24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в деятельности с интересами</a:t>
            </a:r>
            <a:endParaRPr b="0" lang="en-US" sz="24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ребенка</a:t>
            </a:r>
            <a:endParaRPr b="0" lang="en-US" sz="24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3 – выведение на уровень </a:t>
            </a:r>
            <a:endParaRPr b="0" lang="en-US" sz="24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самостоятельного исследования</a:t>
            </a:r>
            <a:endParaRPr b="0" lang="en-US" sz="24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(познание)</a:t>
            </a:r>
            <a:endParaRPr b="0" lang="en-US" sz="24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9cf"/>
              </a:solidFill>
              <a:latin typeface="Arial"/>
            </a:endParaRPr>
          </a:p>
        </p:txBody>
      </p:sp>
      <p:pic>
        <p:nvPicPr>
          <p:cNvPr id="183" name="Picture 5" descr="2-1"/>
          <p:cNvPicPr/>
          <p:nvPr/>
        </p:nvPicPr>
        <p:blipFill>
          <a:blip r:embed="rId1"/>
          <a:stretch/>
        </p:blipFill>
        <p:spPr>
          <a:xfrm>
            <a:off x="5537160" y="1773360"/>
            <a:ext cx="3606840" cy="4895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920" y="836640"/>
            <a:ext cx="86104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 Black"/>
              </a:rPr>
              <a:t>Психолого-педагогический мониторинг как адекватная форма идентификации признаков одаренности</a:t>
            </a:r>
            <a:br>
              <a:rPr sz="2000"/>
            </a:b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(основные требования)</a:t>
            </a:r>
            <a:endParaRPr b="0" lang="en-US" sz="20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08000" y="1989000"/>
            <a:ext cx="878508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комплексная оценка разных сторон поведения и деятельности ребенка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длительность процесса идентификации (развернутое во времени наблюдение за поведением данного ребенка в разных ситуациях) 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анализ поведения ребенка в интересующих его сферах деятельности, (включение ребенка в специально организованные предметно-игровые занятия, вовлечение его в различные формы соответствующей предметной деятельности и т.д.)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экспертная оценка продуктов деятельности детей (рисунков, стихотворений, технических моделей, и пр.) с привлечением экспертов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выявление признаков одаренности ребенка не только по отношению к актуальному уровню его психического развития, но и с учетом зоны ближайшего развития (в частности, в условиях обогащенной предметной и образовательной среды)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многократность и многоэтапность обследования с использованием множества психодиагностических процедур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использование в диагностическом обследовании метода проектов, предметных и профессиональных проб, анализа продуктов деятельности, наблюдения, беседы, экспертных оценок учителей и родителей  и т.д.)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анализ реальных достижений детей и подростков в различных олимпиадах, конференциях, соревнованиях, творческих конкурсах и т.п. </a:t>
            </a:r>
            <a:br>
              <a:rPr sz="1800"/>
            </a:b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При выявлении одаренных детей важно: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50920" y="2060640"/>
            <a:ext cx="856908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ри выявлении одаренных детей необходимо дифференцировать: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lnSpc>
                <a:spcPct val="110000"/>
              </a:lnSpc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актуальный уровень развития одаренности, достигнутый на данном возрастном этапе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lnSpc>
                <a:spcPct val="110000"/>
              </a:lnSpc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собенности конкретных проявлений одаренности, связанные с попытками ее реализации в различных видах деятельности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lnSpc>
                <a:spcPct val="110000"/>
              </a:lnSpc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отенциальные возможности ребенка к развитию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ыявление одаренных детей необходимо связывать с задачами их обучения и воспитания, а также с оказанием им психологической помощи и поддержки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549360"/>
            <a:ext cx="79246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Цели обучения одаренных детей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17440" y="2111400"/>
            <a:ext cx="8425080" cy="44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В качестве приоритетных целей обучения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детей с общей одаренностью могут быть выделены следующие: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5680">
              <a:lnSpc>
                <a:spcPct val="110000"/>
              </a:lnSpc>
              <a:spcBef>
                <a:spcPts val="751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широкая общеобразовательная подготовка высокого уровня, обеспечивающая высокий уровень компетентности в различных областях знания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5680">
              <a:lnSpc>
                <a:spcPct val="110000"/>
              </a:lnSpc>
              <a:spcBef>
                <a:spcPts val="751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развитие индивидуальности одаренного ребенка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5680">
              <a:lnSpc>
                <a:spcPct val="110000"/>
              </a:lnSpc>
              <a:spcBef>
                <a:spcPts val="751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развитие духовно-нравственных основ личности одаренного ребенка, высших духовных ценностей (важно не само по себе дарование, а то, какое применение оно будет иметь)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5680">
              <a:lnSpc>
                <a:spcPct val="110000"/>
              </a:lnSpc>
              <a:spcBef>
                <a:spcPts val="675"/>
              </a:spcBef>
              <a:buClr>
                <a:srgbClr val="3029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оздание условий для развития творческой личност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Трудности реализации одарённости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даренные дети и подростки не имеют достаточного опыта преодоления трудностей прежде всего в познавательной сфере, практически никогда не встречаясь с серьезными препятствиями во время обучения. Недостатки волевой регуляции встречаются у одаренных детей в подавляющем большинстве случаев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Развитие навыков саморегуляции – это первая  задача работы с одарёнными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Трудности реализации одарённости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даренные дети очень рано настраиваются на накопление и переработку знаний. Во многих случаях это просто непрерывное их поглощение. В силу этого и некоторых других причин одаренные дети испытывают большие трудности, когда им предлагается проявить нестандартный подход, найти оригинальное решение. По данным ряда психологов, высокий уровень интеллектуальных способностей у одаренных детей редко соответствует их творческим возможностям, что впоследствии приводит к трудностям профессиональной самореализации.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торая проблема особо одаренных – креативность.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Разведение смежных понятий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Способности</a:t>
            </a: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9c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 действия, то есть успешное овладение конкретной нормой деятельности и ее возможностью эффективно применять на практике.</a:t>
            </a:r>
            <a:endParaRPr b="0" lang="en-US" sz="28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алант </a:t>
            </a:r>
            <a:r>
              <a:rPr b="0" lang="ru-RU" sz="2800" spc="-1" strike="noStrike">
                <a:solidFill>
                  <a:srgbClr val="fff9c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ра измерения ценности (уникальности) возможностей человека для общества.</a:t>
            </a:r>
            <a:endParaRPr b="0" lang="en-US" sz="28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10d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10d1b"/>
                </a:solidFill>
                <a:latin typeface="Arial"/>
              </a:rPr>
              <a:t>Одаренность </a:t>
            </a:r>
            <a:r>
              <a:rPr b="0" lang="ru-RU" sz="2800" spc="-1" strike="noStrike">
                <a:solidFill>
                  <a:srgbClr val="fff9cf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владение даром</a:t>
            </a:r>
            <a:endParaRPr b="0" lang="en-US" sz="28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Трудности реализации одарённости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собо одаренные дети испытывают значительные трудности личностного развития, выражающиеся в проблемах общения со сверстниками.  Это нарушение чувства реальности, отсутствие социальной рефлексии и навыков поведения в реальных условиях школьного и общего социума. </a:t>
            </a: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Именно потому эти дети заметно чаще, чем все другие одаренные дети, находятся в условиях, неблагоприятных для их развития, в зоне воспитательного риска.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оциальные связи – это третья проблема одаренных.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Трудности реализации одарённости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собую проблему этих детей составляют трудности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рофессионального самоопределения -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пециализации способностей. </a:t>
            </a:r>
            <a:br>
              <a:rPr sz="1800"/>
            </a:b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Таким образом, в целом значительная часть этих учащихся испытывает значительные трудности в личностном и профессиональном становлении, которые являются преградой для процесса субъективно достаточной и объективно эффективной самоактуализации, что, в свою очередь, является источником ряда сложнейших личностных проблем и психосоматических заболеваний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Задача работы с одаренными детьми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Формирование и развитие  способности детей  к самоактуализации, к эффективной реализации их повышенных возможностей в будущем, в зрелой профессиональной деятельности.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Именно эта задача является центральной при работе с особо одаренными детьми. Все остальные задачи в той или иной мере из нее вытекают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680" y="748800"/>
            <a:ext cx="79250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Подходы к разработке содержания учебных программ для одаренных детей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79280" y="1913040"/>
            <a:ext cx="828036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3880">
              <a:spcBef>
                <a:spcPts val="1125"/>
              </a:spcBef>
              <a:buClr>
                <a:srgbClr val="302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2900"/>
                </a:solidFill>
                <a:latin typeface="Arial"/>
              </a:rPr>
              <a:t>Ускорение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. Как пример -  летние и зимние лагеря, творческие мастерские, мастер-классы, предполагающие интенсивные курсы обучения по дифференцированным программам для детей с разными видами одаренности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302900"/>
                </a:solidFill>
                <a:latin typeface="Arial"/>
              </a:rPr>
              <a:t>Углубление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. Как пример -  школы с углубленным изучением математики, физики и иностранных языков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302900"/>
                </a:solidFill>
                <a:latin typeface="Arial"/>
              </a:rPr>
              <a:t>Обогащение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, предполагает  обучение с выходом за рамки изучения традиционных тем за счет установления связей с другими темами или дисциплинами; обучение детей разнообразным приемам умственной работы, способствует формированию инициативы, самоконтроля, критичности и т.д. Как пример -  погружение учащихся в исследовательские проекты, использование специальных тренингов, варианты инновационного обучения.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302900"/>
                </a:solidFill>
                <a:latin typeface="Arial"/>
              </a:rPr>
              <a:t>Проблематизация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, предполагает стимулирование личностного развития учащихся посредством использования оригинальных объяснений, пересмотра имеющихся  сведений, поиска новых смыслов и пр.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202" name="Picture 9" descr=""/>
          <p:cNvPicPr/>
          <p:nvPr/>
        </p:nvPicPr>
        <p:blipFill>
          <a:blip r:embed="rId1"/>
          <a:stretch/>
        </p:blipFill>
        <p:spPr>
          <a:xfrm>
            <a:off x="7920000" y="1989000"/>
            <a:ext cx="1224000" cy="1511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89"/>
          <p:cNvPicPr/>
          <p:nvPr/>
        </p:nvPicPr>
        <p:blipFill>
          <a:blip r:embed="rId2"/>
          <a:stretch/>
        </p:blipFill>
        <p:spPr>
          <a:xfrm>
            <a:off x="7885080" y="4365720"/>
            <a:ext cx="125892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560" y="74880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Методы и средства 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обучения одаренных детей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79280" y="2421000"/>
            <a:ext cx="8820360" cy="36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едущими и основными являются методы творческого характера — проблемные, поисковые, исследовательские, проектные - в сочетании </a:t>
            </a: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 методами самостоятельной, индивидуальной и групповой работы. </a:t>
            </a: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Эти методы имеют высокий познавательно-мотивирующий потенциал </a:t>
            </a: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и соответствуют уровню познавательной активности и интересов одаренных учащихся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роцесс обучения одаренных детей должен предусматривать наличие и свободное использование разнообразных источников и способов получения информации, в том числе через компьютерные сети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680" y="549360"/>
            <a:ext cx="792504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Формы обучения одаренных детей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324000" y="2349360"/>
            <a:ext cx="8496000" cy="39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истема дошкольных образовательных учреждений, в первую очередь, детские сады общеразвивающего вида, Центры развития ребенка, в которых созданы наиболее благоприятные условия для формирования способностей дошкольников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истема общеобразовательных школ, в рамках которых создаются условия для индивидуализации обучения одаренных детей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истема дополнительного образования, предназначенная для удовлетворения социокультурных и образовательных потребностей одаренных детей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истема школ, ориентированных на работу с одаренными детьми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642960"/>
            <a:ext cx="83502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Обучение детей в условиях общеобразовательной школы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08000" y="1787400"/>
            <a:ext cx="8712000" cy="50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3880">
              <a:spcBef>
                <a:spcPts val="499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дифференциация и индивидуализация обучения (с помощью выделения групп учащихся в зависимости от вида их одаренности, организации индивидуального учебного плана, обучения по индивидуальным программам по отдельным учебным предметам и т.д.)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499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привлечение наставника (тьютора); тьютором может быть высококвалифицированный специалист (ученый, художник, шахматист и т.п.), готовый взять на себя индивидуальную работу с конкретным одаренным ребенком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499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факультативные занятия, организация малых групп — в большей степени, чем работа в классе, позволяют реализовать дифференциацию обучения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499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сеть творческих объединений позволяет реализовать совместную исследовательскую деятельность педагогов и учащихся; одаренные учащиеся могут привлекаться к совместной работе с педагогами и одновременно являться руководителями классных исследовательских секций по данному предмету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499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дифференциация параллелей; в школе предусматривается несколько классов внутри параллелей для детей с разным   видом способностей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499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попеременное обучение, предполагает группировку детей разных возрастов не на все учебное время, а только на его часть, что дает одаренным детям возможность общения со сверстниками, равными себе в академическом отношении детей, и соответствующее содержание образования.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560" y="74880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Обучение детей в системе дополнительного образования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50920" y="2077920"/>
            <a:ext cx="878508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 системе дополнительного образования могут быть выделены следующие формы обучения одаренных детей: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индивидуальное обучение или обучение в малых группах по программам творческого развития в определенной области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работа по исследовательским и творческим проектам в режиме наставничества (в качестве наставника выступают, как правило, ученый, деятель науки или культуры, специалист высокого класса)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чно-заочные школы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каникулярные сборы, лагеря, мастер-классы, творческие лаборатории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истема творческих конкурсов, фестивалей, олимпиад;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indent="353880">
              <a:spcBef>
                <a:spcPts val="1250"/>
              </a:spcBef>
              <a:buClr>
                <a:srgbClr val="302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детские научно-практические конференции и семинары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Становление субъектности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4830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02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Создание новых реалий </a:t>
            </a:r>
            <a:endParaRPr b="0" lang="en-US" sz="18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деятельности и способов действия 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02900"/>
                </a:solidFill>
                <a:latin typeface="Arial"/>
              </a:rPr>
              <a:t>(«Я реализую себя в деятельности 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02900"/>
                </a:solidFill>
                <a:latin typeface="Arial"/>
              </a:rPr>
              <a:t>для других») 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02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Осознание культурных и личностных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смыслов собственной деятельности 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02900"/>
                </a:solidFill>
                <a:latin typeface="Arial"/>
              </a:rPr>
              <a:t>(«Я понимаю зачем я действую»)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02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Способность задавать цель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деятельности и регламентировать 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норму действия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302900"/>
                </a:solidFill>
                <a:latin typeface="Arial"/>
              </a:rPr>
              <a:t>(«Я действую сам»)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02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Самостоятельное владение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нормой действия </a:t>
            </a:r>
            <a:r>
              <a:rPr b="1" i="1" lang="ru-RU" sz="1600" spc="-1" strike="noStrike">
                <a:solidFill>
                  <a:srgbClr val="302900"/>
                </a:solidFill>
                <a:latin typeface="Arial"/>
              </a:rPr>
              <a:t>(«Я могу сам»)</a:t>
            </a: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02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Потребность в самостоятельности 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действий </a:t>
            </a:r>
            <a:r>
              <a:rPr b="1" i="1" lang="ru-RU" sz="1600" spc="-1" strike="noStrike">
                <a:solidFill>
                  <a:srgbClr val="302900"/>
                </a:solidFill>
                <a:latin typeface="Arial"/>
              </a:rPr>
              <a:t>(«Я хочу сам»)</a:t>
            </a: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9cf"/>
              </a:solidFill>
              <a:latin typeface="Arial"/>
            </a:endParaRPr>
          </a:p>
        </p:txBody>
      </p:sp>
      <p:pic>
        <p:nvPicPr>
          <p:cNvPr id="214" name="Picture 4" descr="IMG_9075"/>
          <p:cNvPicPr/>
          <p:nvPr/>
        </p:nvPicPr>
        <p:blipFill>
          <a:blip r:embed="rId1"/>
          <a:stretch/>
        </p:blipFill>
        <p:spPr>
          <a:xfrm>
            <a:off x="5435640" y="1773360"/>
            <a:ext cx="3708360" cy="5084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64"/>
          <p:cNvSpPr/>
          <p:nvPr/>
        </p:nvSpPr>
        <p:spPr>
          <a:xfrm>
            <a:off x="-25560" y="2901960"/>
            <a:ext cx="914400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6" name="Rectangle 463"/>
          <p:cNvSpPr/>
          <p:nvPr/>
        </p:nvSpPr>
        <p:spPr>
          <a:xfrm>
            <a:off x="-14400" y="5932440"/>
            <a:ext cx="9144000" cy="83196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7" name="Rectangle 462"/>
          <p:cNvSpPr/>
          <p:nvPr/>
        </p:nvSpPr>
        <p:spPr>
          <a:xfrm>
            <a:off x="-25560" y="4016520"/>
            <a:ext cx="9144000" cy="64764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466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Развитие одаренности на основе исследовательской деятельности</a:t>
            </a: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302900"/>
                </a:solidFill>
                <a:latin typeface="Arial Black"/>
              </a:rPr>
              <a:t>1. Биологические предпосылки</a:t>
            </a:r>
            <a:r>
              <a:rPr b="0" lang="ru-RU" sz="1800" spc="-1" strike="noStrike">
                <a:solidFill>
                  <a:srgbClr val="302900"/>
                </a:solidFill>
                <a:latin typeface="Arial Black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302900"/>
                </a:solidFill>
                <a:latin typeface="Arial Black"/>
              </a:rPr>
              <a:t>2. Условия развития</a:t>
            </a:r>
            <a:r>
              <a:rPr b="0" lang="ru-RU" sz="1800" spc="-1" strike="noStrike">
                <a:solidFill>
                  <a:srgbClr val="302900"/>
                </a:solidFill>
                <a:latin typeface="Arial Black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302900"/>
                </a:solidFill>
                <a:latin typeface="Arial Black"/>
              </a:rPr>
              <a:t>3. Внутренняя позиция</a:t>
            </a:r>
            <a:endParaRPr b="0" lang="en-US" sz="18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0" y="2637000"/>
            <a:ext cx="52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20" name="Rectangle 29"/>
          <p:cNvSpPr/>
          <p:nvPr/>
        </p:nvSpPr>
        <p:spPr>
          <a:xfrm>
            <a:off x="1446120" y="2198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221" name="Picture 4" descr="28"/>
          <p:cNvPicPr/>
          <p:nvPr/>
        </p:nvPicPr>
        <p:blipFill>
          <a:blip r:embed="rId1"/>
          <a:stretch/>
        </p:blipFill>
        <p:spPr>
          <a:xfrm>
            <a:off x="468360" y="3860640"/>
            <a:ext cx="813600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16000" y="5805360"/>
          <a:ext cx="8712000" cy="951120"/>
        </p:xfrm>
        <a:graphic>
          <a:graphicData uri="http://schemas.openxmlformats.org/drawingml/2006/table">
            <a:tbl>
              <a:tblPr/>
              <a:tblGrid>
                <a:gridCol w="3259080"/>
                <a:gridCol w="2502000"/>
                <a:gridCol w="2950920"/>
              </a:tblGrid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2900"/>
                          </a:solidFill>
                          <a:latin typeface="Arial"/>
                        </a:rPr>
                        <a:t>1. Учение 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02900"/>
                          </a:solidFill>
                          <a:latin typeface="Arial"/>
                        </a:rPr>
                        <a:t>(освоение культурных образцов, существующих знаний, концептуальных позиций)</a:t>
                      </a:r>
                      <a:endParaRPr b="0" lang="en-US" sz="12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2900"/>
                          </a:solidFill>
                          <a:latin typeface="Arial"/>
                        </a:rPr>
                        <a:t>2. Практика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02900"/>
                          </a:solidFill>
                          <a:latin typeface="Arial"/>
                        </a:rPr>
                        <a:t>(приобретение навыков, способов деятельности)</a:t>
                      </a:r>
                      <a:endParaRPr b="0" lang="en-US" sz="12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576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02900"/>
                          </a:solidFill>
                          <a:latin typeface="Arial"/>
                        </a:rPr>
                        <a:t>3. Исследование</a:t>
                      </a:r>
                      <a:endParaRPr b="0" lang="en-US" sz="18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02900"/>
                          </a:solidFill>
                          <a:latin typeface="Arial"/>
                        </a:rPr>
                        <a:t>(выход на субъектную позиция по отношению к действительности)</a:t>
                      </a:r>
                      <a:endParaRPr b="0" lang="en-US" sz="1200" spc="-1" strike="noStrike">
                        <a:solidFill>
                          <a:srgbClr val="cc99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00"/>
                      </a:solidFill>
                    </a:lnL>
                    <a:lnR w="13680">
                      <a:solidFill>
                        <a:srgbClr val="cc9900"/>
                      </a:solidFill>
                    </a:lnR>
                    <a:lnT w="13680">
                      <a:solidFill>
                        <a:srgbClr val="cc9900"/>
                      </a:solidFill>
                    </a:lnT>
                    <a:lnB w="13680">
                      <a:solidFill>
                        <a:srgbClr val="cc99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-14400" y="160488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560" y="764640"/>
            <a:ext cx="79246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Рабочая концепция одаренности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9280" y="1538280"/>
            <a:ext cx="8785440" cy="50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2900"/>
                </a:solidFill>
                <a:latin typeface="Arial"/>
              </a:rPr>
              <a:t>Концепция отражает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 общую позицию ведущих отечественных специалистов в области психологии одаренности: представителей Российского психологического общества, Института психологии РАН, Психологического института РАО, факультета психологии МГУ: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канд. психол. наук Ю.Д. Бабаева, докт. психол. наук, проф. Д.Б. Богоявленская, докт. психол. наук, член-корр. РАН, проф.А.В. Брушлинский, докт. психол. наук, </a:t>
            </a:r>
            <a:br>
              <a:rPr sz="1600"/>
            </a:b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проф. И.И. Ильясов, докт. психол. наук, проф. К.Н. Дружинин, канд. пед. наук, </a:t>
            </a:r>
            <a:br>
              <a:rPr sz="1600"/>
            </a:br>
            <a:r>
              <a:rPr b="0" lang="ru-RU" sz="1600" spc="-1" strike="noStrike">
                <a:solidFill>
                  <a:srgbClr val="302900"/>
                </a:solidFill>
                <a:latin typeface="Arial"/>
              </a:rPr>
              <a:t>доц. И.В. Калиш, докт. психол. наук, проф. Н.С. Лейтес, докт. психол. наук, действ, член РАО, проф. А.М. Матюшкин, докт. психол. наук А.А. Мелик-Пашаев, докт. психол. наук, член-корр. РАО, проф. В.И. Панов, канд. психол. наукД.В. Ушаков, докт. психол. наук, проф. М.А. Холодная, докт. психол. наук, действ, член РАО, проф. В.Д. Шадриков, канд. психол. наук Н.Б. Шумакова, канд. психол. наук B.C. Юркевич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2900"/>
                </a:solidFill>
                <a:latin typeface="Arial"/>
              </a:rPr>
              <a:t>В концепции дано</a:t>
            </a: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 определение одаренности, обозначены ее виды,  пути идентификации и т. д., что является серьезным теоретическим и методическим основанием для практической работы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-36360" y="5587920"/>
            <a:ext cx="62532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680" y="1125360"/>
            <a:ext cx="792504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 Black"/>
              </a:rPr>
              <a:t>Учет возрастных особенностей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Arial Black"/>
              </a:rPr>
              <a:t>развития исследовательской деятельности</a:t>
            </a:r>
            <a:endParaRPr b="0" lang="en-US" sz="28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79280" y="2421000"/>
            <a:ext cx="71294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2900"/>
                </a:solidFill>
                <a:latin typeface="Arial"/>
              </a:rPr>
              <a:t>Психологические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(психологический потенциал,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возрастная норма,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природа деятельностного развития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2900"/>
                </a:solidFill>
                <a:latin typeface="Arial"/>
              </a:rPr>
              <a:t>Социальные</a:t>
            </a: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 (ступень образования, требования среды, нормы деятельности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2900"/>
                </a:solidFill>
                <a:latin typeface="Arial"/>
              </a:rPr>
              <a:t>Индивидуальные </a:t>
            </a: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(задатки,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способности,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опыт деятельности,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02900"/>
                </a:solidFill>
                <a:latin typeface="Arial"/>
              </a:rPr>
              <a:t>внутренняя позиция)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pic>
        <p:nvPicPr>
          <p:cNvPr id="225" name="Picture 11" descr="IMG_5716"/>
          <p:cNvPicPr/>
          <p:nvPr/>
        </p:nvPicPr>
        <p:blipFill>
          <a:blip r:embed="rId1"/>
          <a:stretch/>
        </p:blipFill>
        <p:spPr>
          <a:xfrm>
            <a:off x="6227640" y="1773360"/>
            <a:ext cx="2916360" cy="4968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Специфические функции исследовательской деятельности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(</a:t>
            </a:r>
            <a:r>
              <a:rPr b="0" lang="ru-RU" sz="2000" spc="-1" strike="noStrike">
                <a:solidFill>
                  <a:srgbClr val="0070c0"/>
                </a:solidFill>
                <a:latin typeface="Arial Black"/>
              </a:rPr>
              <a:t>в зависимости от ступени образования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в дошкольном образовании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– сохранение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и поддержание исследовательской активности,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одействие становлению  исследовательских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пособностей как составляющей развития личности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«Я хочу сам»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pic>
        <p:nvPicPr>
          <p:cNvPr id="228" name="Picture 2" descr="G:\компьютер\семинары\2011-02-26-28-Калининград\предшкольная группа школы №1 п. Большое Исаково.JPG"/>
          <p:cNvPicPr/>
          <p:nvPr/>
        </p:nvPicPr>
        <p:blipFill>
          <a:blip r:embed="rId1"/>
          <a:stretch/>
        </p:blipFill>
        <p:spPr>
          <a:xfrm>
            <a:off x="6372360" y="2349360"/>
            <a:ext cx="2771640" cy="4175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Специфические функции исследовательской деятельности </a:t>
            </a:r>
            <a:br>
              <a:rPr sz="2400"/>
            </a:br>
            <a:r>
              <a:rPr b="0" lang="ru-RU" sz="2000" spc="-1" strike="noStrike">
                <a:solidFill>
                  <a:srgbClr val="0070c0"/>
                </a:solidFill>
                <a:latin typeface="Arial Black"/>
              </a:rPr>
              <a:t>(в зависимости от ступени образования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9280" y="2209680"/>
            <a:ext cx="83534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в начальной школе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– содействие проявлению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исследовательского поведения учащихся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как средству развития познавательного интереса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и становления мотивации к учебной деятельности,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развитие исследовательских способностей в контексте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родуктивных видов деятельности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«Я могу сам»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pic>
        <p:nvPicPr>
          <p:cNvPr id="231" name="Picture 6" descr="Я-исследователь-Сочи 099"/>
          <p:cNvPicPr/>
          <p:nvPr/>
        </p:nvPicPr>
        <p:blipFill>
          <a:blip r:embed="rId1"/>
          <a:stretch/>
        </p:blipFill>
        <p:spPr>
          <a:xfrm>
            <a:off x="7512120" y="1197000"/>
            <a:ext cx="1631880" cy="2448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G:\компьютер\Исследователь-Researcher\Исследователь-2010-3-4\ИR-2010-3-4-дополнения\107.JPG"/>
          <p:cNvPicPr/>
          <p:nvPr/>
        </p:nvPicPr>
        <p:blipFill>
          <a:blip r:embed="rId2"/>
          <a:stretch/>
        </p:blipFill>
        <p:spPr>
          <a:xfrm>
            <a:off x="7050240" y="3716280"/>
            <a:ext cx="2093760" cy="3141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Я-исследователь-Сочи 092"/>
          <p:cNvPicPr/>
          <p:nvPr/>
        </p:nvPicPr>
        <p:blipFill>
          <a:blip r:embed="rId3"/>
          <a:stretch/>
        </p:blipFill>
        <p:spPr>
          <a:xfrm>
            <a:off x="5435640" y="4581360"/>
            <a:ext cx="1517760" cy="2276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Специфические функции исследовательской деятельности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(</a:t>
            </a:r>
            <a:r>
              <a:rPr b="0" lang="ru-RU" sz="2000" spc="-1" strike="noStrike">
                <a:solidFill>
                  <a:srgbClr val="0070c0"/>
                </a:solidFill>
                <a:latin typeface="Arial Black"/>
              </a:rPr>
              <a:t>в зависимости от ступени образования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в основной школе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– развитие дидактического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и методического обеспечения учебной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деятельности средствами реализации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исследовательских проектов как способа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обновления содержания образования;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охранение учебной мотивации,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развитие самостоятельной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ознавательной активности;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«Я действую сам»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pic>
        <p:nvPicPr>
          <p:cNvPr id="236" name="Picture 7" descr="Крым-2009 303"/>
          <p:cNvPicPr/>
          <p:nvPr/>
        </p:nvPicPr>
        <p:blipFill>
          <a:blip r:embed="rId1"/>
          <a:stretch/>
        </p:blipFill>
        <p:spPr>
          <a:xfrm>
            <a:off x="6227640" y="1916280"/>
            <a:ext cx="1297080" cy="1873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Крым-2009 109"/>
          <p:cNvPicPr/>
          <p:nvPr/>
        </p:nvPicPr>
        <p:blipFill>
          <a:blip r:embed="rId2"/>
          <a:stretch/>
        </p:blipFill>
        <p:spPr>
          <a:xfrm>
            <a:off x="7380360" y="1484280"/>
            <a:ext cx="1566720" cy="2349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Крым-2009 447"/>
          <p:cNvPicPr/>
          <p:nvPr/>
        </p:nvPicPr>
        <p:blipFill>
          <a:blip r:embed="rId3"/>
          <a:stretch/>
        </p:blipFill>
        <p:spPr>
          <a:xfrm>
            <a:off x="5292720" y="4365720"/>
            <a:ext cx="1420920" cy="2303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109"/>
          <p:cNvPicPr/>
          <p:nvPr/>
        </p:nvPicPr>
        <p:blipFill>
          <a:blip r:embed="rId4"/>
          <a:stretch/>
        </p:blipFill>
        <p:spPr>
          <a:xfrm>
            <a:off x="6913440" y="3976560"/>
            <a:ext cx="2230560" cy="2881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8920" y="867960"/>
            <a:ext cx="82789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Специфические функции исследовательской деятельности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(</a:t>
            </a:r>
            <a:r>
              <a:rPr b="0" lang="ru-RU" sz="2000" spc="-1" strike="noStrike">
                <a:solidFill>
                  <a:srgbClr val="0070c0"/>
                </a:solidFill>
                <a:latin typeface="Arial Black"/>
              </a:rPr>
              <a:t>в зависимости от ступени образования</a:t>
            </a: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На этапе  профессионализации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овышение культуры профессиональной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деятельности путем развития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аналитических и прогностических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пособностей обучающихся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редствами исследования;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тановление исследовательских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компетенций как центральной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оставляющей профессионализма;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«Я реализую себя в деятельности для других»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</p:txBody>
      </p:sp>
      <p:pic>
        <p:nvPicPr>
          <p:cNvPr id="242" name="Picture 10" descr="IMG_1921"/>
          <p:cNvPicPr/>
          <p:nvPr/>
        </p:nvPicPr>
        <p:blipFill>
          <a:blip r:embed="rId1"/>
          <a:stretch/>
        </p:blipFill>
        <p:spPr>
          <a:xfrm>
            <a:off x="7308720" y="1341360"/>
            <a:ext cx="1835280" cy="2374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13"/>
          <p:cNvPicPr/>
          <p:nvPr/>
        </p:nvPicPr>
        <p:blipFill>
          <a:blip r:embed="rId2"/>
          <a:stretch/>
        </p:blipFill>
        <p:spPr>
          <a:xfrm>
            <a:off x="5364000" y="2781360"/>
            <a:ext cx="2376720" cy="2735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1" descr="IMG_1932"/>
          <p:cNvPicPr/>
          <p:nvPr/>
        </p:nvPicPr>
        <p:blipFill>
          <a:blip r:embed="rId3"/>
          <a:stretch/>
        </p:blipFill>
        <p:spPr>
          <a:xfrm>
            <a:off x="7365960" y="4192560"/>
            <a:ext cx="177804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8920" y="867960"/>
            <a:ext cx="82789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Психолого-педагогическое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Arial Black"/>
              </a:rPr>
              <a:t> сопровождение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Эффективность взращивания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культуры определяется: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семенами </a:t>
            </a:r>
            <a:r>
              <a:rPr b="0" i="1" lang="ru-RU" sz="2000" spc="-1" strike="noStrike">
                <a:solidFill>
                  <a:srgbClr val="302900"/>
                </a:solidFill>
                <a:latin typeface="Arial"/>
              </a:rPr>
              <a:t>(задатками),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почвой и средовыми условиями </a:t>
            </a:r>
            <a:r>
              <a:rPr b="0" i="1" lang="ru-RU" sz="2000" spc="-1" strike="noStrike">
                <a:solidFill>
                  <a:srgbClr val="302900"/>
                </a:solidFill>
                <a:latin typeface="Arial"/>
              </a:rPr>
              <a:t>(семьей, культурным пространство развития, специальными образовательными программами и средствами развития),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0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2900"/>
                </a:solidFill>
                <a:latin typeface="Arial"/>
              </a:rPr>
              <a:t>индивидуальным потенциалом </a:t>
            </a:r>
            <a:r>
              <a:rPr b="0" i="1" lang="ru-RU" sz="2000" spc="-1" strike="noStrike">
                <a:solidFill>
                  <a:srgbClr val="302900"/>
                </a:solidFill>
                <a:latin typeface="Arial"/>
              </a:rPr>
              <a:t>(внутренней позицией)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Для разных семян требуются разная почва и различное соотношение ряда параметров условий среды для оптимального роста и развити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9cf"/>
              </a:solidFill>
              <a:latin typeface="Arial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9cf"/>
              </a:solidFill>
              <a:latin typeface="Arial"/>
            </a:endParaRPr>
          </a:p>
        </p:txBody>
      </p:sp>
      <p:pic>
        <p:nvPicPr>
          <p:cNvPr id="247" name="Picture 6" descr="Леонтович-31"/>
          <p:cNvPicPr/>
          <p:nvPr/>
        </p:nvPicPr>
        <p:blipFill>
          <a:blip r:embed="rId1"/>
          <a:stretch/>
        </p:blipFill>
        <p:spPr>
          <a:xfrm>
            <a:off x="6950160" y="476280"/>
            <a:ext cx="2193840" cy="2881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2560" y="642960"/>
            <a:ext cx="79246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Что такое одаренность?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79280" y="1557360"/>
            <a:ext cx="8856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Одаренность трактуется как системное качество,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характеризующее психику ребенка в целом и определяющее возможность достижения человеком более высоких, незаурядных результатов в одном или нескольких видах деятельности по сравнению с другими людьми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При этом именно личность, ее направленность, активность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, система ценностей определяют и то, как будет реализовано индивидуальное дарование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Одаренный ребенок — это ребенок, который выделяется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яркими, очевидными, иногда выдающимися достижениями (или имеет внутренние предпосылки для таких достижений) в том или ином виде деятельности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-14400" y="166680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-36360" y="3645000"/>
            <a:ext cx="62532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-36360" y="4897440"/>
            <a:ext cx="62532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2960" y="549360"/>
            <a:ext cx="79246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Точки зрения на одаренность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90440" y="1773360"/>
            <a:ext cx="871236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Существуют две крайние точки зрения: «все дети являются одаренными» — «одаренные дети встречаются крайне редко»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торонники одной из них полагают, что до уровня одаренного можно развить практически любого здорового ребенка при условии создания благоприятных условий. Для других одаренность — уникальное явление, в этом случае основное внимание уделяется поиску одаренных детей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По мнению авторов концепции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потенциальные предпосылки к достижениям в разных видах деятельности присущи многим детям, тогда как реальные незаурядные результаты демонстрирует значительно меньшая часть детей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-14400" y="188280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-36360" y="2779560"/>
            <a:ext cx="62532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-36360" y="4738680"/>
            <a:ext cx="62532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71388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Как проявляется  одаренность?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98360" y="1628640"/>
            <a:ext cx="8945640" cy="54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Судить об одаренности ребенка следует не только по его школьным или внешкольным делам, но по инициированным им самим формам деятельности. </a:t>
            </a: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    Причиной, задерживающей становление и проявление одаренности, могут быть  те или иные трудности развития ребенка: например, заикание, повышенная тревожность, конфликтный характер общения </a:t>
            </a: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и т.п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 качестве одной из причин отсутствия проявлений того или иного вида одаренности может быть недостаток необходимых знаний, умений и навыков, а также недоступность (в силу условий жизни) предметной области деятельности, соответствующей дарованию ребенка.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Важно делать «допуск» на недостаточное знание об истинных возможностях ребенка, понимая, что существуют дети, чью одаренность пока не смогли увидеть. </a:t>
            </a:r>
            <a:br>
              <a:rPr sz="2000"/>
            </a:b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-14400" y="171144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-14400" y="272880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-14400" y="421488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-14400" y="570384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800" y="549360"/>
            <a:ext cx="83502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Специфика одаренности в детском возрасте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81080" y="1547640"/>
            <a:ext cx="8928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Детская одаренность часто выступает как проявление закономерностей возрастного развития. Например, дошкольники характеризуются особой предрасположенностью к усвоению языков; для подростков характерными являются различные формы поэтического и литературного творчества и т.п.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Под влиянием смены возраста, образования, типа семейного воспитания и т.д. может происходить «угасание» признаков детской одаренности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Формирование одаренности связано с неравномерностью психического развития. Так, высокий уровень специальных способностей может сочетаться с недостаточным развитием общего интеллекта и т.д. В итоге по одним признакам ребенок может идентифицироваться как одаренный, по другим — как отстающий в психическом развитии.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2900"/>
                </a:solidFill>
                <a:latin typeface="Arial"/>
              </a:rPr>
              <a:t>Проявления детской одаренности зачастую трудно отличить от обученности (или шире — степени социализации), являющейся результатом более благоприятных условий жизни данного ребенка.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02900"/>
                </a:solidFill>
                <a:latin typeface="Arial"/>
              </a:rPr>
              <a:t>Оценка конкретного ребенка как одаренного в значительной мере условна. </a:t>
            </a: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-14400" y="160488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-14400" y="283356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-14400" y="502596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-14400" y="5983200"/>
            <a:ext cx="625680" cy="2890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560" y="764640"/>
            <a:ext cx="79246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 Black"/>
              </a:rPr>
              <a:t>Поведенческие признаки одаренности </a:t>
            </a:r>
            <a:endParaRPr b="0" lang="en-US" sz="2400" spc="-1" strike="noStrike">
              <a:solidFill>
                <a:srgbClr val="fff9cf"/>
              </a:solidFill>
              <a:latin typeface="Arial Black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01600" y="1792440"/>
            <a:ext cx="8640720" cy="31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Признаки одаренности проявляются в реальной деятельности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ребенка и связаны с высоким уровнем выполнения деятельности. Вместе с тем об одаренности ребенка следует судить в единстве категорий «могу» и «хочу» (инструментальный и мотивационный аспекты поведения)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Инструментальный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 характеризует способы его деятельности, </a:t>
            </a:r>
            <a:br>
              <a:rPr sz="2000"/>
            </a:b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а </a:t>
            </a:r>
            <a:r>
              <a:rPr b="1" lang="ru-RU" sz="2000" spc="-1" strike="noStrike">
                <a:solidFill>
                  <a:srgbClr val="302900"/>
                </a:solidFill>
                <a:latin typeface="Arial"/>
              </a:rPr>
              <a:t>мотивационный </a:t>
            </a:r>
            <a:r>
              <a:rPr b="0" lang="ru-RU" sz="2000" spc="-1" strike="noStrike">
                <a:solidFill>
                  <a:srgbClr val="302900"/>
                </a:solidFill>
                <a:latin typeface="Arial"/>
              </a:rPr>
              <a:t>— отношение ребенка к той или иной стороне действительности, а также к своей деятельности.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-14400" y="1916280"/>
            <a:ext cx="62568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3857760"/>
            <a:ext cx="625320" cy="28872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13:23:47Z</dcterms:created>
  <dc:creator>intel51</dc:creator>
  <dc:description/>
  <cp:keywords/>
  <dc:language>en-US</dc:language>
  <cp:lastModifiedBy>User</cp:lastModifiedBy>
  <dcterms:modified xsi:type="dcterms:W3CDTF">2013-04-19T18:02:45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51049</vt:lpwstr>
  </property>
</Properties>
</file>