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3686175" cy="2613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F3B-B044-4ADA-9ACC-C90AC9D5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76F-BA9D-4D62-8421-79E1B4C8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4A8-94CB-4993-B52D-8B15294D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1240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1896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584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11240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211896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863-0E09-467D-A84C-6C0F1BD7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C322-DB33-4691-8E74-069C05E8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6F5C-EEB9-42FD-8648-47820241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4273-17EC-4F14-BA82-C24C8AD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39F8-6C19-4ADE-9801-01A04EA8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99E2-43D0-4F19-ACED-7FB67754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8920" y="87480"/>
            <a:ext cx="30132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B3AB-315E-423E-838E-5A353A8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7A8-EC22-474A-8053-7C05368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8FD-3EB7-464F-8CB5-0D5EADB0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0634-9C33-491C-8EB6-719B317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1EC-CAA5-48D8-AB21-86E4169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7FB8-A4E5-4D67-B5DA-F22EA87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457-496B-4426-9A96-543778D7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1240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1896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584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111240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211896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1B80-709C-48D5-848F-3F363ACA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1DC-91E1-4141-BFFE-DD032678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4D0-B57F-4B89-85BD-F1E9BD1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423-1A11-4882-833D-EDA8DF7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8920" y="87480"/>
            <a:ext cx="30132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2DF-3F19-4821-9A5D-B039DF7A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146-5E0B-43FD-B95D-0AC101E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84B-2F0F-4675-992E-19B65E7C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9BB-D6EF-445E-BB52-8A60CC9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691080" cy="2619000"/>
            <a:chOff x="0" y="0"/>
            <a:chExt cx="3691080" cy="2619000"/>
          </a:xfrm>
        </p:grpSpPr>
        <p:sp>
          <p:nvSpPr>
            <p:cNvPr id="1" name=""/>
            <p:cNvSpPr/>
            <p:nvPr/>
          </p:nvSpPr>
          <p:spPr>
            <a:xfrm>
              <a:off x="0" y="2533320"/>
              <a:ext cx="3255480" cy="856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325548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05080" y="0"/>
              <a:ext cx="484560" cy="261468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3162600" y="360"/>
              <a:ext cx="521280" cy="2404800"/>
              <a:chOff x="3162600" y="360"/>
              <a:chExt cx="521280" cy="24048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3377160" y="360"/>
                <a:ext cx="306720" cy="865080"/>
                <a:chOff x="3377160" y="360"/>
                <a:chExt cx="306720" cy="865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3506760" y="360"/>
                  <a:ext cx="112320" cy="105120"/>
                  <a:chOff x="3506760" y="360"/>
                  <a:chExt cx="112320" cy="10512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3506760" y="360"/>
                    <a:ext cx="112320" cy="105120"/>
                    <a:chOff x="3506760" y="360"/>
                    <a:chExt cx="112320" cy="10512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3524400" y="-17280"/>
                      <a:ext cx="7668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3528000" y="33120"/>
                      <a:ext cx="53640" cy="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3555360" y="48600"/>
                    <a:ext cx="10440" cy="108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3528000" y="27360"/>
                    <a:ext cx="165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3557880" y="23040"/>
                    <a:ext cx="241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3584880" y="41760"/>
                    <a:ext cx="9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3555360" y="72360"/>
                    <a:ext cx="24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3534480" y="6264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7716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508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68960" y="203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38360" y="3484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65080" y="319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9920" y="464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6508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65080" y="7549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3162600" y="609840"/>
                <a:ext cx="333360" cy="1795320"/>
                <a:chOff x="3162600" y="609840"/>
                <a:chExt cx="333360" cy="179532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8500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15960" y="725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285000" y="958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77160" y="1045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223800" y="1103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254400" y="1219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77160" y="1248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346560" y="14230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193200" y="13359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193200" y="1481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85000" y="15685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346560" y="842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62600" y="1655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193200" y="1859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346560" y="20041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193200" y="2062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254400" y="21495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3200" y="2294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315960" y="2236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3205080" y="1871280"/>
              <a:ext cx="479520" cy="7394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99320" y="1851840"/>
              <a:ext cx="491040" cy="7624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94640" y="1074240"/>
              <a:ext cx="496440" cy="15390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27760" y="1348920"/>
              <a:ext cx="394560" cy="83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2080" y="162720"/>
              <a:ext cx="368280" cy="192456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24600" y="99720"/>
              <a:ext cx="366480" cy="1171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1120" y="0"/>
              <a:ext cx="232200" cy="12780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1120" y="360"/>
              <a:ext cx="120960" cy="12783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9800" y="360"/>
              <a:ext cx="35640" cy="26146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6880" y="2374920"/>
              <a:ext cx="469440" cy="2358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1816560" y="1261800"/>
              <a:ext cx="2614680" cy="90720"/>
            </a:xfrm>
            <a:custGeom>
              <a:avLst/>
              <a:gdLst>
                <a:gd name="textAreaLeft" fmla="*/ 252360 w 2614680"/>
                <a:gd name="textAreaRight" fmla="*/ 2362320 w 2614680"/>
                <a:gd name="textAreaTop" fmla="*/ 8640 h 90720"/>
                <a:gd name="textAreaBottom" fmla="*/ 8208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 vert="eaVert" rot="10800000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-135000">
              <a:spcBef>
                <a:spcPts val="326"/>
              </a:spcBef>
              <a:buSzPct val="102708"/>
              <a:buBlip>
                <a:blip r:embed="rId31"/>
              </a:buBlip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1" marL="291960" indent="-112680">
              <a:spcBef>
                <a:spcPts val="326"/>
              </a:spcBef>
              <a:buSzPct val="100000"/>
              <a:buBlip>
                <a:blip r:embed="rId32"/>
              </a:buBlip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2" marL="449280" indent="-88920">
              <a:spcBef>
                <a:spcPts val="326"/>
              </a:spcBef>
              <a:buSzPct val="100000"/>
              <a:buBlip>
                <a:blip r:embed="rId33"/>
              </a:buBlip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3" marL="630360" indent="-90720">
              <a:spcBef>
                <a:spcPts val="326"/>
              </a:spcBef>
              <a:buClr>
                <a:srgbClr val="2f1311"/>
              </a:buClr>
              <a:buFont typeface="Arial"/>
              <a:buChar char="–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4" marL="809640" indent="-90360">
              <a:spcBef>
                <a:spcPts val="326"/>
              </a:spcBef>
              <a:buClr>
                <a:srgbClr val="2f1311"/>
              </a:buClr>
              <a:buFont typeface="Arial"/>
              <a:buChar char="»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5" marL="809640" indent="-90360">
              <a:spcBef>
                <a:spcPts val="326"/>
              </a:spcBef>
              <a:buClr>
                <a:srgbClr val="2f1311"/>
              </a:buClr>
              <a:buFont typeface="Arial"/>
              <a:buChar char="»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6" marL="809640" indent="-90360">
              <a:spcBef>
                <a:spcPts val="326"/>
              </a:spcBef>
              <a:buClr>
                <a:srgbClr val="2f1311"/>
              </a:buClr>
              <a:buFont typeface="Arial"/>
              <a:buChar char="»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122040" y="2379240"/>
            <a:ext cx="71748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909360" y="2382480"/>
            <a:ext cx="1392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2363400" y="2382480"/>
            <a:ext cx="708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fld id="{7C0D6235-B7B2-4026-9E5C-1CB52A430DF3}" type="slidenum">
              <a:rPr b="0" lang="en-US" sz="4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3691080" cy="2619000"/>
            <a:chOff x="0" y="0"/>
            <a:chExt cx="3691080" cy="2619000"/>
          </a:xfrm>
        </p:grpSpPr>
        <p:sp>
          <p:nvSpPr>
            <p:cNvPr id="97" name=""/>
            <p:cNvSpPr/>
            <p:nvPr/>
          </p:nvSpPr>
          <p:spPr>
            <a:xfrm>
              <a:off x="0" y="2533320"/>
              <a:ext cx="3255480" cy="856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325548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5080" y="0"/>
              <a:ext cx="484560" cy="261468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162600" y="360"/>
              <a:ext cx="521280" cy="2404800"/>
              <a:chOff x="3162600" y="360"/>
              <a:chExt cx="521280" cy="24048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377160" y="360"/>
                <a:ext cx="306720" cy="865080"/>
                <a:chOff x="3377160" y="360"/>
                <a:chExt cx="306720" cy="865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3506760" y="360"/>
                  <a:ext cx="112320" cy="105120"/>
                  <a:chOff x="3506760" y="360"/>
                  <a:chExt cx="112320" cy="10512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3506760" y="360"/>
                    <a:ext cx="112320" cy="105120"/>
                    <a:chOff x="3506760" y="360"/>
                    <a:chExt cx="112320" cy="1051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3524400" y="-17280"/>
                      <a:ext cx="7668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3528000" y="33120"/>
                      <a:ext cx="53640" cy="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3555360" y="48600"/>
                    <a:ext cx="10440" cy="108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3528000" y="27360"/>
                    <a:ext cx="165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3557880" y="23040"/>
                    <a:ext cx="241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3584880" y="41760"/>
                    <a:ext cx="9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3555360" y="72360"/>
                    <a:ext cx="24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3534480" y="6264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7716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508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68960" y="203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38360" y="3484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65080" y="319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9920" y="464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6508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65080" y="7549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3162600" y="609840"/>
                <a:ext cx="333360" cy="1795320"/>
                <a:chOff x="3162600" y="609840"/>
                <a:chExt cx="333360" cy="179532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8500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15960" y="725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285000" y="958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77160" y="1045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223800" y="1103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254400" y="1219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77160" y="1248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346560" y="14230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193200" y="13359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193200" y="1481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85000" y="15685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346560" y="842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62600" y="1655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193200" y="1859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346560" y="20041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193200" y="2062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254400" y="21495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3200" y="2294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315960" y="2236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3205080" y="1871280"/>
              <a:ext cx="479520" cy="7394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9320" y="1851840"/>
              <a:ext cx="491040" cy="7624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94640" y="1074240"/>
              <a:ext cx="496440" cy="15390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7760" y="1348920"/>
              <a:ext cx="394560" cy="83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2080" y="162720"/>
              <a:ext cx="368280" cy="192456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4600" y="99720"/>
              <a:ext cx="366480" cy="1171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1120" y="0"/>
              <a:ext cx="232200" cy="12780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01120" y="360"/>
              <a:ext cx="120960" cy="12783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9800" y="360"/>
              <a:ext cx="35640" cy="26146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6880" y="2374920"/>
              <a:ext cx="469440" cy="2358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1816560" y="1261800"/>
              <a:ext cx="2614680" cy="90720"/>
            </a:xfrm>
            <a:custGeom>
              <a:avLst/>
              <a:gdLst>
                <a:gd name="textAreaLeft" fmla="*/ 252360 w 2614680"/>
                <a:gd name="textAreaRight" fmla="*/ 2362320 w 2614680"/>
                <a:gd name="textAreaTop" fmla="*/ 8640 h 90720"/>
                <a:gd name="textAreaBottom" fmla="*/ 8208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 vert="eaVert" rot="10800000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5760" y="522360"/>
            <a:ext cx="2806920" cy="784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122040" y="2379240"/>
            <a:ext cx="71748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909360" y="2382480"/>
            <a:ext cx="1392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2363400" y="2382480"/>
            <a:ext cx="708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fld id="{22D22394-7686-4A06-BAD8-3C88568DC190}" type="slidenum">
              <a:rPr b="0" lang="en-US" sz="4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Литературно – музыкальная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композиция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spcBef>
                <a:spcPts val="79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 СЛОВ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spcBef>
                <a:spcPts val="79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О  МАТЕР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371520"/>
            <a:ext cx="2976480" cy="1714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Говорят у мамы руки не простые, Говорят у мамы руки золоты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Спорить я не буду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Людям ведь видней –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Ведь они работают с мамою мо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28284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515520"/>
            <a:ext cx="297648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любим ее как надежного друг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За то что у нас с нею все сообщ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За то что когда нам приходится туго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можем всплакнуть у родного плеч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848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4480" y="82080"/>
            <a:ext cx="297648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 fontScale="83000"/>
          </a:bodyPr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любим ее за то что порою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Становятся строже в морщинках глаз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Но стоит с повинной прийти головою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Исчезнут морщинки, умчится гроз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За то что всегда без утайки и прям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можем открыть ей сердце сво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И просто за то, что она – наша мам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крепко и нежно любим ее</a:t>
            </a:r>
            <a:r>
              <a:rPr b="0" lang="en-US" sz="12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704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" descr=""/>
          <p:cNvPicPr/>
          <p:nvPr/>
        </p:nvPicPr>
        <p:blipFill>
          <a:blip r:embed="rId1"/>
          <a:stretch/>
        </p:blipFill>
        <p:spPr>
          <a:xfrm>
            <a:off x="112680" y="31680"/>
            <a:ext cx="3473640" cy="255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480" y="155160"/>
            <a:ext cx="297648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 fontScale="83000"/>
          </a:bodyPr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ерегите близких. Берегит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Жизнь, она торопится, не жд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На крутом изломе поддержите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Знайте беды их напереч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Сохраняйте письма. Ждите в гост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ногда дарите им цвет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Это очень трудно, очень прост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Жизнь прожить – не поле перейт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" descr=""/>
          <p:cNvPicPr/>
          <p:nvPr/>
        </p:nvPicPr>
        <p:blipFill>
          <a:blip r:embed="rId1"/>
          <a:stretch/>
        </p:blipFill>
        <p:spPr>
          <a:xfrm>
            <a:off x="-30240" y="0"/>
            <a:ext cx="321012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5840" y="82080"/>
            <a:ext cx="2976840" cy="2241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 fontScale="98000"/>
          </a:bodyPr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лизкие от нас уходят в вечност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Каждому свой час и свой чере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Пусть жестокость или бессердечност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Поздним вас раскаяньем не жж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Вы еще успеете. Спешит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Окружить их множеством забо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удьте снисходительны к ошибк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 прощать умейте в свой чере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848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" descr=""/>
          <p:cNvPicPr/>
          <p:nvPr/>
        </p:nvPicPr>
        <p:blipFill>
          <a:blip r:embed="rId1"/>
          <a:stretch/>
        </p:blipFill>
        <p:spPr>
          <a:xfrm>
            <a:off x="44280" y="31680"/>
            <a:ext cx="3618000" cy="2584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ет Солнце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ет небо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ет мам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у я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" descr=""/>
          <p:cNvPicPr/>
          <p:nvPr/>
        </p:nvPicPr>
        <p:blipFill>
          <a:blip r:embed="rId1"/>
          <a:stretch/>
        </p:blipFill>
        <p:spPr>
          <a:xfrm>
            <a:off x="3240" y="0"/>
            <a:ext cx="3681360" cy="2587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840" y="155160"/>
            <a:ext cx="3090960" cy="2241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Благослови, Господь, семью – творения венец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На головеночках детей покоится земл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Святая Троица земли – Ребенок, Мать, Отец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И человечество само не что-нибудь – семь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ru-RU" sz="1400" spc="-1" strike="noStrike">
                <a:solidFill>
                  <a:srgbClr val="2f1311"/>
                </a:solidFill>
                <a:latin typeface="Times New Roman"/>
              </a:rPr>
              <a:t>Е.Евтушенк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" descr=""/>
          <p:cNvPicPr/>
          <p:nvPr/>
        </p:nvPicPr>
        <p:blipFill>
          <a:blip r:embed="rId1"/>
          <a:stretch/>
        </p:blipFill>
        <p:spPr>
          <a:xfrm>
            <a:off x="42840" y="82440"/>
            <a:ext cx="3024360" cy="2449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5760" y="82080"/>
            <a:ext cx="2976480" cy="26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своих матерей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красивых, и добрых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 просто родных, без зате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и строгих, суровых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их просто так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ез всякого оправдань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ез матери жизнь – пустяк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А мама для нас – мироздань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" descr=""/>
          <p:cNvPicPr/>
          <p:nvPr/>
        </p:nvPicPr>
        <p:blipFill>
          <a:blip r:embed="rId1"/>
          <a:stretch/>
        </p:blipFill>
        <p:spPr>
          <a:xfrm>
            <a:off x="28440" y="25560"/>
            <a:ext cx="3656160" cy="2590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480" y="-360"/>
            <a:ext cx="2976480" cy="26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На заре вы спешите в школ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Синим вечером – на кат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Для занятий, для игр веселых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Дни вам кажутся корот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Жарким летом над речкой горн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ли в роще, где тишь и тень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По утрам запевают горн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Славя новый счастливый ден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5840" y="-360"/>
            <a:ext cx="2976840" cy="26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ам живется легко и прост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Оттого. Что своим трудом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аши матери, ваши сестр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Защищают ваш мирный дом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Оттого, что с отцами рядом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Неизменно они в строю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Оттого, что все силы рад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За отчизну отдать сво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Мир для вас защищать готов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Смелым сердцем любая мат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ы за это ей дайте слово –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от такими же в жизни стат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848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28:46Z</dcterms:created>
  <dc:creator>Елена</dc:creator>
  <dc:description/>
  <dc:language>en-US</dc:language>
  <cp:lastModifiedBy>Елена</cp:lastModifiedBy>
  <dcterms:modified xsi:type="dcterms:W3CDTF">2009-11-10T02:03:15Z</dcterms:modified>
  <cp:revision>3</cp:revision>
  <dc:subject/>
  <dc:title>Слайд 1</dc:title>
</cp:coreProperties>
</file>