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3686175" cy="2613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74C-2E52-4F79-88B8-0EB7421E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5840" y="150480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CCD-3F93-4D1A-A22D-26D1E35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63152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7DE-C990-44A7-AAB8-AD73FACB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1240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1896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584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111240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211896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89A-9C4B-44F9-972D-53F4284D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69B9-1E5F-4598-B847-FE76252B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3E19-40EF-4F9E-8E4F-ACB36E81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76A0-C186-462E-B547-C6F50DC0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7BBE-27A5-40F4-ABC7-079B7D63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DAFA-13D6-4386-B782-247E0C91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8920" y="87480"/>
            <a:ext cx="30132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75B8-BFCB-4B38-8BDB-EDBDDFB7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5A26-A063-4246-B5A7-49DDA96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480-0CEB-483D-ACBF-ADFDEB3B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3152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51C4-C759-4A34-B73E-640A4B81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D13C-B026-40C1-9E46-447B015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5840" y="150480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10EE-05AF-4E15-89CA-AD41409A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63152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0D8A-C825-472F-AE5B-1143033A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1240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118960" y="60912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584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111240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2118960" y="1504800"/>
            <a:ext cx="95832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4114-8753-452B-9F19-6B14BE05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627-09AD-4D73-B74C-FBBC8189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088-2B8D-4E5A-ACB4-F928C13A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765-AA52-4A3D-988D-B9518494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8920" y="87480"/>
            <a:ext cx="3013200" cy="20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309-2D82-45D1-A79A-569A0E02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9A1-1669-40BD-BE0E-B451171A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31520" y="150480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D05-18C1-4CE9-A4DC-A2F83374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631520" y="609120"/>
            <a:ext cx="145260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5840" y="1504800"/>
            <a:ext cx="2976840" cy="817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28B-B13B-4040-B8C5-BFF0C53B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691080" cy="2619000"/>
            <a:chOff x="0" y="0"/>
            <a:chExt cx="3691080" cy="2619000"/>
          </a:xfrm>
        </p:grpSpPr>
        <p:sp>
          <p:nvSpPr>
            <p:cNvPr id="1" name=""/>
            <p:cNvSpPr/>
            <p:nvPr/>
          </p:nvSpPr>
          <p:spPr>
            <a:xfrm>
              <a:off x="0" y="2533320"/>
              <a:ext cx="3255480" cy="8568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325548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05080" y="0"/>
              <a:ext cx="484560" cy="261468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3162600" y="360"/>
              <a:ext cx="521280" cy="2404800"/>
              <a:chOff x="3162600" y="360"/>
              <a:chExt cx="521280" cy="24048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3377160" y="360"/>
                <a:ext cx="306720" cy="865080"/>
                <a:chOff x="3377160" y="360"/>
                <a:chExt cx="306720" cy="86508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3506760" y="360"/>
                  <a:ext cx="112320" cy="105120"/>
                  <a:chOff x="3506760" y="360"/>
                  <a:chExt cx="112320" cy="10512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3506760" y="360"/>
                    <a:ext cx="112320" cy="105120"/>
                    <a:chOff x="3506760" y="360"/>
                    <a:chExt cx="112320" cy="10512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3524400" y="-17280"/>
                      <a:ext cx="76680" cy="11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3528000" y="33120"/>
                      <a:ext cx="53640" cy="9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3555360" y="48600"/>
                    <a:ext cx="10440" cy="108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3528000" y="27360"/>
                    <a:ext cx="165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3557880" y="23040"/>
                    <a:ext cx="241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3584880" y="41760"/>
                    <a:ext cx="93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3555360" y="72360"/>
                    <a:ext cx="241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3534480" y="6264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77160" y="86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5080" y="86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68960" y="203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38360" y="3484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65080" y="3193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9920" y="464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565080" y="609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65080" y="7549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3162600" y="609840"/>
                <a:ext cx="333360" cy="1795320"/>
                <a:chOff x="3162600" y="609840"/>
                <a:chExt cx="333360" cy="179532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285000" y="609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15960" y="725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285000" y="9583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77160" y="10454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223800" y="110340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254400" y="12196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77160" y="1248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346560" y="14230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193200" y="13359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193200" y="148140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285000" y="15685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346560" y="842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62600" y="16556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193200" y="1859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346560" y="20041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3193200" y="20624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254400" y="21495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193200" y="22946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3315960" y="22366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3205080" y="1871280"/>
              <a:ext cx="479520" cy="7394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99320" y="1851840"/>
              <a:ext cx="491040" cy="76248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194640" y="1074240"/>
              <a:ext cx="496440" cy="15390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27760" y="1348920"/>
              <a:ext cx="394560" cy="8326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22080" y="162720"/>
              <a:ext cx="368280" cy="192456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24600" y="99720"/>
              <a:ext cx="366480" cy="1171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1120" y="0"/>
              <a:ext cx="232200" cy="12780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01120" y="360"/>
              <a:ext cx="120960" cy="12783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9800" y="360"/>
              <a:ext cx="35640" cy="26146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6880" y="2374920"/>
              <a:ext cx="469440" cy="2358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1816560" y="1261800"/>
              <a:ext cx="2614680" cy="90720"/>
            </a:xfrm>
            <a:custGeom>
              <a:avLst/>
              <a:gdLst>
                <a:gd name="textAreaLeft" fmla="*/ 252360 w 2614680"/>
                <a:gd name="textAreaRight" fmla="*/ 2362320 w 2614680"/>
                <a:gd name="textAreaTop" fmla="*/ 8640 h 90720"/>
                <a:gd name="textAreaBottom" fmla="*/ 8208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 vert="eaVert" rot="10800000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-135000">
              <a:spcBef>
                <a:spcPts val="326"/>
              </a:spcBef>
              <a:buSzPct val="102708"/>
              <a:buBlip>
                <a:blip r:embed="rId31"/>
              </a:buBlip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1" marL="291960" indent="-112680">
              <a:spcBef>
                <a:spcPts val="326"/>
              </a:spcBef>
              <a:buSzPct val="100000"/>
              <a:buBlip>
                <a:blip r:embed="rId32"/>
              </a:buBlip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2" marL="449280" indent="-88920">
              <a:spcBef>
                <a:spcPts val="326"/>
              </a:spcBef>
              <a:buSzPct val="100000"/>
              <a:buBlip>
                <a:blip r:embed="rId33"/>
              </a:buBlip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3" marL="630360" indent="-90720">
              <a:spcBef>
                <a:spcPts val="326"/>
              </a:spcBef>
              <a:buClr>
                <a:srgbClr val="2f1311"/>
              </a:buClr>
              <a:buFont typeface="Arial"/>
              <a:buChar char="–"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4" marL="809640" indent="-90360">
              <a:spcBef>
                <a:spcPts val="326"/>
              </a:spcBef>
              <a:buClr>
                <a:srgbClr val="2f1311"/>
              </a:buClr>
              <a:buFont typeface="Arial"/>
              <a:buChar char="»"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5" marL="809640" indent="-90360">
              <a:spcBef>
                <a:spcPts val="326"/>
              </a:spcBef>
              <a:buClr>
                <a:srgbClr val="2f1311"/>
              </a:buClr>
              <a:buFont typeface="Arial"/>
              <a:buChar char="»"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lvl="6" marL="809640" indent="-90360">
              <a:spcBef>
                <a:spcPts val="326"/>
              </a:spcBef>
              <a:buClr>
                <a:srgbClr val="2f1311"/>
              </a:buClr>
              <a:buFont typeface="Arial"/>
              <a:buChar char="»"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122040" y="2379240"/>
            <a:ext cx="71748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4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909360" y="2382480"/>
            <a:ext cx="139212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 algn="ct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4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2363400" y="2382480"/>
            <a:ext cx="70812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 algn="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fld id="{CE4B2BCA-B075-4D50-82EB-1E2DFC055A78}" type="slidenum">
              <a:rPr b="0" lang="en-US" sz="4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3691080" cy="2619000"/>
            <a:chOff x="0" y="0"/>
            <a:chExt cx="3691080" cy="2619000"/>
          </a:xfrm>
        </p:grpSpPr>
        <p:sp>
          <p:nvSpPr>
            <p:cNvPr id="97" name=""/>
            <p:cNvSpPr/>
            <p:nvPr/>
          </p:nvSpPr>
          <p:spPr>
            <a:xfrm>
              <a:off x="0" y="2533320"/>
              <a:ext cx="3255480" cy="8568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325548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5080" y="0"/>
              <a:ext cx="484560" cy="261468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162600" y="360"/>
              <a:ext cx="521280" cy="2404800"/>
              <a:chOff x="3162600" y="360"/>
              <a:chExt cx="521280" cy="24048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377160" y="360"/>
                <a:ext cx="306720" cy="865080"/>
                <a:chOff x="3377160" y="360"/>
                <a:chExt cx="306720" cy="8650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3506760" y="360"/>
                  <a:ext cx="112320" cy="105120"/>
                  <a:chOff x="3506760" y="360"/>
                  <a:chExt cx="112320" cy="10512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3506760" y="360"/>
                    <a:ext cx="112320" cy="105120"/>
                    <a:chOff x="3506760" y="360"/>
                    <a:chExt cx="112320" cy="1051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3524400" y="-17280"/>
                      <a:ext cx="76680" cy="11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3528000" y="33120"/>
                      <a:ext cx="53640" cy="9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3555360" y="48600"/>
                    <a:ext cx="10440" cy="108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3528000" y="27360"/>
                    <a:ext cx="1656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3557880" y="23040"/>
                    <a:ext cx="241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3584880" y="41760"/>
                    <a:ext cx="93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3555360" y="72360"/>
                    <a:ext cx="2412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4920" bIns="-349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3534480" y="62640"/>
                    <a:ext cx="147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0" bIns="-28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77160" y="86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65080" y="86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68960" y="203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38360" y="3484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65080" y="3193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499920" y="464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565080" y="609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565080" y="7549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3162600" y="609840"/>
                <a:ext cx="333360" cy="1795320"/>
                <a:chOff x="3162600" y="609840"/>
                <a:chExt cx="333360" cy="179532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285000" y="609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15960" y="7257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285000" y="9583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377160" y="10454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223800" y="110340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254400" y="12196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77160" y="12488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346560" y="14230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193200" y="13359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3193200" y="148140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3285000" y="15685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3346560" y="842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3162600" y="16556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193200" y="18590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346560" y="200412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3193200" y="20624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254400" y="214956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193200" y="229464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3315960" y="2236680"/>
                  <a:ext cx="118800" cy="1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3205080" y="1871280"/>
              <a:ext cx="479520" cy="7394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99320" y="1851840"/>
              <a:ext cx="491040" cy="76248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94640" y="1074240"/>
              <a:ext cx="496440" cy="15390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27760" y="1348920"/>
              <a:ext cx="394560" cy="8326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22080" y="162720"/>
              <a:ext cx="368280" cy="192456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24600" y="99720"/>
              <a:ext cx="366480" cy="11710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01120" y="0"/>
              <a:ext cx="232200" cy="12780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01120" y="360"/>
              <a:ext cx="120960" cy="12783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9800" y="360"/>
              <a:ext cx="35640" cy="26146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ctr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6880" y="2374920"/>
              <a:ext cx="469440" cy="2358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1816560" y="1261800"/>
              <a:ext cx="2614680" cy="90720"/>
            </a:xfrm>
            <a:custGeom>
              <a:avLst/>
              <a:gdLst>
                <a:gd name="textAreaLeft" fmla="*/ 252360 w 2614680"/>
                <a:gd name="textAreaRight" fmla="*/ 2362320 w 2614680"/>
                <a:gd name="textAreaTop" fmla="*/ 8640 h 90720"/>
                <a:gd name="textAreaBottom" fmla="*/ 82080 h 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18000" bIns="18000" anchor="t" anchorCtr="1" vert="eaVert" rot="10800000">
              <a:noAutofit/>
            </a:bodyPr>
            <a:p>
              <a:pPr algn="ctr">
                <a:tabLst>
                  <a:tab algn="l" pos="0"/>
                  <a:tab algn="l" pos="360360"/>
                  <a:tab algn="l" pos="720720"/>
                  <a:tab algn="l" pos="1081080"/>
                  <a:tab algn="l" pos="1441440"/>
                  <a:tab algn="l" pos="1801800"/>
                  <a:tab algn="l" pos="2162160"/>
                  <a:tab algn="l" pos="2522520"/>
                  <a:tab algn="l" pos="2882880"/>
                  <a:tab algn="l" pos="3243240"/>
                  <a:tab algn="l" pos="3603600"/>
                  <a:tab algn="l" pos="3963960"/>
                  <a:tab algn="l" pos="4324320"/>
                  <a:tab algn="l" pos="4684680"/>
                  <a:tab algn="l" pos="5045040"/>
                  <a:tab algn="l" pos="5405400"/>
                  <a:tab algn="l" pos="5765760"/>
                  <a:tab algn="l" pos="6126120"/>
                  <a:tab algn="l" pos="6486480"/>
                  <a:tab algn="l" pos="6846840"/>
                  <a:tab algn="l" pos="72072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5760" y="522360"/>
            <a:ext cx="2806920" cy="784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122040" y="2379240"/>
            <a:ext cx="71748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4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909360" y="2382480"/>
            <a:ext cx="139212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 algn="ct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4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2363400" y="2382480"/>
            <a:ext cx="708120" cy="18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Autofit/>
          </a:bodyPr>
          <a:lstStyle>
            <a:lvl1pPr indent="0" algn="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  <a:defRPr b="0" lang="en-US" sz="4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fld id="{37B267C0-152A-4934-A61D-3DAA9551FF89}" type="slidenum">
              <a:rPr b="0" lang="en-US" sz="4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 algn="ctr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Литературно – музыкальная</a:t>
            </a:r>
            <a:br>
              <a:rPr sz="1400"/>
            </a:br>
            <a:r>
              <a:rPr b="0" lang="en-US" sz="1400" spc="-1" strike="noStrike">
                <a:solidFill>
                  <a:srgbClr val="f7d47d"/>
                </a:solidFill>
                <a:latin typeface="Arial"/>
              </a:rPr>
              <a:t>композиция</a:t>
            </a:r>
            <a:endParaRPr b="0" lang="en-US" sz="1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>
              <a:spcBef>
                <a:spcPts val="79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3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« СЛОВ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spcBef>
                <a:spcPts val="79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О  МАТЕР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371520"/>
            <a:ext cx="2976480" cy="1714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Говорят у мамы руки не простые, Говорят у мамы руки золоты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Спорить я не буду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Людям ведь видней –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Ведь они работают с мамою мое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328284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515520"/>
            <a:ext cx="297648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Мы любим ее как надежного друг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За то что у нас с нею все сообщ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За то что когда нам приходится туго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Мы можем всплакнуть у родного плеч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313848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4480" y="82080"/>
            <a:ext cx="297648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 fontScale="83000"/>
          </a:bodyPr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Мы любим ее за то что порою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Становятся строже в морщинках глаза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Но стоит с повинной прийти головою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Исчезнут морщинки, умчится гроз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За то что всегда без утайки и прям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Мы можем открыть ей сердце сво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И просто за то, что она – наша мама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Times New Roman"/>
              </a:rPr>
              <a:t>Мы крепко и нежно любим ее</a:t>
            </a:r>
            <a:r>
              <a:rPr b="0" lang="en-US" sz="1200" spc="-1" strike="noStrike">
                <a:solidFill>
                  <a:srgbClr val="2f1311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313704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" descr=""/>
          <p:cNvPicPr/>
          <p:nvPr/>
        </p:nvPicPr>
        <p:blipFill>
          <a:blip r:embed="rId1"/>
          <a:stretch/>
        </p:blipFill>
        <p:spPr>
          <a:xfrm>
            <a:off x="112680" y="31680"/>
            <a:ext cx="3473640" cy="2556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480" y="155160"/>
            <a:ext cx="297648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 fontScale="83000"/>
          </a:bodyPr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Берегите близких. Берегит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Жизнь, она торопится, не жде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На крутом изломе поддержите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Знайте беды их наперече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Сохраняйте письма. Ждите в гост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Иногда дарите им цвет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Это очень трудно, очень прост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1196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Жизнь прожить – не поле перейт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" descr=""/>
          <p:cNvPicPr/>
          <p:nvPr/>
        </p:nvPicPr>
        <p:blipFill>
          <a:blip r:embed="rId1"/>
          <a:stretch/>
        </p:blipFill>
        <p:spPr>
          <a:xfrm>
            <a:off x="-30240" y="0"/>
            <a:ext cx="321012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5840" y="82080"/>
            <a:ext cx="2976840" cy="2241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 fontScale="98000"/>
          </a:bodyPr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Близкие от нас уходят в вечност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Каждому свой час и свой чере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Пусть жестокость или бессердечност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Поздним вас раскаяньем не жже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Вы еще успеете. Спешите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Окружить их множеством забот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Будьте снисходительны к ошибкам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21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И прощать умейте в свой черед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8920" y="87480"/>
            <a:ext cx="3013200" cy="4348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ctr">
            <a:noAutofit/>
          </a:bodyPr>
          <a:p>
            <a:pPr indent="0"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313848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" descr=""/>
          <p:cNvPicPr/>
          <p:nvPr/>
        </p:nvPicPr>
        <p:blipFill>
          <a:blip r:embed="rId1"/>
          <a:stretch/>
        </p:blipFill>
        <p:spPr>
          <a:xfrm>
            <a:off x="44280" y="31680"/>
            <a:ext cx="3618000" cy="25844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5840" y="609120"/>
            <a:ext cx="2976840" cy="17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Times New Roman"/>
              </a:rPr>
              <a:t>Пусть всегда будет Солнце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Times New Roman"/>
              </a:rPr>
              <a:t>Пусть всегда будет небо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Times New Roman"/>
              </a:rPr>
              <a:t>Пусть всегда будет мама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Times New Roman"/>
              </a:rPr>
              <a:t>Пусть всегда буду я!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" descr=""/>
          <p:cNvPicPr/>
          <p:nvPr/>
        </p:nvPicPr>
        <p:blipFill>
          <a:blip r:embed="rId1"/>
          <a:stretch/>
        </p:blipFill>
        <p:spPr>
          <a:xfrm>
            <a:off x="3240" y="0"/>
            <a:ext cx="3681360" cy="2587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2840" y="155160"/>
            <a:ext cx="3090960" cy="2241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Times New Roman"/>
              </a:rPr>
              <a:t>Благослови, Господь, семью – творения венец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Times New Roman"/>
              </a:rPr>
              <a:t>На головеночках детей покоится земл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Times New Roman"/>
              </a:rPr>
              <a:t>Святая Троица земли – Ребенок, Мать, Отец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Times New Roman"/>
              </a:rPr>
              <a:t>И человечество само не что-нибудь – семь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ru-RU" sz="1400" spc="-1" strike="noStrike">
                <a:solidFill>
                  <a:srgbClr val="2f1311"/>
                </a:solidFill>
                <a:latin typeface="Times New Roman"/>
              </a:rPr>
              <a:t>Е.Евтушенко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" descr=""/>
          <p:cNvPicPr/>
          <p:nvPr/>
        </p:nvPicPr>
        <p:blipFill>
          <a:blip r:embed="rId1"/>
          <a:stretch/>
        </p:blipFill>
        <p:spPr>
          <a:xfrm>
            <a:off x="42840" y="82440"/>
            <a:ext cx="3024360" cy="24498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5760" y="82080"/>
            <a:ext cx="2976480" cy="26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Любите своих матерей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Любите красивых, и добрых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И просто родных, без затей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Любите и строгих, суровых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Любите их просто так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Без всякого оправдань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Без матери жизнь – пустяк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А мама для нас – мирозданье!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" descr=""/>
          <p:cNvPicPr/>
          <p:nvPr/>
        </p:nvPicPr>
        <p:blipFill>
          <a:blip r:embed="rId1"/>
          <a:stretch/>
        </p:blipFill>
        <p:spPr>
          <a:xfrm>
            <a:off x="28440" y="25560"/>
            <a:ext cx="3656160" cy="25905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4480" y="-360"/>
            <a:ext cx="2976480" cy="26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3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На заре вы спешите в школы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Синим вечером – на катк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Для занятий, для игр веселых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Дни вам кажутся коротк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Жарким летом над речкой горно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Или в роще, где тишь и тень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По утрам запевают горны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400" spc="-1" strike="noStrike">
                <a:solidFill>
                  <a:srgbClr val="2f1311"/>
                </a:solidFill>
                <a:latin typeface="Times New Roman"/>
              </a:rPr>
              <a:t>Славя новый счастливый ден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05840" y="-360"/>
            <a:ext cx="2976840" cy="261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18000" bIns="18000" anchor="t">
            <a:normAutofit/>
          </a:bodyPr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Вам живется легко и просто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Оттого. Что своим трудом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Ваши матери, ваши сестр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Защищают ваш мирный дом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Оттого, что с отцами рядом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Неизменно они в строю,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Оттого, что все силы рады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За отчизну отдать сво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Мир для вас защищать готова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Смелым сердцем любая мат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Вы за это ей дайте слово –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135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i="1" lang="en-US" sz="1200" spc="-1" strike="noStrike">
                <a:solidFill>
                  <a:srgbClr val="2f1311"/>
                </a:solidFill>
                <a:latin typeface="Times New Roman"/>
              </a:rPr>
              <a:t>Вот такими же в жизни стат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" descr=""/>
          <p:cNvPicPr/>
          <p:nvPr/>
        </p:nvPicPr>
        <p:blipFill>
          <a:blip r:embed="rId1"/>
          <a:stretch/>
        </p:blipFill>
        <p:spPr>
          <a:xfrm>
            <a:off x="0" y="0"/>
            <a:ext cx="3138480" cy="26146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p:transition spd="med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6:28:46Z</dcterms:created>
  <dc:creator>Елена</dc:creator>
  <dc:description/>
  <dc:language>en-US</dc:language>
  <cp:lastModifiedBy>Елена</cp:lastModifiedBy>
  <dcterms:modified xsi:type="dcterms:W3CDTF">2009-11-10T02:03:15Z</dcterms:modified>
  <cp:revision>3</cp:revision>
  <dc:subject/>
  <dc:title>Слайд 1</dc:title>
</cp:coreProperties>
</file>