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8FAA-78C4-4CF8-927F-4AC28AF1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7E9C-BA29-45FA-879E-FC429C79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3EFD-BACB-4E44-B276-273DEF52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E090-05B6-4AAB-85D8-5F0CEF4B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F4BD1-B562-4525-BED9-6027818E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D0C41-1D94-4256-B6E3-27EFA145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76D2C-7012-4D33-8BAC-C5503A7F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98D65-6B39-44A4-B63F-27F1D450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527F7-2C13-45A5-8DD3-99F6AA1B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36AC1-D380-443D-98DE-9F9363D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077AF-9163-4043-B3EE-BF3C274A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63DF-8249-4603-9613-F9C7CC3F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CB315-1C17-4F1D-9436-DBEFD822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3EB15-60FB-4D9F-B5BE-1CCEC00E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BD4A7-C626-4CD6-B917-2B028044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B8623-EC10-40CF-B1CD-621C9B15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90E95-DB8F-4A1E-8B2C-8C6322F9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BFDE-BB69-4C4A-86F2-CA21C453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5438-248B-4DA0-8293-936251E5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44DB-0AD4-499F-88CB-B49C75F1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A667-DFDE-4ECF-A27C-87CC1B82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2901-4ED9-4202-8334-FD1C4C31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6E7F-245D-4B2B-AC2E-89BA9908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E0C4-7340-4E43-AE74-84273503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2C5B-9E84-4C3D-AF9F-5605F776B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661F-D7B1-40F2-BDEB-D58B38FB89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15760"/>
            <a:ext cx="7772400" cy="48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Garamond"/>
              </a:rPr>
              <a:t>Проект на тему: «Электронные книги в школе»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7972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и ученики 10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 – сош №3 г. Красный К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олоцкий Дмитрий и Фатьянов Макс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: Литвинова Н.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Вопросы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относитесь к введению электронных книг в школ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итаете ли вы, что обучение станет интереснее с введением электронных книг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считаете, смогут ли электронные книги заменить учебни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считаете, повысится ли уровень знаний в школах с введением электронных книг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Результаты опроса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57150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щиеся младшего зв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0" y="2362320"/>
          <a:ext cx="9144000" cy="47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914400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Учащиеся среднего звен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4680" y="2106720"/>
          <a:ext cx="913464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2106720"/>
                    <a:ext cx="91346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Учащиеся старшего звен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26" name="Object 7"/>
          <p:cNvGraphicFramePr/>
          <p:nvPr/>
        </p:nvGraphicFramePr>
        <p:xfrm>
          <a:off x="0" y="2101680"/>
          <a:ext cx="914400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0168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0" y="1641600"/>
          <a:ext cx="914400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41600"/>
                    <a:ext cx="914400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6"/>
          <p:cNvSpPr/>
          <p:nvPr/>
        </p:nvSpPr>
        <p:spPr>
          <a:xfrm>
            <a:off x="590400" y="26676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Опрос в Интернет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32" name="Мой фильм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34" name="Мой 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Какой экран лучше?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36" name="Picture 2" descr="C:\Users\1\Desktop\grid.jpg"/>
          <p:cNvPicPr/>
          <p:nvPr/>
        </p:nvPicPr>
        <p:blipFill>
          <a:blip r:embed="rId1"/>
          <a:stretch/>
        </p:blipFill>
        <p:spPr>
          <a:xfrm>
            <a:off x="533520" y="1600200"/>
            <a:ext cx="2928960" cy="4394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1\Desktop\eink (1).jpg"/>
          <p:cNvPicPr/>
          <p:nvPr/>
        </p:nvPicPr>
        <p:blipFill>
          <a:blip r:embed="rId2"/>
          <a:stretch/>
        </p:blipFill>
        <p:spPr>
          <a:xfrm>
            <a:off x="5943600" y="1600200"/>
            <a:ext cx="2897280" cy="43448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5"/>
          <p:cNvSpPr/>
          <p:nvPr/>
        </p:nvSpPr>
        <p:spPr>
          <a:xfrm>
            <a:off x="457200" y="594360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Межпиксельная "сетка"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на TFT экр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5715000" y="592920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Экран e-ink, межпиксельная 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"сетка" отсутствует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C:\Users\1\Desktop\ebook-eink-lg-philips-flexible_Eink.jpg"/>
          <p:cNvPicPr/>
          <p:nvPr/>
        </p:nvPicPr>
        <p:blipFill>
          <a:blip r:embed="rId3"/>
          <a:stretch/>
        </p:blipFill>
        <p:spPr>
          <a:xfrm>
            <a:off x="3476520" y="2438280"/>
            <a:ext cx="2460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Оптимальный вариант электронной книги: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790280"/>
            <a:ext cx="541008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истики электронной книг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ктронная книга с ч/б экраном 9,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-Ink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ешение 825*1200 пик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 оттенков се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кстовые форматы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b2, ePub, DjVu, TXT, DOC, PDF, RTF, PalmDoc, DJV DCX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ача данных через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-F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C:\Users\1\Desktop\i.jpg"/>
          <p:cNvPicPr/>
          <p:nvPr/>
        </p:nvPicPr>
        <p:blipFill>
          <a:blip r:embed="rId1"/>
          <a:stretch/>
        </p:blipFill>
        <p:spPr>
          <a:xfrm>
            <a:off x="5437080" y="1500120"/>
            <a:ext cx="37069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Вывод: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33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ечно, всё новое приживается с трудом. И в наших школах ещё останутся в ходу и бумажные учебники, и ручки с тетрадями. Но то, что наше образование должно идти в ногу с современными технологиями, тоже бесспорно. В ходе работы над проектом и в результате анализа социологических исследований мы пришли к выводу, что за электронными учебниками будущ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Цель проекта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ь, что за электронными учебниками будущ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Задачи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сти опрос среди учащихся школы и взять интервью у учителей и роди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ь всю «тяжесть» зн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спользование электронных книг в школе, с разных точек зр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Актуальность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ротяжении последних лет обычные книги все чаще заменяют электронные. В связи с широким распространением электронных книг в мире, во многих школах постепенно стараются обычные учебники заменять электронными книг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?nimg=1758"/>
          <p:cNvPicPr/>
          <p:nvPr/>
        </p:nvPicPr>
        <p:blipFill>
          <a:blip r:embed="rId1"/>
          <a:stretch/>
        </p:blipFill>
        <p:spPr>
          <a:xfrm rot="21051000">
            <a:off x="310680" y="1010880"/>
            <a:ext cx="5029200" cy="325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5ad1cd81614"/>
          <p:cNvPicPr/>
          <p:nvPr/>
        </p:nvPicPr>
        <p:blipFill>
          <a:blip r:embed="rId2"/>
          <a:stretch/>
        </p:blipFill>
        <p:spPr>
          <a:xfrm rot="588000">
            <a:off x="5105160" y="1066320"/>
            <a:ext cx="3809880" cy="309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4b695aabd0b40218889098294d73dd6e"/>
          <p:cNvPicPr/>
          <p:nvPr/>
        </p:nvPicPr>
        <p:blipFill>
          <a:blip r:embed="rId3"/>
          <a:stretch/>
        </p:blipFill>
        <p:spPr>
          <a:xfrm>
            <a:off x="2743200" y="3828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8317203732fd07_b"/>
          <p:cNvPicPr/>
          <p:nvPr/>
        </p:nvPicPr>
        <p:blipFill>
          <a:blip r:embed="rId1"/>
          <a:stretch/>
        </p:blipFill>
        <p:spPr>
          <a:xfrm rot="21105000">
            <a:off x="228240" y="30492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3_851_pic_peregrujen"/>
          <p:cNvPicPr/>
          <p:nvPr/>
        </p:nvPicPr>
        <p:blipFill>
          <a:blip r:embed="rId2"/>
          <a:stretch/>
        </p:blipFill>
        <p:spPr>
          <a:xfrm rot="354000">
            <a:off x="5333760" y="228600"/>
            <a:ext cx="3440160" cy="4343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a1dfb541c14a"/>
          <p:cNvPicPr/>
          <p:nvPr/>
        </p:nvPicPr>
        <p:blipFill>
          <a:blip r:embed="rId3"/>
          <a:stretch/>
        </p:blipFill>
        <p:spPr>
          <a:xfrm>
            <a:off x="2057400" y="3349800"/>
            <a:ext cx="422928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Что же такое электронная книга?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ная книга – это устройство для хранения в электронном виде и отображения на экране различных текстовых форма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Users\1\Desktop\prst2-r-1_enl.jpeg"/>
          <p:cNvPicPr/>
          <p:nvPr/>
        </p:nvPicPr>
        <p:blipFill>
          <a:blip r:embed="rId1"/>
          <a:stretch/>
        </p:blipFill>
        <p:spPr>
          <a:xfrm>
            <a:off x="4800600" y="1905120"/>
            <a:ext cx="43434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А каков вес нашего портфеля?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0" name="Picture 2" descr="F:\100_1272.JPG"/>
          <p:cNvPicPr/>
          <p:nvPr/>
        </p:nvPicPr>
        <p:blipFill>
          <a:blip r:embed="rId1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F:\100_1274.JPG"/>
          <p:cNvPicPr/>
          <p:nvPr/>
        </p:nvPicPr>
        <p:blipFill>
          <a:blip r:embed="rId2"/>
          <a:stretch/>
        </p:blipFill>
        <p:spPr>
          <a:xfrm>
            <a:off x="0" y="3657600"/>
            <a:ext cx="42670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76320" y="2057400"/>
          <a:ext cx="9067680" cy="1028880"/>
        </p:xfrm>
        <a:graphic>
          <a:graphicData uri="http://schemas.openxmlformats.org/drawingml/2006/table">
            <a:tbl>
              <a:tblPr/>
              <a:tblGrid>
                <a:gridCol w="2057400"/>
                <a:gridCol w="1295280"/>
                <a:gridCol w="1219320"/>
                <a:gridCol w="1523880"/>
                <a:gridCol w="1523880"/>
                <a:gridCol w="14479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б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5 к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 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 к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8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8 к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к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:\100_1274.JPG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1\Desktop\14793_60_f-sn-full-Aspirator-Samsung-SC6240.jpeg"/>
          <p:cNvPicPr/>
          <p:nvPr/>
        </p:nvPicPr>
        <p:blipFill>
          <a:blip r:embed="rId2"/>
          <a:stretch/>
        </p:blipFill>
        <p:spPr>
          <a:xfrm>
            <a:off x="5181480" y="2209680"/>
            <a:ext cx="3962520" cy="2970360"/>
          </a:xfrm>
          <a:prstGeom prst="rect">
            <a:avLst/>
          </a:prstGeom>
          <a:ln w="0">
            <a:noFill/>
          </a:ln>
        </p:spPr>
      </p:pic>
      <p:sp>
        <p:nvSpPr>
          <p:cNvPr id="115" name="Равно 5"/>
          <p:cNvSpPr/>
          <p:nvPr/>
        </p:nvSpPr>
        <p:spPr>
          <a:xfrm>
            <a:off x="3962520" y="3124080"/>
            <a:ext cx="1643040" cy="928800"/>
          </a:xfrm>
          <a:custGeom>
            <a:avLst/>
            <a:gdLst>
              <a:gd name="textAreaLeft" fmla="*/ 217800 w 1643040"/>
              <a:gd name="textAreaRight" fmla="*/ 1425240 w 1643040"/>
              <a:gd name="textAreaTop" fmla="*/ 191160 h 928800"/>
              <a:gd name="textAreaBottom" fmla="*/ 737640 h 928800"/>
            </a:gdLst>
            <a:ahLst/>
            <a:rect l="textAreaLeft" t="textAreaTop" r="textAreaRight" b="textAreaBottom"/>
            <a:pathLst>
              <a:path w="1643063" h="928688">
                <a:moveTo>
                  <a:pt x="217788" y="191310"/>
                </a:moveTo>
                <a:lnTo>
                  <a:pt x="1425275" y="191310"/>
                </a:lnTo>
                <a:lnTo>
                  <a:pt x="1425275" y="409737"/>
                </a:lnTo>
                <a:lnTo>
                  <a:pt x="217788" y="409737"/>
                </a:lnTo>
                <a:close/>
                <a:moveTo>
                  <a:pt x="217788" y="518951"/>
                </a:moveTo>
                <a:lnTo>
                  <a:pt x="1425275" y="518951"/>
                </a:lnTo>
                <a:lnTo>
                  <a:pt x="1425275" y="737378"/>
                </a:lnTo>
                <a:lnTo>
                  <a:pt x="217788" y="737378"/>
                </a:lnTo>
                <a:close/>
              </a:path>
            </a:pathLst>
          </a:custGeom>
          <a:solidFill>
            <a:srgbClr val="3366cc"/>
          </a:solidFill>
          <a:ln w="25560">
            <a:solidFill>
              <a:srgbClr val="2349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13-04-29T09:32:1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