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DBF67-A41A-4C4F-8FCC-770E9E2B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4C05-EEF2-4546-AD76-3243B9B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F52E-B2DE-4F8C-82FA-30412952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3C9E-99B8-4680-80AC-6645FD7F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0333D-3314-4CF0-8560-845F4273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D5EA4-0421-4E48-96D7-7E637FA3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04F7-68EC-4A88-B668-43AAD60C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D5D9A-A8C4-45AE-B2EF-EDFC855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FEDE2-75F8-4B50-BED2-7A6005ED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A92F5-7C73-4237-AB9A-FE807278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3B6CE-23C1-4454-87F1-DB3A6FC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5FDEA-D918-42DB-A177-4E20D9B9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08A32-25DA-42E3-B393-7F5512F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11F1-9008-48AE-9204-A43A9B6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FA9E9-C0AE-46B9-BBD4-9A4D8864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5BD2-4709-4971-B545-A8B40143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6B4E0-FAAA-46F9-A5AD-A64F10C5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76B2-4250-4AF9-B3B9-B759627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373C-EE01-484E-A4C1-8032B7DA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DF54D-EA20-4B68-AFCB-34DAFF65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EACA-67D2-4E6B-BC01-97690221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6E1F-015F-403B-93F8-2369B7F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E684-6538-4BAF-8E5B-7761785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25FC-73F3-4F03-A2C9-A0FB5EE3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FDC-6943-41C9-8AF1-C33DDB16A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F35-3F5C-49BF-8E36-2CD32A353E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15760"/>
            <a:ext cx="7772400" cy="48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Garamond"/>
              </a:rPr>
              <a:t>Проект на тему: «Электронные книги в школе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7972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олнили ученики 10 «А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У – сош №3 г. Красный К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олоцкий Дмитрий и Фатьянов Макс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: Литвинова Н. 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опросы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относитесь к введению электронных книг в школ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итаете ли вы, что обучение станет интереснее с введением электронных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считаете, смогут ли электронные книги заменить учебни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считаете, повысится ли уровень знаний в школах с введением электронных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Результаты опрос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5715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щиеся младшего зв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0" y="2362320"/>
          <a:ext cx="914400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62320"/>
                    <a:ext cx="91440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Учащиеся среднего звен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4680" y="2106720"/>
          <a:ext cx="913464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2106720"/>
                    <a:ext cx="91346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Учащиеся старшего звен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6" name="Object 7"/>
          <p:cNvGraphicFramePr/>
          <p:nvPr/>
        </p:nvGraphicFramePr>
        <p:xfrm>
          <a:off x="0" y="2101680"/>
          <a:ext cx="914400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01680"/>
                    <a:ext cx="914400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0" y="1641600"/>
          <a:ext cx="914400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1600"/>
                    <a:ext cx="914400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90400" y="2667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Опрос в Интернет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2" name="Мой фильм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4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Какой экран лучше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6" name="Picture 2" descr="C:\Users\1\Desktop\grid.jpg"/>
          <p:cNvPicPr/>
          <p:nvPr/>
        </p:nvPicPr>
        <p:blipFill>
          <a:blip r:embed="rId1"/>
          <a:stretch/>
        </p:blipFill>
        <p:spPr>
          <a:xfrm>
            <a:off x="533520" y="1600200"/>
            <a:ext cx="2928960" cy="439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1\Desktop\eink (1).jpg"/>
          <p:cNvPicPr/>
          <p:nvPr/>
        </p:nvPicPr>
        <p:blipFill>
          <a:blip r:embed="rId2"/>
          <a:stretch/>
        </p:blipFill>
        <p:spPr>
          <a:xfrm>
            <a:off x="5943600" y="1600200"/>
            <a:ext cx="2897280" cy="43448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5"/>
          <p:cNvSpPr/>
          <p:nvPr/>
        </p:nvSpPr>
        <p:spPr>
          <a:xfrm>
            <a:off x="457200" y="59436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Межпиксельная "сетка"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 TFT эк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715000" y="59292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Экран e-ink, межпиксельная 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"сетка" отсутствует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Users\1\Desktop\ebook-eink-lg-philips-flexible_Eink.jpg"/>
          <p:cNvPicPr/>
          <p:nvPr/>
        </p:nvPicPr>
        <p:blipFill>
          <a:blip r:embed="rId3"/>
          <a:stretch/>
        </p:blipFill>
        <p:spPr>
          <a:xfrm>
            <a:off x="3476520" y="2438280"/>
            <a:ext cx="24606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Garamond"/>
              </a:rPr>
              <a:t>Оптимальный вариант электронной книги: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790280"/>
            <a:ext cx="541008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стики электронной книг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ктронная книга с ч/б экраном 9,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-Ink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р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ешение 825*1200 пик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 оттенков се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кстовые форматы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b2, ePub, DjVu, TXT, DOC, PDF, RTF, PalmDoc, DJV DC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ача данных через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-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C:\Users\1\Desktop\i.jpg"/>
          <p:cNvPicPr/>
          <p:nvPr/>
        </p:nvPicPr>
        <p:blipFill>
          <a:blip r:embed="rId1"/>
          <a:stretch/>
        </p:blipFill>
        <p:spPr>
          <a:xfrm>
            <a:off x="5437080" y="1500120"/>
            <a:ext cx="3706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Вывод: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ечно, всё новое приживается с трудом. И в наших школах ещё останутся в ходу и бумажные учебники, и ручки с тетрадями. Но то, что наше образование должно идти в ногу с современными технологиями, тоже бесспорно. В ходе работы над проектом и в результате анализа социологических исследований мы пришли к выводу, что за электронными учебниками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Цель проекта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, что за электронными учебниками будущ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Задачи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опрос среди учащихся школы и взять интервью у учителей и роди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ь всю «тяжесть»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спользование электронных книг в школе, с разных точек з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ктуальность: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тяжении последних лет обычные книги все чаще заменяют электронные. В связи с широким распространением электронных книг в мире, во многих школах постепенно стараются обычные учебники заменять электронными книг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?nimg=1758"/>
          <p:cNvPicPr/>
          <p:nvPr/>
        </p:nvPicPr>
        <p:blipFill>
          <a:blip r:embed="rId1"/>
          <a:stretch/>
        </p:blipFill>
        <p:spPr>
          <a:xfrm rot="21051000">
            <a:off x="310680" y="1010880"/>
            <a:ext cx="5029200" cy="325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a5ad1cd81614"/>
          <p:cNvPicPr/>
          <p:nvPr/>
        </p:nvPicPr>
        <p:blipFill>
          <a:blip r:embed="rId2"/>
          <a:stretch/>
        </p:blipFill>
        <p:spPr>
          <a:xfrm rot="588000">
            <a:off x="5105160" y="1066320"/>
            <a:ext cx="3809880" cy="3095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4b695aabd0b40218889098294d73dd6e"/>
          <p:cNvPicPr/>
          <p:nvPr/>
        </p:nvPicPr>
        <p:blipFill>
          <a:blip r:embed="rId3"/>
          <a:stretch/>
        </p:blipFill>
        <p:spPr>
          <a:xfrm>
            <a:off x="2743200" y="3828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18317203732fd07_b"/>
          <p:cNvPicPr/>
          <p:nvPr/>
        </p:nvPicPr>
        <p:blipFill>
          <a:blip r:embed="rId1"/>
          <a:stretch/>
        </p:blipFill>
        <p:spPr>
          <a:xfrm rot="21105000">
            <a:off x="228240" y="3049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_851_pic_peregrujen"/>
          <p:cNvPicPr/>
          <p:nvPr/>
        </p:nvPicPr>
        <p:blipFill>
          <a:blip r:embed="rId2"/>
          <a:stretch/>
        </p:blipFill>
        <p:spPr>
          <a:xfrm rot="354000">
            <a:off x="5333760" y="228600"/>
            <a:ext cx="3440160" cy="4343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a1dfb541c14a"/>
          <p:cNvPicPr/>
          <p:nvPr/>
        </p:nvPicPr>
        <p:blipFill>
          <a:blip r:embed="rId3"/>
          <a:stretch/>
        </p:blipFill>
        <p:spPr>
          <a:xfrm>
            <a:off x="2057400" y="3349800"/>
            <a:ext cx="42292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Что же такое электронная книга?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книга – это устройство для хранения в электронном виде и отображения на экране различных текстовых форма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C:\Users\1\Desktop\prst2-r-1_enl.jpeg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А каков вес нашего портфеля?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0" name="Picture 2" descr="F:\100_1272.JPG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F:\100_1274.JPG"/>
          <p:cNvPicPr/>
          <p:nvPr/>
        </p:nvPicPr>
        <p:blipFill>
          <a:blip r:embed="rId2"/>
          <a:stretch/>
        </p:blipFill>
        <p:spPr>
          <a:xfrm>
            <a:off x="0" y="3657600"/>
            <a:ext cx="42670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76320" y="2057400"/>
          <a:ext cx="9067680" cy="1028880"/>
        </p:xfrm>
        <a:graphic>
          <a:graphicData uri="http://schemas.openxmlformats.org/drawingml/2006/table">
            <a:tbl>
              <a:tblPr/>
              <a:tblGrid>
                <a:gridCol w="2057400"/>
                <a:gridCol w="1295280"/>
                <a:gridCol w="1219320"/>
                <a:gridCol w="1523880"/>
                <a:gridCol w="1523880"/>
                <a:gridCol w="144792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недель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тор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твер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ят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бо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5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 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38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38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:\100_1274.JPG"/>
          <p:cNvPicPr/>
          <p:nvPr/>
        </p:nvPicPr>
        <p:blipFill>
          <a:blip r:embed="rId1"/>
          <a:stretch/>
        </p:blipFill>
        <p:spPr>
          <a:xfrm>
            <a:off x="0" y="19810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1\Desktop\14793_60_f-sn-full-Aspirator-Samsung-SC6240.jpeg"/>
          <p:cNvPicPr/>
          <p:nvPr/>
        </p:nvPicPr>
        <p:blipFill>
          <a:blip r:embed="rId2"/>
          <a:stretch/>
        </p:blipFill>
        <p:spPr>
          <a:xfrm>
            <a:off x="5181480" y="2209680"/>
            <a:ext cx="3962520" cy="2970360"/>
          </a:xfrm>
          <a:prstGeom prst="rect">
            <a:avLst/>
          </a:prstGeom>
          <a:ln w="0">
            <a:noFill/>
          </a:ln>
        </p:spPr>
      </p:pic>
      <p:sp>
        <p:nvSpPr>
          <p:cNvPr id="115" name="Равно 5"/>
          <p:cNvSpPr/>
          <p:nvPr/>
        </p:nvSpPr>
        <p:spPr>
          <a:xfrm>
            <a:off x="3962520" y="3124080"/>
            <a:ext cx="1643040" cy="928800"/>
          </a:xfrm>
          <a:custGeom>
            <a:avLst/>
            <a:gdLst>
              <a:gd name="textAreaLeft" fmla="*/ 217800 w 1643040"/>
              <a:gd name="textAreaRight" fmla="*/ 1425240 w 1643040"/>
              <a:gd name="textAreaTop" fmla="*/ 191160 h 928800"/>
              <a:gd name="textAreaBottom" fmla="*/ 737640 h 928800"/>
            </a:gdLst>
            <a:ahLst/>
            <a:rect l="textAreaLeft" t="textAreaTop" r="textAreaRight" b="textAreaBottom"/>
            <a:pathLst>
              <a:path w="1643063" h="928688">
                <a:moveTo>
                  <a:pt x="217788" y="191310"/>
                </a:moveTo>
                <a:lnTo>
                  <a:pt x="1425275" y="191310"/>
                </a:lnTo>
                <a:lnTo>
                  <a:pt x="1425275" y="409737"/>
                </a:lnTo>
                <a:lnTo>
                  <a:pt x="217788" y="409737"/>
                </a:lnTo>
                <a:close/>
                <a:moveTo>
                  <a:pt x="217788" y="518951"/>
                </a:moveTo>
                <a:lnTo>
                  <a:pt x="1425275" y="518951"/>
                </a:lnTo>
                <a:lnTo>
                  <a:pt x="1425275" y="737378"/>
                </a:lnTo>
                <a:lnTo>
                  <a:pt x="217788" y="737378"/>
                </a:lnTo>
                <a:close/>
              </a:path>
            </a:pathLst>
          </a:custGeom>
          <a:solidFill>
            <a:srgbClr val="3366cc"/>
          </a:solidFill>
          <a:ln w="25560">
            <a:solidFill>
              <a:srgbClr val="2349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13-04-29T09:32:1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