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6A6-7258-4A92-A524-2014A099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D24-5E1F-4575-83B8-A352F9F1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DAA-F7F7-48F8-89FB-F5B6CE50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ED9-5E68-4E57-90A7-5B0F1DF6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5D3-D67E-41A9-83A6-380E4B45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D28-3EAD-4D5E-992E-475F0930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D4C-C06F-49D3-AC03-14A65CB6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5FF-DEAD-457E-8F87-299D1DFD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6A3-4538-46C9-A03B-C4C9FF21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203-D763-462F-B95C-9525C368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E7B-2D5B-4F57-81B1-77B1058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E85-F3A3-432F-A53B-65AF79AB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E4E94-9CF2-42D1-9A45-E483D98169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лассный час </a:t>
            </a:r>
            <a:br>
              <a:rPr sz="4400"/>
            </a:b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«Поговорим о профессия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63640" y="1512720"/>
            <a:ext cx="8423280" cy="58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А как замечательно работать</a:t>
            </a:r>
            <a:br>
              <a:rPr sz="4400"/>
            </a:b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 в магазине игруше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6360" y="1563840"/>
            <a:ext cx="8999280" cy="54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Придумывать и создавать </a:t>
            </a:r>
            <a:br>
              <a:rPr sz="4400"/>
            </a:b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игрушки тоже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7640" y="1584360"/>
            <a:ext cx="87836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Мы выяснили, что каждая работа важна для обще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640" y="1584360"/>
            <a:ext cx="864072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Впереди у нас ещё много времени, чтобы выбрать для себя професс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63640" y="1563840"/>
            <a:ext cx="8496360" cy="58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47640" y="-511200"/>
            <a:ext cx="9070920" cy="90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80"/>
                </a:solidFill>
                <a:latin typeface="Arial"/>
              </a:rPr>
              <a:t>Пусть сбывают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80"/>
                </a:solidFill>
                <a:latin typeface="Arial"/>
              </a:rPr>
              <a:t>самые лучшие мечт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ымов Г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анян 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сегян В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ёвкин Дани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мовцева Оль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инин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юшкин Алекс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нин Владисл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касова Елиза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Мы узнали, что человек живёт в обществе, где каждый выполняет какую-то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4720" y="1584360"/>
            <a:ext cx="907092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80"/>
                </a:solidFill>
                <a:latin typeface="Arial"/>
              </a:rPr>
              <a:t>Мы все знаем, где и кем работают наши родител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0720" y="1563840"/>
            <a:ext cx="86407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А многие уже начали задумываться о своей будущей профе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7640" y="1563840"/>
            <a:ext cx="8856720" cy="57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Конечно, пока мы только делали рисунки и читали стих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2000" y="1563840"/>
            <a:ext cx="842328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Писали сочинение о себе, своих увлечениях и интерес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0720" y="1563840"/>
            <a:ext cx="8567640" cy="58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80"/>
                </a:solidFill>
                <a:latin typeface="Arial"/>
              </a:rPr>
              <a:t>Какие прекрасные у нас мечты!</a:t>
            </a:r>
            <a:br>
              <a:rPr sz="4000"/>
            </a:br>
            <a:r>
              <a:rPr b="0" lang="ru-RU" sz="4000" spc="-1" strike="noStrike">
                <a:solidFill>
                  <a:srgbClr val="000080"/>
                </a:solidFill>
                <a:latin typeface="Arial"/>
              </a:rPr>
              <a:t>Кто-то хочет быть космонавтом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6360" y="1563840"/>
            <a:ext cx="8854920" cy="57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Другой — кондитер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4960" y="1481040"/>
            <a:ext cx="89996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О профессии кондитера мы узнали на уроке техноло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36720" y="1512720"/>
            <a:ext cx="8351640" cy="57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4:44:09Z</dcterms:created>
  <dc:creator/>
  <dc:description/>
  <dc:language>en-US</dc:language>
  <cp:lastModifiedBy/>
  <dcterms:modified xsi:type="dcterms:W3CDTF">2012-09-23T15:49:30Z</dcterms:modified>
  <cp:revision>2</cp:revision>
  <dc:subject/>
  <dc:title/>
</cp:coreProperties>
</file>