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505-94AA-4B86-9208-FDC5A05B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D68-525F-443F-93D7-04139A8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C48-1A8C-450C-BBD6-E3B5E2A5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8DF-FBFC-49FC-B032-1A3759EB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AFA-6443-4659-B355-3C8A582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A7B-8180-4440-96F9-57025065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3FA-F5AF-4406-A46E-467848E6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27C-05DB-4018-B64F-C661ABB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CE7-9FEA-4AB7-936C-A1C7937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B12-04A6-4E0C-BFBC-ED2BC2EF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F3F-411D-454F-B8D6-0B4F75E9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E5C-57E3-47EB-A50A-0002AF1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F47A9-6C80-486A-9C47-D265983841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лассный час </a:t>
            </a:r>
            <a:br>
              <a:rPr sz="4400"/>
            </a:b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«Поговорим о профессия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63640" y="1512720"/>
            <a:ext cx="8423280" cy="58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А как замечательно работать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 в магазине игруше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6360" y="1563840"/>
            <a:ext cx="8999280" cy="54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Придумывать и создавать </a:t>
            </a:r>
            <a:br>
              <a:rPr sz="4400"/>
            </a:b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игрушки тоже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7640" y="1584360"/>
            <a:ext cx="87836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Мы выяснили, что каждая работа важна для общ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7640" y="1584360"/>
            <a:ext cx="86407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Впереди у нас ещё много времени, чтобы выбрать для себя професс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63640" y="1563840"/>
            <a:ext cx="849636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47640" y="-511200"/>
            <a:ext cx="9070920" cy="90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Пусть сбываю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80"/>
                </a:solidFill>
                <a:latin typeface="Arial"/>
              </a:rPr>
              <a:t>самые лучшие мечт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ымов Гле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анян 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сегян Ва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ёвкин Дани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мовцева О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инина М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юшкин Алекса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нин Владисл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касова Елиза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Мы узнали, что человек живёт в обществе, где каждый выполняет какую-то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4720" y="1584360"/>
            <a:ext cx="90709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80"/>
                </a:solidFill>
                <a:latin typeface="Arial"/>
              </a:rPr>
              <a:t>Мы все знаем, где и кем работают наши родител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0720" y="1563840"/>
            <a:ext cx="864072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Arial"/>
              </a:rPr>
              <a:t>А многие уже начали задумываться о своей будущей проф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7640" y="1563840"/>
            <a:ext cx="8856720" cy="57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Конечно, пока мы только делали рисунки и читали сти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2000" y="1563840"/>
            <a:ext cx="84232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Писали сочинение о себе, своих увлечениях и интерес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0720" y="1563840"/>
            <a:ext cx="8567640" cy="58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80"/>
                </a:solidFill>
                <a:latin typeface="Arial"/>
              </a:rPr>
              <a:t>Какие прекрасные у нас мечты!</a:t>
            </a:r>
            <a:br>
              <a:rPr sz="4000"/>
            </a:br>
            <a:r>
              <a:rPr b="0" lang="ru-RU" sz="4000" spc="-1" strike="noStrike">
                <a:solidFill>
                  <a:srgbClr val="000080"/>
                </a:solidFill>
                <a:latin typeface="Arial"/>
              </a:rPr>
              <a:t>Кто-то хочет быть космонавтом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6360" y="1563840"/>
            <a:ext cx="8854920" cy="57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Другой — кондитер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4960" y="1481040"/>
            <a:ext cx="89996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6e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80"/>
                </a:solidFill>
                <a:latin typeface="Arial"/>
              </a:rPr>
              <a:t>О профессии кондитера мы узнали на уроке техноло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36720" y="1512720"/>
            <a:ext cx="8351640" cy="57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4:44:09Z</dcterms:created>
  <dc:creator/>
  <dc:description/>
  <dc:language>en-US</dc:language>
  <cp:lastModifiedBy/>
  <dcterms:modified xsi:type="dcterms:W3CDTF">2012-09-23T15:49:30Z</dcterms:modified>
  <cp:revision>2</cp:revision>
  <dc:subject/>
  <dc:title/>
</cp:coreProperties>
</file>