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23BA-FCB2-4264-AA35-92B2B618B2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ята! Какую фигуру задает линейное уравнение с двумя переменными на плоскости?     Прям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оставьт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жалуйста количество решений со взаимным расположением прямых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DFD-C59C-4D05-89D8-304F8533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B42-9E92-4AEA-B131-281E22F3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621-30E0-4230-80E4-969DC4EB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5DD-6A00-453F-83C5-DDD00F35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71C4-89AC-46CD-86D8-EB29E020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A364-9A20-4524-9F8D-16715ECA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08FD-2451-45C8-99D7-1D4BE851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3137-7AF4-4FB9-83E7-DEEBC9AD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CCF8-4821-494D-B960-C08B461A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4BE0-E784-42C5-9991-F8A5D2EC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94B2-922C-4051-B3AE-14A90385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BB4-101D-4F06-B327-2C76C1A2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4ED8-AA19-4316-AA9F-735248A5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CA02-6919-4B23-B967-89E5F421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9726-4706-4037-997F-18992BC9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4A3C-C252-49A3-B424-9F0B2682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ECD8-4596-4569-80DE-6FCD556F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D92-90F8-4602-AF8E-83927E9D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802-F5B0-441E-93DE-D278D60F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D72-650F-4D4A-9BF3-EE0A1A5E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9A8-E1E2-42B4-A996-80F87F70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B96-3BFA-4413-A878-139A2C0F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45E-EEF4-4059-A172-BDB76D98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794-DB9C-43B4-B11B-77D36313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Line 8"/>
            <p:cNvSpPr/>
            <p:nvPr/>
          </p:nvSpPr>
          <p:spPr>
            <a:xfrm>
              <a:off x="0" y="54936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0" y="198900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0" y="270828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0" y="342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0" y="126828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0" y="414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0" y="558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0" y="486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0" y="630864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7"/>
            <p:cNvSpPr/>
            <p:nvPr/>
          </p:nvSpPr>
          <p:spPr>
            <a:xfrm>
              <a:off x="97164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8"/>
            <p:cNvSpPr/>
            <p:nvPr/>
          </p:nvSpPr>
          <p:spPr>
            <a:xfrm>
              <a:off x="745164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>
              <a:off x="817236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88930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>
              <a:off x="2509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529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>
              <a:off x="601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>
              <a:off x="673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169236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24112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>
              <a:off x="313200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>
              <a:off x="385128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457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646B-EA12-4A28-888A-E5EE0A859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6893-CD80-4911-B805-FE5501515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0" name="Line 8"/>
            <p:cNvSpPr/>
            <p:nvPr/>
          </p:nvSpPr>
          <p:spPr>
            <a:xfrm>
              <a:off x="0" y="54936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>
              <a:off x="0" y="198900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0" y="270828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>
              <a:off x="0" y="342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2"/>
            <p:cNvSpPr/>
            <p:nvPr/>
          </p:nvSpPr>
          <p:spPr>
            <a:xfrm>
              <a:off x="0" y="126828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3"/>
            <p:cNvSpPr/>
            <p:nvPr/>
          </p:nvSpPr>
          <p:spPr>
            <a:xfrm>
              <a:off x="0" y="414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>
              <a:off x="0" y="558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5"/>
            <p:cNvSpPr/>
            <p:nvPr/>
          </p:nvSpPr>
          <p:spPr>
            <a:xfrm>
              <a:off x="0" y="486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6"/>
            <p:cNvSpPr/>
            <p:nvPr/>
          </p:nvSpPr>
          <p:spPr>
            <a:xfrm>
              <a:off x="0" y="630864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7"/>
            <p:cNvSpPr/>
            <p:nvPr/>
          </p:nvSpPr>
          <p:spPr>
            <a:xfrm>
              <a:off x="97164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8"/>
            <p:cNvSpPr/>
            <p:nvPr/>
          </p:nvSpPr>
          <p:spPr>
            <a:xfrm>
              <a:off x="745164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9"/>
            <p:cNvSpPr/>
            <p:nvPr/>
          </p:nvSpPr>
          <p:spPr>
            <a:xfrm>
              <a:off x="817236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0"/>
            <p:cNvSpPr/>
            <p:nvPr/>
          </p:nvSpPr>
          <p:spPr>
            <a:xfrm>
              <a:off x="88930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1"/>
            <p:cNvSpPr/>
            <p:nvPr/>
          </p:nvSpPr>
          <p:spPr>
            <a:xfrm>
              <a:off x="2509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2"/>
            <p:cNvSpPr/>
            <p:nvPr/>
          </p:nvSpPr>
          <p:spPr>
            <a:xfrm>
              <a:off x="529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3"/>
            <p:cNvSpPr/>
            <p:nvPr/>
          </p:nvSpPr>
          <p:spPr>
            <a:xfrm>
              <a:off x="601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4"/>
            <p:cNvSpPr/>
            <p:nvPr/>
          </p:nvSpPr>
          <p:spPr>
            <a:xfrm>
              <a:off x="673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5"/>
            <p:cNvSpPr/>
            <p:nvPr/>
          </p:nvSpPr>
          <p:spPr>
            <a:xfrm>
              <a:off x="169236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6"/>
            <p:cNvSpPr/>
            <p:nvPr/>
          </p:nvSpPr>
          <p:spPr>
            <a:xfrm>
              <a:off x="24112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7"/>
            <p:cNvSpPr/>
            <p:nvPr/>
          </p:nvSpPr>
          <p:spPr>
            <a:xfrm>
              <a:off x="313200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385128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9"/>
            <p:cNvSpPr/>
            <p:nvPr/>
          </p:nvSpPr>
          <p:spPr>
            <a:xfrm>
              <a:off x="457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26920" y="189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ехнологическая карта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052640"/>
            <a:ext cx="835344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 уро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радиционн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а уро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бинированн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шение систем линейных у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карян А.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299736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олжать формировать умение решать системы линейных уравнений различными способ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3429000"/>
            <a:ext cx="8424720" cy="34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спитательны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ть навыки самостоятельной работ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оспитывать аккура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звива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логическое мышл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нима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ботать над совершенствованием математически грамотной реч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вышать эмоциональный настрой учащихся путем привлечения наглядности и технических средств обуче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формировать умение сравнива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общать изучаемые фак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 урока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онтальная работа с использованием презент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ндивидуальная раб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льтимедийный проект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.А. Алимо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Ю.М. Колягин «Алгебр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учебник для 7 класса общеобразовательных школ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09560" y="890640"/>
            <a:ext cx="7745400" cy="5048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6800" y="158400"/>
            <a:ext cx="8381880" cy="816120"/>
          </a:xfrm>
          <a:prstGeom prst="rect">
            <a:avLst/>
          </a:prstGeom>
          <a:gradFill rotWithShape="0">
            <a:gsLst>
              <a:gs pos="0">
                <a:srgbClr val="bbe0e3">
                  <a:alpha val="13333"/>
                </a:srgbClr>
              </a:gs>
              <a:gs pos="100000">
                <a:srgbClr val="ffffff">
                  <a:alpha val="431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= -0,5x +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=   0,5x -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25920" y="4809960"/>
            <a:ext cx="108000" cy="10800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48240" y="4357800"/>
            <a:ext cx="108000" cy="10800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2513160"/>
            <a:ext cx="120600" cy="1206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00720" y="2071800"/>
            <a:ext cx="107640" cy="108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00000" y="1089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63640" y="90792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Y= - 0,5x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3753000"/>
            <a:ext cx="19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Y= 0,5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1305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68360" y="1305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34920" y="173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34920" y="2133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34920" y="4041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4041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4437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0000" y="4869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3280" y="173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3280" y="2133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03280" y="4437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0000" y="486900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19360" y="216072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(0;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08560" y="1943280"/>
            <a:ext cx="11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B(2;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08400" y="4373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Arial"/>
              </a:rPr>
              <a:t>C(0;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86320" y="46846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Arial"/>
              </a:rPr>
              <a:t>D(2;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115920"/>
            <a:ext cx="179640" cy="765000"/>
          </a:xfrm>
          <a:custGeom>
            <a:avLst/>
            <a:gdLst>
              <a:gd name="textAreaLeft" fmla="*/ 114840 w 179640"/>
              <a:gd name="textAreaRight" fmla="*/ 180000 w 179640"/>
              <a:gd name="textAreaTop" fmla="*/ 19800 h 765000"/>
              <a:gd name="textAreaBottom" fmla="*/ 745200 h 76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73400" y="965160"/>
            <a:ext cx="6172200" cy="3098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666880" y="2933640"/>
            <a:ext cx="5765760" cy="28828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29520" y="339264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67560" y="2654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(6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854680"/>
            <a:ext cx="78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 система имеет 1 решение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6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Провероч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вариант                   2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32000" y="2637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x+y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x+4y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87280" y="2565360"/>
            <a:ext cx="279720" cy="825480"/>
          </a:xfrm>
          <a:custGeom>
            <a:avLst/>
            <a:gdLst>
              <a:gd name="textAreaLeft" fmla="*/ 178920 w 279720"/>
              <a:gd name="textAreaRight" fmla="*/ 280080 w 279720"/>
              <a:gd name="textAreaTop" fmla="*/ 21240 h 825480"/>
              <a:gd name="textAreaBottom" fmla="*/ 804240 h 82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58920" y="4365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y-x = 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y+x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16000" y="4365720"/>
            <a:ext cx="279360" cy="825480"/>
          </a:xfrm>
          <a:custGeom>
            <a:avLst/>
            <a:gdLst>
              <a:gd name="textAreaLeft" fmla="*/ 178560 w 279360"/>
              <a:gd name="textAreaRight" fmla="*/ 279720 w 279360"/>
              <a:gd name="textAreaTop" fmla="*/ 21240 h 825480"/>
              <a:gd name="textAreaBottom" fmla="*/ 804240 h 82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92720" y="2637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+5y 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x+7y =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92720" y="429264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x+y = 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5x-y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2708280"/>
            <a:ext cx="279360" cy="825480"/>
          </a:xfrm>
          <a:custGeom>
            <a:avLst/>
            <a:gdLst>
              <a:gd name="textAreaLeft" fmla="*/ 178560 w 279360"/>
              <a:gd name="textAreaRight" fmla="*/ 279720 w 279360"/>
              <a:gd name="textAreaTop" fmla="*/ 21240 h 825480"/>
              <a:gd name="textAreaBottom" fmla="*/ 804240 h 82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76720" y="4437000"/>
            <a:ext cx="279360" cy="825480"/>
          </a:xfrm>
          <a:custGeom>
            <a:avLst/>
            <a:gdLst>
              <a:gd name="textAreaLeft" fmla="*/ 178560 w 279360"/>
              <a:gd name="textAreaRight" fmla="*/ 279720 w 279360"/>
              <a:gd name="textAreaTop" fmla="*/ 21240 h 825480"/>
              <a:gd name="textAreaBottom" fmla="*/ 804240 h 82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1640" y="1628640"/>
            <a:ext cx="0" cy="446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С-48 стр.50 </a:t>
            </a:r>
            <a:r>
              <a:rPr b="0" lang="en-US" sz="5200" spc="-1" strike="noStrike">
                <a:solidFill>
                  <a:srgbClr val="333399"/>
                </a:solidFill>
                <a:latin typeface="Arial"/>
              </a:rPr>
              <a:t>1.1)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С-45 стр.48 </a:t>
            </a:r>
            <a:r>
              <a:rPr b="0" lang="en-US" sz="5200" spc="-1" strike="noStrike">
                <a:solidFill>
                  <a:srgbClr val="333399"/>
                </a:solidFill>
                <a:latin typeface="Arial"/>
              </a:rPr>
              <a:t>3.1)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50920" y="0"/>
          <a:ext cx="8712000" cy="4530600"/>
        </p:xfrm>
        <a:graphic>
          <a:graphicData uri="http://schemas.openxmlformats.org/drawingml/2006/table">
            <a:tbl>
              <a:tblPr/>
              <a:tblGrid>
                <a:gridCol w="1563480"/>
                <a:gridCol w="1646280"/>
                <a:gridCol w="1644840"/>
                <a:gridCol w="1841400"/>
                <a:gridCol w="20160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ый момент (2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ют цели урок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накомятся с ходом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ает тему и цель урок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астраивает на активную рабо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ение ранее изученных ф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йды 3 -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ирую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именяют ранее полученные знания по тем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ируе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дает вопросы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рганизует деятельность ученик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онтальна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ндивиду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йд 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ченика работают у доски – остальные в тетрад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ет вопросы по ходу реше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щает внимание на выбор более рационального способа решения одного и того же зад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250920" y="4581360"/>
            <a:ext cx="1584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верка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те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3 м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4581360"/>
            <a:ext cx="165708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4581360"/>
            <a:ext cx="1584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4581360"/>
            <a:ext cx="1871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мостоя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бота с последующ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дачей тетра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48360" y="4581360"/>
            <a:ext cx="2016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бирает тетр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516640"/>
            <a:ext cx="1584360" cy="11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 м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5516640"/>
            <a:ext cx="165708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ронта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5516640"/>
            <a:ext cx="1584360" cy="11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76720" y="5516640"/>
            <a:ext cx="1871640" cy="11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овариваю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ли в тече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сказыв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и впечат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т 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5516640"/>
            <a:ext cx="2016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ет вопро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ходе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что повторил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и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решал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.д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 оценки за ур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ет д/з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WordArt 3" descr=""/>
          <p:cNvPicPr/>
          <p:nvPr/>
        </p:nvPicPr>
        <p:blipFill>
          <a:blip r:embed="rId1"/>
          <a:stretch/>
        </p:blipFill>
        <p:spPr>
          <a:xfrm>
            <a:off x="395280" y="665280"/>
            <a:ext cx="8394840" cy="3051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9280" y="43657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Цель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урока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родолжать формировать умение решать системы линейных уравнений различными способ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651640" y="4437000"/>
            <a:ext cx="151272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549360"/>
            <a:ext cx="8713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из следующих пар чисел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(0,2)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(3,-2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вляется решением с.л.у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900000" y="3789360"/>
            <a:ext cx="31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 + у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826920" y="3789360"/>
            <a:ext cx="216000" cy="107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43700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(3,-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940360" y="5445000"/>
            <a:ext cx="2592360" cy="1152720"/>
          </a:xfrm>
          <a:prstGeom prst="ellipse">
            <a:avLst/>
          </a:prstGeom>
          <a:solidFill>
            <a:srgbClr val="d8c6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24360" y="3716280"/>
            <a:ext cx="25927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51640" y="1916280"/>
            <a:ext cx="2663640" cy="1223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300640"/>
            <a:ext cx="4608360" cy="1008000"/>
          </a:xfrm>
          <a:prstGeom prst="ellipse">
            <a:avLst/>
          </a:prstGeom>
          <a:solidFill>
            <a:srgbClr val="d8c6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00280"/>
            <a:ext cx="4680000" cy="1441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2276640"/>
            <a:ext cx="360036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Сколько решений может иметь с.л.у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дно реш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есконечно м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 имеет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1989000"/>
            <a:ext cx="309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я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овпад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08720" y="378936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я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551664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ямые паралле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2852640"/>
            <a:ext cx="1942920" cy="1152720"/>
          </a:xfrm>
          <a:prstGeom prst="line">
            <a:avLst/>
          </a:prstGeom>
          <a:ln w="7632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643280" y="2707920"/>
            <a:ext cx="1081080" cy="136836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5734080"/>
            <a:ext cx="934920" cy="28728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3924360" y="2852640"/>
            <a:ext cx="792000" cy="43200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2920" y="3645000"/>
            <a:ext cx="360360" cy="431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32360" y="5733720"/>
            <a:ext cx="503280" cy="14292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Определите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какие из с.л.у. не имеют реш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11280" y="2060640"/>
            <a:ext cx="3097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= 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x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611280" y="2060640"/>
            <a:ext cx="142920" cy="115092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1280" y="4221000"/>
            <a:ext cx="3097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+y = 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-y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11280" y="4292640"/>
            <a:ext cx="142920" cy="115092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211640" y="4076640"/>
            <a:ext cx="142920" cy="115092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500720" y="4005360"/>
            <a:ext cx="3097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-y = 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x-2y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720" y="5229360"/>
            <a:ext cx="180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157720"/>
            <a:ext cx="180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63640" y="3357720"/>
            <a:ext cx="180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Определите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акие из с.л.у. имеют бесконечно много решен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11280" y="2060640"/>
            <a:ext cx="3097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x+5y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611280" y="2060640"/>
            <a:ext cx="142920" cy="115092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3276720" y="2060640"/>
            <a:ext cx="142920" cy="115092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203640" y="2133720"/>
            <a:ext cx="3097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+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y-2x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6588000" y="2133720"/>
            <a:ext cx="30974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x+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6732720" y="2133720"/>
            <a:ext cx="142920" cy="115092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-324000" y="342900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843280" y="383364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119640" y="3357720"/>
            <a:ext cx="3024360" cy="3024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5280" y="3860640"/>
            <a:ext cx="1297080" cy="1800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84720" y="4869000"/>
            <a:ext cx="712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4221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1280" y="530064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203280" y="4076640"/>
            <a:ext cx="1942920" cy="19447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429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4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35280" y="4653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0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92360" y="5516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-3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96360" y="479736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8720" y="544500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28000" y="393372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164360" y="3644640"/>
            <a:ext cx="1079640" cy="2160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01080" y="4005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88000" y="5373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96360" y="4292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740720" y="40766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93080" y="53006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028000" y="3429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236000" y="3573000"/>
            <a:ext cx="1008000" cy="20163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30686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2x+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101080" y="3789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2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Rectangle 3"/>
              <p:cNvSpPr txBox="1"/>
              <p:nvPr/>
            </p:nvSpPr>
            <p:spPr>
              <a:xfrm>
                <a:off x="3495600" y="183024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61887E-006 L -0.00399 -0.0629 E">
                                      <p:cBhvr>
                                        <p:cTn id="207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835280" y="836640"/>
            <a:ext cx="63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ТЕ СИСТЕМУ ЛИНЕЙНЫХ УРАВНЕН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1844640"/>
            <a:ext cx="279360" cy="2879640"/>
          </a:xfrm>
          <a:custGeom>
            <a:avLst/>
            <a:gdLst>
              <a:gd name="textAreaLeft" fmla="*/ 178560 w 279360"/>
              <a:gd name="textAreaRight" fmla="*/ 279720 w 279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692360" y="1784520"/>
                <a:ext cx="2950920" cy="28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а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уя графический метод решения с.л.у. показа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т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gradFill rotWithShape="0">
            <a:gsLst>
              <a:gs pos="0">
                <a:srgbClr val="bbe0e3">
                  <a:alpha val="13333"/>
                </a:srgbClr>
              </a:gs>
              <a:gs pos="100000">
                <a:srgbClr val="ffffff">
                  <a:alpha val="4313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 -0,5x +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Y=   0,5x -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755640" y="1844640"/>
            <a:ext cx="142920" cy="115092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95640" y="2276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Имеет единственное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23:25:24Z</dcterms:created>
  <dc:creator>надежда</dc:creator>
  <dc:description/>
  <dc:language>en-US</dc:language>
  <cp:lastModifiedBy>Яша</cp:lastModifiedBy>
  <dcterms:modified xsi:type="dcterms:W3CDTF">2013-05-01T18:03:59Z</dcterms:modified>
  <cp:revision>97</cp:revision>
  <dc:subject/>
  <dc:title>презентация урока</dc:title>
</cp:coreProperties>
</file>