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8181-106C-4240-87CE-D868395541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ята! Какую фигуру задает линейное уравнение с двумя переменными на плоскости?     Прям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оставьт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жалуйста количество решений со взаимным расположением прямых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3E5-C523-4437-A241-02DA79F6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6DC5-B102-4BB8-AB51-D8C5569B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DEE-1E11-4878-8321-C5B8953A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70DF-806A-4560-BA76-4232BB23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F49E-8CAF-4C63-A026-E180BE66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E7E9-9F40-4FE4-ABE5-9FBD087C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1DEF-F846-484C-A1F6-9B1B5DAE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62BC-E812-443D-8286-A693D95B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0C8C-CDBF-4055-B96D-93A2859F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A336-7526-4039-912A-C2EB141C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8D1E-73E1-44FB-8240-933CEEE6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34BE-217B-44C1-B1EE-308E1E18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2C43-B9AE-4C44-AFF2-8C9DCC16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9A34-B433-4D3F-87D1-CAB927E5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A7DA-FCF9-4C21-9974-1BC977CE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73AC-C26C-44E6-BA68-4AEED46A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CCD3-B6EB-46D2-9115-B5317E85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442-72F0-4DB9-A828-F28C4716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EB1-4643-487C-A6E7-905FF499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B15-0B23-49E1-BF54-D70DAD55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35E-7DB7-4315-A282-CA7420EC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7A87-682D-467B-802F-563F3FCB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2AE3-CA83-4A26-8BD3-1E31F91F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B0D9-3203-4A50-A09F-A7FD8395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Line 8"/>
            <p:cNvSpPr/>
            <p:nvPr/>
          </p:nvSpPr>
          <p:spPr>
            <a:xfrm>
              <a:off x="0" y="54936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0" y="198900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0" y="270828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0" y="342900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0" y="126828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0" y="414972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0" y="558972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0" y="486900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0" y="630864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7"/>
            <p:cNvSpPr/>
            <p:nvPr/>
          </p:nvSpPr>
          <p:spPr>
            <a:xfrm>
              <a:off x="97164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8"/>
            <p:cNvSpPr/>
            <p:nvPr/>
          </p:nvSpPr>
          <p:spPr>
            <a:xfrm>
              <a:off x="745164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>
              <a:off x="817236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889308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>
              <a:off x="2509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52927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>
              <a:off x="601200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>
              <a:off x="67327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169236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241128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>
              <a:off x="313200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>
              <a:off x="385128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457200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5B87-12F9-411B-B4C7-125B5F4D3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F17E-C5C5-4430-80F4-9242D27CB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0" name="Line 8"/>
            <p:cNvSpPr/>
            <p:nvPr/>
          </p:nvSpPr>
          <p:spPr>
            <a:xfrm>
              <a:off x="0" y="54936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9"/>
            <p:cNvSpPr/>
            <p:nvPr/>
          </p:nvSpPr>
          <p:spPr>
            <a:xfrm>
              <a:off x="0" y="198900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0" y="270828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1"/>
            <p:cNvSpPr/>
            <p:nvPr/>
          </p:nvSpPr>
          <p:spPr>
            <a:xfrm>
              <a:off x="0" y="342900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2"/>
            <p:cNvSpPr/>
            <p:nvPr/>
          </p:nvSpPr>
          <p:spPr>
            <a:xfrm>
              <a:off x="0" y="126828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3"/>
            <p:cNvSpPr/>
            <p:nvPr/>
          </p:nvSpPr>
          <p:spPr>
            <a:xfrm>
              <a:off x="0" y="414972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>
              <a:off x="0" y="558972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5"/>
            <p:cNvSpPr/>
            <p:nvPr/>
          </p:nvSpPr>
          <p:spPr>
            <a:xfrm>
              <a:off x="0" y="4869000"/>
              <a:ext cx="9144000" cy="144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6"/>
            <p:cNvSpPr/>
            <p:nvPr/>
          </p:nvSpPr>
          <p:spPr>
            <a:xfrm>
              <a:off x="0" y="6308640"/>
              <a:ext cx="9144000" cy="18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7"/>
            <p:cNvSpPr/>
            <p:nvPr/>
          </p:nvSpPr>
          <p:spPr>
            <a:xfrm>
              <a:off x="97164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8"/>
            <p:cNvSpPr/>
            <p:nvPr/>
          </p:nvSpPr>
          <p:spPr>
            <a:xfrm>
              <a:off x="745164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9"/>
            <p:cNvSpPr/>
            <p:nvPr/>
          </p:nvSpPr>
          <p:spPr>
            <a:xfrm>
              <a:off x="817236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0"/>
            <p:cNvSpPr/>
            <p:nvPr/>
          </p:nvSpPr>
          <p:spPr>
            <a:xfrm>
              <a:off x="889308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1"/>
            <p:cNvSpPr/>
            <p:nvPr/>
          </p:nvSpPr>
          <p:spPr>
            <a:xfrm>
              <a:off x="2509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2"/>
            <p:cNvSpPr/>
            <p:nvPr/>
          </p:nvSpPr>
          <p:spPr>
            <a:xfrm>
              <a:off x="52927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3"/>
            <p:cNvSpPr/>
            <p:nvPr/>
          </p:nvSpPr>
          <p:spPr>
            <a:xfrm>
              <a:off x="601200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4"/>
            <p:cNvSpPr/>
            <p:nvPr/>
          </p:nvSpPr>
          <p:spPr>
            <a:xfrm>
              <a:off x="673272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5"/>
            <p:cNvSpPr/>
            <p:nvPr/>
          </p:nvSpPr>
          <p:spPr>
            <a:xfrm>
              <a:off x="169236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6"/>
            <p:cNvSpPr/>
            <p:nvPr/>
          </p:nvSpPr>
          <p:spPr>
            <a:xfrm>
              <a:off x="241128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7"/>
            <p:cNvSpPr/>
            <p:nvPr/>
          </p:nvSpPr>
          <p:spPr>
            <a:xfrm>
              <a:off x="3132000" y="0"/>
              <a:ext cx="180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8"/>
            <p:cNvSpPr/>
            <p:nvPr/>
          </p:nvSpPr>
          <p:spPr>
            <a:xfrm>
              <a:off x="385128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9"/>
            <p:cNvSpPr/>
            <p:nvPr/>
          </p:nvSpPr>
          <p:spPr>
            <a:xfrm>
              <a:off x="4572000" y="0"/>
              <a:ext cx="144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26920" y="1890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ехнологическая карта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052640"/>
            <a:ext cx="835344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п уро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радиционн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а уро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бинированный у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шение систем линейных урав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карян А.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бразовательные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2997360"/>
            <a:ext cx="828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должать формировать умение решать системы линейных уравнений различными способ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3429000"/>
            <a:ext cx="8424720" cy="34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оспитательные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ировать навыки самостоятельной работ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оспитывать аккура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Развивающ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вать логическое мышл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нима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ботать над совершенствованием математически грамотной реч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вышать эмоциональный настрой учащихся путем привлечения наглядности и технических средств обуче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формировать умение сравниват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общать изучаемые фак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уктура урока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онтальная работа с использованием презент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ндивидуальная раб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орудовани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ультимедийный проект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М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.А. Алимов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Ю.М. Колягин «Алгебр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учебник для 7 класса общеобразовательных школ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09560" y="890640"/>
            <a:ext cx="7745400" cy="5048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6800" y="158400"/>
            <a:ext cx="8381880" cy="816120"/>
          </a:xfrm>
          <a:prstGeom prst="rect">
            <a:avLst/>
          </a:prstGeom>
          <a:gradFill rotWithShape="0">
            <a:gsLst>
              <a:gs pos="0">
                <a:srgbClr val="bbe0e3">
                  <a:alpha val="13333"/>
                </a:srgbClr>
              </a:gs>
              <a:gs pos="100000">
                <a:srgbClr val="ffffff">
                  <a:alpha val="4313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= -0,5x +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=   0,5x -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25920" y="4809960"/>
            <a:ext cx="108000" cy="10800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48240" y="4357800"/>
            <a:ext cx="108000" cy="10800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2513160"/>
            <a:ext cx="120600" cy="1206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00720" y="2071800"/>
            <a:ext cx="107640" cy="1080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00000" y="1089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63640" y="90792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Y= - 0,5x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00000" y="3753000"/>
            <a:ext cx="19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Arial"/>
              </a:rPr>
              <a:t>Y= 0,5x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1305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68360" y="1305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34920" y="173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34920" y="2133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34920" y="4041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3280" y="4041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4437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00000" y="4869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03280" y="173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03280" y="2133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03280" y="4437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40000" y="486900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19360" y="216072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(0;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08560" y="1943280"/>
            <a:ext cx="11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B(2;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08400" y="4373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  <a:ea typeface="Arial"/>
              </a:rPr>
              <a:t>C(0;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86320" y="46846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  <a:ea typeface="Arial"/>
              </a:rPr>
              <a:t>D(2;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115920"/>
            <a:ext cx="179640" cy="765000"/>
          </a:xfrm>
          <a:custGeom>
            <a:avLst/>
            <a:gdLst>
              <a:gd name="textAreaLeft" fmla="*/ 114840 w 179640"/>
              <a:gd name="textAreaRight" fmla="*/ 180000 w 179640"/>
              <a:gd name="textAreaTop" fmla="*/ 19800 h 765000"/>
              <a:gd name="textAreaBottom" fmla="*/ 745200 h 76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73400" y="965160"/>
            <a:ext cx="6172200" cy="30988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666880" y="2933640"/>
            <a:ext cx="5765760" cy="28828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29520" y="3392640"/>
            <a:ext cx="14292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67560" y="26542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(6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5854680"/>
            <a:ext cx="78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твет: система имеет 1 решение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6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Провероч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вариант                   2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32000" y="2637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x+y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x+4y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87280" y="2565360"/>
            <a:ext cx="279720" cy="825480"/>
          </a:xfrm>
          <a:custGeom>
            <a:avLst/>
            <a:gdLst>
              <a:gd name="textAreaLeft" fmla="*/ 178920 w 279720"/>
              <a:gd name="textAreaRight" fmla="*/ 280080 w 279720"/>
              <a:gd name="textAreaTop" fmla="*/ 21240 h 825480"/>
              <a:gd name="textAreaBottom" fmla="*/ 804240 h 82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58920" y="4365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y-x = 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y+x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16000" y="4365720"/>
            <a:ext cx="279360" cy="825480"/>
          </a:xfrm>
          <a:custGeom>
            <a:avLst/>
            <a:gdLst>
              <a:gd name="textAreaLeft" fmla="*/ 178560 w 279360"/>
              <a:gd name="textAreaRight" fmla="*/ 279720 w 279360"/>
              <a:gd name="textAreaTop" fmla="*/ 21240 h 825480"/>
              <a:gd name="textAreaBottom" fmla="*/ 804240 h 82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92720" y="2637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+5y =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x+7y = 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92720" y="429264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x+y = 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5x-y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2708280"/>
            <a:ext cx="279360" cy="825480"/>
          </a:xfrm>
          <a:custGeom>
            <a:avLst/>
            <a:gdLst>
              <a:gd name="textAreaLeft" fmla="*/ 178560 w 279360"/>
              <a:gd name="textAreaRight" fmla="*/ 279720 w 279360"/>
              <a:gd name="textAreaTop" fmla="*/ 21240 h 825480"/>
              <a:gd name="textAreaBottom" fmla="*/ 804240 h 82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76720" y="4437000"/>
            <a:ext cx="279360" cy="825480"/>
          </a:xfrm>
          <a:custGeom>
            <a:avLst/>
            <a:gdLst>
              <a:gd name="textAreaLeft" fmla="*/ 178560 w 279360"/>
              <a:gd name="textAreaRight" fmla="*/ 279720 w 279360"/>
              <a:gd name="textAreaTop" fmla="*/ 21240 h 825480"/>
              <a:gd name="textAreaBottom" fmla="*/ 804240 h 82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1640" y="1628640"/>
            <a:ext cx="0" cy="4464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С-48 стр.50 </a:t>
            </a:r>
            <a:r>
              <a:rPr b="0" lang="en-US" sz="5200" spc="-1" strike="noStrike">
                <a:solidFill>
                  <a:srgbClr val="333399"/>
                </a:solidFill>
                <a:latin typeface="Arial"/>
              </a:rPr>
              <a:t>1.1)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С-45 стр.48 </a:t>
            </a:r>
            <a:r>
              <a:rPr b="0" lang="en-US" sz="5200" spc="-1" strike="noStrike">
                <a:solidFill>
                  <a:srgbClr val="333399"/>
                </a:solidFill>
                <a:latin typeface="Arial"/>
              </a:rPr>
              <a:t>3.1)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250920" y="0"/>
          <a:ext cx="8712000" cy="4530600"/>
        </p:xfrm>
        <a:graphic>
          <a:graphicData uri="http://schemas.openxmlformats.org/drawingml/2006/table">
            <a:tbl>
              <a:tblPr/>
              <a:tblGrid>
                <a:gridCol w="1563480"/>
                <a:gridCol w="1646280"/>
                <a:gridCol w="1644840"/>
                <a:gridCol w="1841400"/>
                <a:gridCol w="201600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онный момент (2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шают цели урок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накомятся с ходом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бщает тему и цель урок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астраивает на активную рабо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ение ранее изученных фа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онт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йды 3 -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ирую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именяют ранее полученные знания по тем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ируе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дает вопросы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рганизует деятельность учеников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зад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онтальна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ндивиду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йд 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ченика работают у доски – остальные в тетрад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ет вопросы по ходу решен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щает внимание на выбор более рационального способа решения одного и того же зад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250920" y="4581360"/>
            <a:ext cx="158436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верка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те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3 м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4581360"/>
            <a:ext cx="165708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дивидуа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4581360"/>
            <a:ext cx="158436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4581360"/>
            <a:ext cx="1871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амостоя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бота с последующ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дачей тетра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48360" y="4581360"/>
            <a:ext cx="201636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бирает тетр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516640"/>
            <a:ext cx="1584360" cy="11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ведение ито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 м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5516640"/>
            <a:ext cx="165708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ронта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5516640"/>
            <a:ext cx="1584360" cy="11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76720" y="5516640"/>
            <a:ext cx="1871640" cy="113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овариваю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или в течен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ысказыв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и впечат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т 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8360" y="5516640"/>
            <a:ext cx="2016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ет вопрос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ходе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что повторил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и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ами решал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.д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ит оценки за ур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ет д/з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WordArt 3" descr=""/>
          <p:cNvPicPr/>
          <p:nvPr/>
        </p:nvPicPr>
        <p:blipFill>
          <a:blip r:embed="rId1"/>
          <a:stretch/>
        </p:blipFill>
        <p:spPr>
          <a:xfrm>
            <a:off x="395280" y="665280"/>
            <a:ext cx="8394840" cy="3051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9280" y="436572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Цель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урока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родолжать формировать умение решать системы линейных уравнений различными способ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651640" y="4437000"/>
            <a:ext cx="151272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ff6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549360"/>
            <a:ext cx="8713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из следующих пар чисел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(0,2)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(3,-2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вляется решением с.л.у.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900000" y="3789360"/>
            <a:ext cx="316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 +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 + у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826920" y="3789360"/>
            <a:ext cx="216000" cy="1079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43700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(3,-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940360" y="5445000"/>
            <a:ext cx="2592360" cy="1152720"/>
          </a:xfrm>
          <a:prstGeom prst="ellipse">
            <a:avLst/>
          </a:prstGeom>
          <a:solidFill>
            <a:srgbClr val="d8c6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24360" y="3716280"/>
            <a:ext cx="259272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51640" y="1916280"/>
            <a:ext cx="2663640" cy="1223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5300640"/>
            <a:ext cx="4608360" cy="1008000"/>
          </a:xfrm>
          <a:prstGeom prst="ellipse">
            <a:avLst/>
          </a:prstGeom>
          <a:solidFill>
            <a:srgbClr val="d8c6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00280"/>
            <a:ext cx="4680000" cy="1441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2276640"/>
            <a:ext cx="360036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Сколько решений может иметь с.л.у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дно реш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Бесконечно м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Не имеет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80000" y="1989000"/>
            <a:ext cx="309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я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овпад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08720" y="378936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ям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551664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ямые параллель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2852640"/>
            <a:ext cx="1942920" cy="1152720"/>
          </a:xfrm>
          <a:prstGeom prst="line">
            <a:avLst/>
          </a:prstGeom>
          <a:ln w="7632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643280" y="2707920"/>
            <a:ext cx="1081080" cy="136836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32360" y="5734080"/>
            <a:ext cx="934920" cy="287280"/>
          </a:xfrm>
          <a:prstGeom prst="line">
            <a:avLst/>
          </a:prstGeom>
          <a:ln w="7632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3924360" y="2852640"/>
            <a:ext cx="792000" cy="43200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2920" y="3645000"/>
            <a:ext cx="360360" cy="431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32360" y="5733720"/>
            <a:ext cx="503280" cy="142920"/>
          </a:xfrm>
          <a:prstGeom prst="line">
            <a:avLst/>
          </a:prstGeom>
          <a:ln w="7632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Определите</a:t>
            </a: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какие из с.л.у. не имеют реш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11280" y="2060640"/>
            <a:ext cx="3097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= 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x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611280" y="2060640"/>
            <a:ext cx="142920" cy="115092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1280" y="4221000"/>
            <a:ext cx="3097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+y = 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-y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611280" y="4292640"/>
            <a:ext cx="142920" cy="115092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211640" y="4076640"/>
            <a:ext cx="142920" cy="115092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4500720" y="4005360"/>
            <a:ext cx="3097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-y = 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x-2y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92720" y="5229360"/>
            <a:ext cx="180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име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5157720"/>
            <a:ext cx="180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е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63640" y="3357720"/>
            <a:ext cx="1800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име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Определите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какие из с.л.у. имеют бесконечно много решени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611280" y="2060640"/>
            <a:ext cx="3097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x+5y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611280" y="2060640"/>
            <a:ext cx="142920" cy="115092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3276720" y="2060640"/>
            <a:ext cx="142920" cy="115092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203640" y="2133720"/>
            <a:ext cx="3097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+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y-2x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6588000" y="2133720"/>
            <a:ext cx="30974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x+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=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6732720" y="2133720"/>
            <a:ext cx="142920" cy="115092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-324000" y="342900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843280" y="383364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119640" y="3357720"/>
            <a:ext cx="3024360" cy="3024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95280" y="3860640"/>
            <a:ext cx="1297080" cy="1800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84720" y="4869000"/>
            <a:ext cx="71280" cy="7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422100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51280" y="530064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203280" y="4076640"/>
            <a:ext cx="1942920" cy="19447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429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4,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35280" y="4653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0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92360" y="5516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-3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96360" y="479736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08720" y="544500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28000" y="393372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164360" y="3644640"/>
            <a:ext cx="1079640" cy="2160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101080" y="4005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88000" y="5373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2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-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96360" y="4292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740720" y="407664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93080" y="530064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028000" y="3429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236000" y="3573000"/>
            <a:ext cx="1008000" cy="201636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306864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2x+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101080" y="3789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2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Rectangle 3"/>
              <p:cNvSpPr txBox="1"/>
              <p:nvPr/>
            </p:nvSpPr>
            <p:spPr>
              <a:xfrm>
                <a:off x="3495600" y="1830240"/>
                <a:ext cx="21510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61887E-006 L -0.00399 -0.0629 E">
                                      <p:cBhvr>
                                        <p:cTn id="207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835280" y="836640"/>
            <a:ext cx="63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ТЕ СИСТЕМУ ЛИНЕЙНЫХ УРАВНЕНИ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1844640"/>
            <a:ext cx="279360" cy="2879640"/>
          </a:xfrm>
          <a:custGeom>
            <a:avLst/>
            <a:gdLst>
              <a:gd name="textAreaLeft" fmla="*/ 178560 w 279360"/>
              <a:gd name="textAreaRight" fmla="*/ 279720 w 279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692360" y="1784520"/>
                <a:ext cx="2950920" cy="28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а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пользуя графический метод решения с.л.у. показат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что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gradFill rotWithShape="0">
            <a:gsLst>
              <a:gs pos="0">
                <a:srgbClr val="bbe0e3">
                  <a:alpha val="13333"/>
                </a:srgbClr>
              </a:gs>
              <a:gs pos="100000">
                <a:srgbClr val="ffffff">
                  <a:alpha val="4313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 -0,5x +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Y=   0,5x -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755640" y="1844640"/>
            <a:ext cx="142920" cy="115092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95640" y="2276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Имеет единственное 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23:25:24Z</dcterms:created>
  <dc:creator>надежда</dc:creator>
  <dc:description/>
  <dc:language>en-US</dc:language>
  <cp:lastModifiedBy>Яша</cp:lastModifiedBy>
  <dcterms:modified xsi:type="dcterms:W3CDTF">2013-05-01T18:03:59Z</dcterms:modified>
  <cp:revision>97</cp:revision>
  <dc:subject/>
  <dc:title>презентация урока</dc:title>
</cp:coreProperties>
</file>