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BD5-419E-45E3-BE4E-17E8CA89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395-7AD8-4DE2-A455-E4D31E4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579-FD29-49E4-B7F3-2656E6A5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ACB-A59D-4005-B1D7-2A2EF2BB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3D9-3693-45BB-90E4-2E7CA28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62E-0A8A-4C88-A12D-F48F7032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20B-D2D3-430E-B14E-BDE7B25D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B24-5CBE-411D-9B4A-C977C8BD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519-C058-4335-A9D5-F5B38E4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45D-AEF6-4691-9D0E-40D3B06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53D-7E39-48F8-BEB6-2613C08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C21-ED28-44FC-B042-9013DEE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2B88-4380-4DF2-8636-11221ABE2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iveinternet.ru/users/4657722/post253907088/" TargetMode="External"/><Relationship Id="rId3" Type="http://schemas.openxmlformats.org/officeDocument/2006/relationships/hyperlink" Target="http://art.mirtesen.ru/" TargetMode="External"/><Relationship Id="rId4" Type="http://schemas.openxmlformats.org/officeDocument/2006/relationships/hyperlink" Target="http://www.proshkolu.ru/user/ermolick09/blog/117283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920" y="2060280"/>
            <a:ext cx="464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  <a:ea typeface="Courier New"/>
              </a:rPr>
              <a:t>Школьная тема в произведениях худож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4076280"/>
            <a:ext cx="46432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Волик Любовь Михайловна, учитель начальных классов МБОУ города Астрахани «Гимназия №2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. А. Трутовский «Сельская учительница» 1883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2" descr="http://rusmudr.ru/wp-content/uploads/2012/09/image73.jpg"/>
          <p:cNvPicPr/>
          <p:nvPr/>
        </p:nvPicPr>
        <p:blipFill>
          <a:blip r:embed="rId3"/>
          <a:stretch/>
        </p:blipFill>
        <p:spPr>
          <a:xfrm>
            <a:off x="2771640" y="1471680"/>
            <a:ext cx="4114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И.Г.Майер. Маленькая школь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2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2841480" y="1600200"/>
            <a:ext cx="3834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Э.Шанкс. Новенькая 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1763640" y="1700280"/>
            <a:ext cx="59994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56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жордж Клаузен «Школьница» 1889 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2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2924280" y="1600200"/>
            <a:ext cx="3735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Только вмест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как же в школьной теме обойтись без родителей! Родители помогают готовить уроки. проверяют выполненные задания. радуются успехам детей и огорчаются их неудачам. Так было всегда, так есть и буд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омощь мам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жордж Клауде "Урок письма" 190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1553917-d401cbd799ba1781.jpg"/>
          <p:cNvPicPr/>
          <p:nvPr/>
        </p:nvPicPr>
        <p:blipFill>
          <a:blip r:embed="rId2"/>
          <a:stretch/>
        </p:blipFill>
        <p:spPr>
          <a:xfrm>
            <a:off x="826920" y="2313000"/>
            <a:ext cx="3024360" cy="4159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инюк И. А. «Проверка уроков» 197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9" descr="1553926-9d78230c53062667.jpg"/>
          <p:cNvPicPr/>
          <p:nvPr/>
        </p:nvPicPr>
        <p:blipFill>
          <a:blip r:embed="rId4"/>
          <a:stretch/>
        </p:blipFill>
        <p:spPr>
          <a:xfrm>
            <a:off x="5164200" y="2328840"/>
            <a:ext cx="3522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Школьные годы чудесны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интересных сюжетов! Школьная тема неисчерпаема! Но самый актуальный школьный мотив на сегодня запечатлён в этой открыт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ундобин Е. Н. "Ещё пятерка!", открытка, 1954 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Picture 7" descr="1553955-39d37061117878b7.jpg"/>
          <p:cNvPicPr/>
          <p:nvPr/>
        </p:nvPicPr>
        <p:blipFill>
          <a:blip r:embed="rId3"/>
          <a:stretch/>
        </p:blipFill>
        <p:spPr>
          <a:xfrm>
            <a:off x="2916360" y="1549440"/>
            <a:ext cx="3552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iveinternet.ru/users/4657722/post25390708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art.mirtese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roshkolu.ru/user/ermolick09/blog/1172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шаблона И.В. Боб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учебники.jpg"/>
          <p:cNvPicPr/>
          <p:nvPr/>
        </p:nvPicPr>
        <p:blipFill>
          <a:blip r:embed="rId5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 школы близка всем. Парты, задачники по арифметике, книги по грамматике и насыщенная программа по литературе. В школе нас выучили читать и писать, помогли набраться мудрости. Столько лет прошло, а практически ничего не изменилос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вайте вспомним, что это такое, когда за окном ясная погода и светит солнце, а перед глазами учебники и тетради с домашней работой, и полюбуемся на произведения русских художников на тему школ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.П. Богданов-Бель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34680"/>
            <a:ext cx="4775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риготовление урок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1920" y="1560600"/>
            <a:ext cx="40417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Ученицы» 190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2" descr="http://rusmudr.ru/wp-content/uploads/2012/09/image13.jpg"/>
          <p:cNvPicPr/>
          <p:nvPr/>
        </p:nvPicPr>
        <p:blipFill>
          <a:blip r:embed="rId3"/>
          <a:stretch/>
        </p:blipFill>
        <p:spPr>
          <a:xfrm>
            <a:off x="1116000" y="2205000"/>
            <a:ext cx="2833560" cy="413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rusmudr.ru/wp-content/uploads/2012/09/image22.jpg"/>
          <p:cNvPicPr/>
          <p:nvPr/>
        </p:nvPicPr>
        <p:blipFill>
          <a:blip r:embed="rId4"/>
          <a:stretch/>
        </p:blipFill>
        <p:spPr>
          <a:xfrm>
            <a:off x="4803840" y="2166840"/>
            <a:ext cx="3036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.П. Решетников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Опять дво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rusmudr.ru/wp-content/uploads/2012/09/image33.jpg"/>
          <p:cNvPicPr/>
          <p:nvPr/>
        </p:nvPicPr>
        <p:blipFill>
          <a:blip r:embed="rId2"/>
          <a:stretch/>
        </p:blipFill>
        <p:spPr>
          <a:xfrm>
            <a:off x="681120" y="2174760"/>
            <a:ext cx="3592440" cy="3951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реэкзаменов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учебники.jpg"/>
          <p:cNvPicPr/>
          <p:nvPr/>
        </p:nvPicPr>
        <p:blipFill>
          <a:blip r:embed="rId4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http://rusmudr.ru/wp-content/uploads/2012/09/image42.jpg"/>
          <p:cNvPicPr/>
          <p:nvPr/>
        </p:nvPicPr>
        <p:blipFill>
          <a:blip r:embed="rId5"/>
          <a:stretch/>
        </p:blipFill>
        <p:spPr>
          <a:xfrm>
            <a:off x="4687920" y="2174760"/>
            <a:ext cx="31258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15840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.П.Богданов-Бельский. За книж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2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1619280" y="1455840"/>
            <a:ext cx="6307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.П.Богданов-Бельский. У дверей шко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http://mtdata.ru/u16/photo5A1B/20225697381-0/big.jpeg"/>
          <p:cNvPicPr/>
          <p:nvPr/>
        </p:nvPicPr>
        <p:blipFill>
          <a:blip r:embed="rId2"/>
          <a:stretch/>
        </p:blipFill>
        <p:spPr>
          <a:xfrm>
            <a:off x="611280" y="1600200"/>
            <a:ext cx="2665440" cy="4816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708000" y="1599840"/>
            <a:ext cx="497844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мотря на разнообразие и характер заказов, персон, которых писал Богданов-Бельский, художник в своем творчестве отдавал всю свою любовь и сердце детям. «Я так много лет провел в деревне, — говорил художник, — так близок был к сельской школе, так часто наблюдал крестьянских детей, так полюбил их за непосредственность, даровитость, что они сделались героями моих карти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.М. Кустодиев «Земская школа в московской Руси» 190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2" descr="http://rusmudr.ru/wp-content/uploads/2012/09/image53.jpg"/>
          <p:cNvPicPr/>
          <p:nvPr/>
        </p:nvPicPr>
        <p:blipFill>
          <a:blip r:embed="rId3"/>
          <a:stretch/>
        </p:blipFill>
        <p:spPr>
          <a:xfrm>
            <a:off x="971640" y="1542960"/>
            <a:ext cx="6924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А.И. Морозов «Сельская бесплатная школа» 1865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2" descr="http://rusmudr.ru/wp-content/uploads/2012/09/image63.jpg"/>
          <p:cNvPicPr/>
          <p:nvPr/>
        </p:nvPicPr>
        <p:blipFill>
          <a:blip r:embed="rId3"/>
          <a:stretch/>
        </p:blipFill>
        <p:spPr>
          <a:xfrm>
            <a:off x="928800" y="1600200"/>
            <a:ext cx="74642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Волик</dc:creator>
  <dc:description/>
  <dc:language>en-US</dc:language>
  <cp:lastModifiedBy>Любовь Волик</cp:lastModifiedBy>
  <dcterms:modified xsi:type="dcterms:W3CDTF">2013-05-05T19:30:54Z</dcterms:modified>
  <cp:revision>82</cp:revision>
  <dc:subject/>
  <dc:title>Слайд 1</dc:title>
</cp:coreProperties>
</file>