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3F9-8166-455C-87EB-7228E8D5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4F2-8999-4331-9447-57D8D209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E78-6736-4795-B2FA-0D3DBE83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5B4-A895-4D18-A6E6-DF3568E9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A2C-25D9-4CFB-B5CD-FC3BE058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E54-2DE5-4B1F-9B0D-51155A52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2309-4959-4E6C-A8BF-8597F941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4A7-E499-48C3-A901-5A53285F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EAC-98D7-4A0C-824B-B0379250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2DD-BBC5-4817-83BE-76A5679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E72-29D4-43F8-B2C6-4DDF8EFA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800-8BC9-46D1-8AF1-E8826146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07CD-C331-47B9-AABE-6B5DBAEA9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iveinternet.ru/users/4657722/post253907088/" TargetMode="External"/><Relationship Id="rId3" Type="http://schemas.openxmlformats.org/officeDocument/2006/relationships/hyperlink" Target="http://art.mirtesen.ru/" TargetMode="External"/><Relationship Id="rId4" Type="http://schemas.openxmlformats.org/officeDocument/2006/relationships/hyperlink" Target="http://www.proshkolu.ru/user/ermolick09/blog/117283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28920" y="2060280"/>
            <a:ext cx="464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  <a:ea typeface="Courier New"/>
              </a:rPr>
              <a:t>Школьная тема в произведениях худож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28920" y="4076280"/>
            <a:ext cx="464328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1c11"/>
                </a:solidFill>
                <a:latin typeface="Calibri"/>
              </a:rPr>
              <a:t>Волик Любовь Михайловна, учитель начальных классов МБОУ города Астрахани «Гимназия №2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. А. Трутовский «Сельская учительница» 1883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7" name="Picture 2" descr="http://rusmudr.ru/wp-content/uploads/2012/09/image73.jpg"/>
          <p:cNvPicPr/>
          <p:nvPr/>
        </p:nvPicPr>
        <p:blipFill>
          <a:blip r:embed="rId3"/>
          <a:stretch/>
        </p:blipFill>
        <p:spPr>
          <a:xfrm>
            <a:off x="2771640" y="1471680"/>
            <a:ext cx="4114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И.Г.Майер. Маленькая школь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2" descr="&amp;KHcy;&amp;Ucy;&amp;Dcy;&amp;Ocy;&amp;ZHcy;&amp;Ncy;&amp;Icy;&amp;Kcy;&amp;Icy; &amp;ocy; &amp;shcy;&amp;kcy;&amp;ocy;&amp;lcy;&amp;iecy;"/>
          <p:cNvPicPr/>
          <p:nvPr/>
        </p:nvPicPr>
        <p:blipFill>
          <a:blip r:embed="rId3"/>
          <a:stretch/>
        </p:blipFill>
        <p:spPr>
          <a:xfrm>
            <a:off x="2841480" y="1600200"/>
            <a:ext cx="38340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Э.Шанкс. Новенькая в школ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4" descr="&amp;KHcy;&amp;Ucy;&amp;Dcy;&amp;Ocy;&amp;ZHcy;&amp;Ncy;&amp;Icy;&amp;Kcy;&amp;Icy; &amp;ocy; &amp;shcy;&amp;kcy;&amp;ocy;&amp;lcy;&amp;iecy;"/>
          <p:cNvPicPr/>
          <p:nvPr/>
        </p:nvPicPr>
        <p:blipFill>
          <a:blip r:embed="rId3"/>
          <a:stretch/>
        </p:blipFill>
        <p:spPr>
          <a:xfrm>
            <a:off x="1763640" y="1700280"/>
            <a:ext cx="59994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569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жордж Клаузен «Школьница» 1889 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2" descr="&amp;KHcy;&amp;Ucy;&amp;Dcy;&amp;Ocy;&amp;ZHcy;&amp;Ncy;&amp;Icy;&amp;Kcy;&amp;Icy; &amp;ocy; &amp;shcy;&amp;kcy;&amp;ocy;&amp;lcy;&amp;iecy;"/>
          <p:cNvPicPr/>
          <p:nvPr/>
        </p:nvPicPr>
        <p:blipFill>
          <a:blip r:embed="rId3"/>
          <a:stretch/>
        </p:blipFill>
        <p:spPr>
          <a:xfrm>
            <a:off x="2924280" y="1600200"/>
            <a:ext cx="3735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Только вместе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 как же в школьной теме обойтись без родителей! Родители помогают готовить уроки. проверяют выполненные задания. радуются успехам детей и огорчаются их неудачам. Так было всегда, так есть и будет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омощь мам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жордж Клауде "Урок письма" 190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1553917-d401cbd799ba1781.jpg"/>
          <p:cNvPicPr/>
          <p:nvPr/>
        </p:nvPicPr>
        <p:blipFill>
          <a:blip r:embed="rId2"/>
          <a:stretch/>
        </p:blipFill>
        <p:spPr>
          <a:xfrm>
            <a:off x="826920" y="2313000"/>
            <a:ext cx="3024360" cy="4159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инюк И. А. «Проверка уроков» 1979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учебники.jpg"/>
          <p:cNvPicPr/>
          <p:nvPr/>
        </p:nvPicPr>
        <p:blipFill>
          <a:blip r:embed="rId3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Picture 9" descr="1553926-9d78230c53062667.jpg"/>
          <p:cNvPicPr/>
          <p:nvPr/>
        </p:nvPicPr>
        <p:blipFill>
          <a:blip r:embed="rId4"/>
          <a:stretch/>
        </p:blipFill>
        <p:spPr>
          <a:xfrm>
            <a:off x="5164200" y="2328840"/>
            <a:ext cx="35226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Школьные годы чудесные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олько интересных сюжетов! Школьная тема неисчерпаема! Но самый актуальный школьный мотив на сегодня запечатлён в этой открытк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ундобин Е. Н. "Ещё пятерка!", открытка, 1954 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8" name="Picture 7" descr="1553955-39d37061117878b7.jpg"/>
          <p:cNvPicPr/>
          <p:nvPr/>
        </p:nvPicPr>
        <p:blipFill>
          <a:blip r:embed="rId3"/>
          <a:stretch/>
        </p:blipFill>
        <p:spPr>
          <a:xfrm>
            <a:off x="2916360" y="1549440"/>
            <a:ext cx="355284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iveinternet.ru/users/4657722/post253907088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art.mirtesen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proshkolu.ru/user/ermolick09/blog/1172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шаблона И.В. Боб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учебники.jpg"/>
          <p:cNvPicPr/>
          <p:nvPr/>
        </p:nvPicPr>
        <p:blipFill>
          <a:blip r:embed="rId5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О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а школы близка всем. Парты, задачники по арифметике, книги по грамматике и насыщенная программа по литературе. В школе нас выучили читать и писать, помогли набраться мудрости. Столько лет прошло, а практически ничего не изменилос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учебники.jpg"/>
          <p:cNvPicPr/>
          <p:nvPr/>
        </p:nvPicPr>
        <p:blipFill>
          <a:blip r:embed="rId3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О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вайте вспомним, что это такое, когда за окном ясная погода и светит солнце, а перед глазами учебники и тетради с домашней работой, и полюбуемся на произведения русских художников на тему школ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.П. Богданов-Бель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34680"/>
            <a:ext cx="47750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Приготовление урок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1920" y="1560600"/>
            <a:ext cx="404172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Ученицы» 1901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" name="Picture 2" descr="http://rusmudr.ru/wp-content/uploads/2012/09/image13.jpg"/>
          <p:cNvPicPr/>
          <p:nvPr/>
        </p:nvPicPr>
        <p:blipFill>
          <a:blip r:embed="rId3"/>
          <a:stretch/>
        </p:blipFill>
        <p:spPr>
          <a:xfrm>
            <a:off x="1116000" y="2205000"/>
            <a:ext cx="2833560" cy="413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rusmudr.ru/wp-content/uploads/2012/09/image22.jpg"/>
          <p:cNvPicPr/>
          <p:nvPr/>
        </p:nvPicPr>
        <p:blipFill>
          <a:blip r:embed="rId4"/>
          <a:stretch/>
        </p:blipFill>
        <p:spPr>
          <a:xfrm>
            <a:off x="4803840" y="2166840"/>
            <a:ext cx="3036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.П. Решетников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Опять двой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rusmudr.ru/wp-content/uploads/2012/09/image33.jpg"/>
          <p:cNvPicPr/>
          <p:nvPr/>
        </p:nvPicPr>
        <p:blipFill>
          <a:blip r:embed="rId2"/>
          <a:stretch/>
        </p:blipFill>
        <p:spPr>
          <a:xfrm>
            <a:off x="681120" y="2174760"/>
            <a:ext cx="3592440" cy="3951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Переэкзаменов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3" descr="учебники.jpg"/>
          <p:cNvPicPr/>
          <p:nvPr/>
        </p:nvPicPr>
        <p:blipFill>
          <a:blip r:embed="rId4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4" descr="http://rusmudr.ru/wp-content/uploads/2012/09/image42.jpg"/>
          <p:cNvPicPr/>
          <p:nvPr/>
        </p:nvPicPr>
        <p:blipFill>
          <a:blip r:embed="rId5"/>
          <a:stretch/>
        </p:blipFill>
        <p:spPr>
          <a:xfrm>
            <a:off x="4687920" y="2174760"/>
            <a:ext cx="312588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15840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Н.П.Богданов-Бельский. За книжк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2" descr="&amp;KHcy;&amp;Ucy;&amp;Dcy;&amp;Ocy;&amp;ZHcy;&amp;Ncy;&amp;Icy;&amp;Kcy;&amp;Icy; &amp;ocy; &amp;shcy;&amp;kcy;&amp;ocy;&amp;lcy;&amp;iecy;"/>
          <p:cNvPicPr/>
          <p:nvPr/>
        </p:nvPicPr>
        <p:blipFill>
          <a:blip r:embed="rId3"/>
          <a:stretch/>
        </p:blipFill>
        <p:spPr>
          <a:xfrm>
            <a:off x="1619280" y="1455840"/>
            <a:ext cx="6307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Н.П.Богданов-Бельский. У дверей школ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http://mtdata.ru/u16/photo5A1B/20225697381-0/big.jpeg"/>
          <p:cNvPicPr/>
          <p:nvPr/>
        </p:nvPicPr>
        <p:blipFill>
          <a:blip r:embed="rId2"/>
          <a:stretch/>
        </p:blipFill>
        <p:spPr>
          <a:xfrm>
            <a:off x="611280" y="1600200"/>
            <a:ext cx="2665440" cy="4816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708000" y="1599840"/>
            <a:ext cx="497844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мотря на разнообразие и характер заказов, персон, которых писал Богданов-Бельский, художник в своем творчестве отдавал всю свою любовь и сердце детям. «Я так много лет провел в деревне, — говорил художник, — так близок был к сельской школе, так часто наблюдал крестьянских детей, так полюбил их за непосредственность, даровитость, что они сделались героями моих картин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учебники.jpg"/>
          <p:cNvPicPr/>
          <p:nvPr/>
        </p:nvPicPr>
        <p:blipFill>
          <a:blip r:embed="rId3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.М. Кустодиев «Земская школа в московской Руси» 190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Picture 2" descr="http://rusmudr.ru/wp-content/uploads/2012/09/image53.jpg"/>
          <p:cNvPicPr/>
          <p:nvPr/>
        </p:nvPicPr>
        <p:blipFill>
          <a:blip r:embed="rId3"/>
          <a:stretch/>
        </p:blipFill>
        <p:spPr>
          <a:xfrm>
            <a:off x="971640" y="1542960"/>
            <a:ext cx="69246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свиток 5.png"/>
          <p:cNvPicPr/>
          <p:nvPr/>
        </p:nvPicPr>
        <p:blipFill>
          <a:blip r:embed="rId1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А.И. Морозов «Сельская бесплатная школа» 1865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учебники.jpg"/>
          <p:cNvPicPr/>
          <p:nvPr/>
        </p:nvPicPr>
        <p:blipFill>
          <a:blip r:embed="rId2"/>
          <a:stretch/>
        </p:blipFill>
        <p:spPr>
          <a:xfrm>
            <a:off x="7643880" y="557208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Picture 2" descr="http://rusmudr.ru/wp-content/uploads/2012/09/image63.jpg"/>
          <p:cNvPicPr/>
          <p:nvPr/>
        </p:nvPicPr>
        <p:blipFill>
          <a:blip r:embed="rId3"/>
          <a:stretch/>
        </p:blipFill>
        <p:spPr>
          <a:xfrm>
            <a:off x="928800" y="1600200"/>
            <a:ext cx="74642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овь Волик</dc:creator>
  <dc:description/>
  <dc:language>en-US</dc:language>
  <cp:lastModifiedBy>Любовь Волик</cp:lastModifiedBy>
  <dcterms:modified xsi:type="dcterms:W3CDTF">2013-05-05T19:30:54Z</dcterms:modified>
  <cp:revision>82</cp:revision>
  <dc:subject/>
  <dc:title>Слайд 1</dc:title>
</cp:coreProperties>
</file>