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748-C1EE-488C-9C33-367E5384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282-1533-418E-9D63-0C7B4C5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DB1-25F4-4826-8248-DAE64523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F13-8D14-461A-ACA4-148D75B4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8CF6-5BD4-41DE-A421-3461C7DB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48D8-23EA-45A9-BEDE-8126AE6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CAA7-141B-4B93-8DA9-C5B3D0C9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256-527F-4BEC-B97A-5FFBA60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7BDD-4086-4904-A2CC-930236AC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F34D-C0A7-4D33-BE8F-AC39BF62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EC09-CB8C-4813-93D1-C67AD4C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4D1-670D-44A9-B301-EDA098AA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27FB-410C-46EB-A716-8522F3AE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4D17-2B5D-431B-B544-DCEC8BF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96A0-7AB8-4BEE-AE62-78C8CA0F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F388-0AB2-4AE7-B263-9AEFEDB5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FC89-8B46-4C2E-90D6-84BF483F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9A3-28FE-4F23-9775-09E33034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034-F5B9-4E0D-B5C8-A85AE4B8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529-AAA2-4257-8C55-7D26DC5F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220-F0C9-4736-98EE-40869471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333-3C54-433A-82A4-952CFA57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750-AC51-4A14-A5FF-FF1DBF7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D1E-A99A-4EE3-AB43-F1F907B6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B32C-8B79-4D72-8AD6-3D868425A3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8BB2-E7C8-4322-8A4D-00C7B918C5CF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335_big"/>
          <p:cNvPicPr/>
          <p:nvPr/>
        </p:nvPicPr>
        <p:blipFill>
          <a:blip r:embed="rId1"/>
          <a:stretch/>
        </p:blipFill>
        <p:spPr>
          <a:xfrm>
            <a:off x="1547640" y="0"/>
            <a:ext cx="633744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Victory 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7636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1265042186_xd5a7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photo_b_136__IMG_73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Monotype Corsiva"/>
              </a:rPr>
              <a:t>The war veter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000097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ictor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was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won at a hi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h price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victory_day_parade_2005-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Moscow there is the parade. Hundreds veterans from different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cities and towns of our country came to Moscow to celebrate Victory Day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1271599068_dp-48"/>
          <p:cNvPicPr/>
          <p:nvPr/>
        </p:nvPicPr>
        <p:blipFill>
          <a:blip r:embed="rId1"/>
          <a:stretch/>
        </p:blipFill>
        <p:spPr>
          <a:xfrm>
            <a:off x="0" y="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640" y="53956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t 10 o’clock in the evening there is the holiday solute in Moscow 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1:40:56Z</dcterms:created>
  <dc:creator>1</dc:creator>
  <dc:description/>
  <dc:language>en-US</dc:language>
  <cp:lastModifiedBy>1</cp:lastModifiedBy>
  <dcterms:modified xsi:type="dcterms:W3CDTF">2013-05-05T06:46:30Z</dcterms:modified>
  <cp:revision>8</cp:revision>
  <dc:subject/>
  <dc:title>Victory Day</dc:title>
</cp:coreProperties>
</file>