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7A8-D6AA-4C41-A11E-0ECE6A1A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973-5ED2-4045-92F6-999105D6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9C9-0F65-4B8A-BFD8-39E4B898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C9B0-36E5-4951-AED8-C55DB35B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B10E-F655-48F4-91F4-B83511F0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DDE-7349-46A7-BB4E-12918A78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D997-C705-48B9-9EC5-483C377E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E4C-8B65-4FEF-8DB3-D446A59E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F1EC-B662-4229-9721-620AC9B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12E-3768-46C6-B81B-73DAA10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2FE4-7E7E-4AEB-8F87-72657D2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A6D-7CCC-4C16-8FA6-ABF1E263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162C-97D8-4A30-9363-86A14FC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7279-8275-46B3-A465-11DC6B8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4841-E81E-4945-A6F4-8D3113F4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3678-3DC2-4FAD-84CB-52C86DDB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073C-7906-43EF-B697-08DAE087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2CD-F232-4241-86F8-B3D86046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B73-1BAF-476B-98D7-0B262070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64D-DB6C-4212-9F64-4DE6CAD0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A2E-3346-4CC6-859A-EF9983E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86D-B0A7-4C67-8273-DA46283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E27-EE9D-4EF2-9FE1-34573848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BB8-429C-47FE-A32C-333E3177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3093-BE5C-430C-AE25-C260A37A1B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E84F-52D9-48EC-8F5B-B2EB6BBA7C91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335_big"/>
          <p:cNvPicPr/>
          <p:nvPr/>
        </p:nvPicPr>
        <p:blipFill>
          <a:blip r:embed="rId1"/>
          <a:stretch/>
        </p:blipFill>
        <p:spPr>
          <a:xfrm>
            <a:off x="1547640" y="0"/>
            <a:ext cx="633744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Victory Da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7636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1265042186_xd5a7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photo_b_136__IMG_7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ru-RU" sz="2800" spc="-1" strike="noStrike">
                <a:solidFill>
                  <a:srgbClr val="ff33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3300"/>
                </a:solidFill>
                <a:latin typeface="Monotype Corsiva"/>
              </a:rPr>
              <a:t>The war veter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00009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e V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ictor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was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won at a hig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h price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victory_day_parade_2005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Moscow there is the parade. Hundreds veterans from different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cities and towns of our country came to Moscow to celebrate Victory Day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1271599068_dp-48"/>
          <p:cNvPicPr/>
          <p:nvPr/>
        </p:nvPicPr>
        <p:blipFill>
          <a:blip r:embed="rId1"/>
          <a:stretch/>
        </p:blipFill>
        <p:spPr>
          <a:xfrm>
            <a:off x="0" y="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53956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At 10 o’clock in the evening there is the holiday solute in Moscow 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11:40:56Z</dcterms:created>
  <dc:creator>1</dc:creator>
  <dc:description/>
  <dc:language>en-US</dc:language>
  <cp:lastModifiedBy>1</cp:lastModifiedBy>
  <dcterms:modified xsi:type="dcterms:W3CDTF">2013-05-05T06:46:30Z</dcterms:modified>
  <cp:revision>8</cp:revision>
  <dc:subject/>
  <dc:title>Victory Day</dc:title>
</cp:coreProperties>
</file>